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B329142-9A5D-49F8-8BFC-652543535F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pitel IV. Matri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09896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rizen als eigenständige mathematische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mmenhang zwischen Matrizen und linearen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 von Matri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vers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wech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8 Der Vektorraum der Matr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folgenden ist K stets ein Körper und V, W, ... sind Vektorräume über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79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8.1) Notation: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 im folgenden den durch n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immten Abschnitt der natürlichen Zahlen, also die M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3942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„fett n“ wird dabei auch normal geschrieben. Al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03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zen lassen sich einführen als Hilfsmittel zur Beschreibung von linearen Abbildungen und auch als solche untersuchen (vgl. § 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73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ollen Matrizen zunächst als eigenständige mathematische Objekte verst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01720" y="6105600"/>
                <a:ext cx="54165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ν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m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ν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3778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, wie an vielen Stellen in Mathematik und Physik, sind dazu die Indizes und Doppelind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08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{1, 2, ... , 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1, 2, ... , n} 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65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solche Matrix A ist also durch die W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575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lständig bestimm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48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Regel in einem „Rechteckschema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1446120"/>
            <a:ext cx="7924680" cy="703800"/>
            <a:chOff x="685800" y="1446120"/>
            <a:chExt cx="7924680" cy="703800"/>
          </a:xfrm>
        </p:grpSpPr>
        <p:sp>
          <p:nvSpPr>
            <p:cNvPr id="61" name=""/>
            <p:cNvSpPr/>
            <p:nvPr/>
          </p:nvSpPr>
          <p:spPr>
            <a:xfrm>
              <a:off x="685800" y="14461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8.2) Definition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ine (m,n)-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A (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mit Koeffizienten aus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K) ist eine Abbildung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43040" y="1855800"/>
                  <a:ext cx="15084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: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  <m:r>
                        <m:t xml:space="preserve">→</m:t>
                      </m:r>
                      <m:r>
                        <m:t xml:space="preserve">K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405160" y="3932280"/>
                <a:ext cx="43131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n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,n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85800" y="547056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diese Notation werden wir uns halten. (Eine Vertauschung von n und m wäre auch denkbar, eine Aneinanderreihung der Werte in einer Zeile oder in einer Spalte wäre ebenfalls korrekt, - aber unüblich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232080" y="2286000"/>
                <a:ext cx="2697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85800" y="2879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iese Werte – und damit die Matrix A – können auf verschiedene Wiese noti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chreibweise der Koeffizienten A(i,j) ist beliebig. Ziemlich verbreitet ist es, die A(i,j) mit kleinem Buchstaben und tiefgestellten Indizes zu schreiben, zumindestens in der Mathemati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3623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 statt A(i,j) :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374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 nach Anwendung sind aber auch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i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oder  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gebräuchl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dition: Für A und B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65520" y="3733920"/>
                <a:ext cx="3614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ür 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,j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z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für A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622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kalarmultiplikation: Für A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t aus K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ysikernotation in Falle von Koordinaten eines Konfigurationsraumes) in Abweichung von Kap. I - I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191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8.3) Bemerk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enge aller (m,n)-Matrizen ist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; sie besitzt daher in natürlicher Weise die Struktur eines K-Vektorrau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33680" y="5181480"/>
                <a:ext cx="2098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76520" y="6019920"/>
                <a:ext cx="1490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57200" y="30481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03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 (sukzessives Durchzählen der Reihen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1446120"/>
            <a:ext cx="7924680" cy="703800"/>
            <a:chOff x="685800" y="1446120"/>
            <a:chExt cx="7924680" cy="703800"/>
          </a:xfrm>
        </p:grpSpPr>
        <p:sp>
          <p:nvSpPr>
            <p:cNvPr id="82" name=""/>
            <p:cNvSpPr/>
            <p:nvPr/>
          </p:nvSpPr>
          <p:spPr>
            <a:xfrm>
              <a:off x="685800" y="14461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18.4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natürliche Zahlen                                             genau mn Element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029200" y="1523880"/>
                  <a:ext cx="28926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und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hat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95840" y="2556000"/>
                <a:ext cx="15382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8.5) Folgerung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Vektorraum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(m,n)-Matrizen hat die Dimension mn . Er ist isomorph zu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auch zu (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(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098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tandardbasis von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 {E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i aus m und j aus n} , 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440" y="4238640"/>
                <a:ext cx="1539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ν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45720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die folgende Matrix: In der Zeile i lauter Nullen außer einer 1 in Position j (Spalte j); ansonsten nur Nul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165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s ausgedrückt: Alle Spalten sind 0 außer der j-ten Spalte. Diese ist der i-te Standardeinheitsvektor von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5800" y="2117880"/>
            <a:ext cx="7924680" cy="398880"/>
            <a:chOff x="685800" y="2117880"/>
            <a:chExt cx="7924680" cy="398880"/>
          </a:xfrm>
        </p:grpSpPr>
        <p:sp>
          <p:nvSpPr>
            <p:cNvPr id="91" name=""/>
            <p:cNvSpPr/>
            <p:nvPr/>
          </p:nvSpPr>
          <p:spPr>
            <a:xfrm>
              <a:off x="685800" y="2117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urch f(i,j) := (j - 1)n + i ,                   , wird eine Bijek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657600" y="2197080"/>
                  <a:ext cx="11653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" name=""/>
          <p:cNvSpPr/>
          <p:nvPr/>
        </p:nvSpPr>
        <p:spPr>
          <a:xfrm>
            <a:off x="685800" y="5775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gilt für A aus K</a:t>
            </a:r>
            <a:r>
              <a:rPr b="1" lang="de-DE" sz="2000" spc="-1" strike="noStrike" baseline="40000">
                <a:solidFill>
                  <a:srgbClr val="000000"/>
                </a:solidFill>
                <a:latin typeface="Arial"/>
              </a:rPr>
              <a:t>m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316320" y="5830920"/>
                <a:ext cx="2519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ν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  <m:sup>
                                <m:r>
                                  <m:t xml:space="preserve">μ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  <m:sup>
                                <m:r>
                                  <m:t xml:space="preserve">ν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2-17T11:19:15Z</dcterms:modified>
  <cp:revision>75</cp:revision>
  <dc:subject/>
  <dc:title>PowerPoint-Präsentation</dc:title>
</cp:coreProperties>
</file>