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35F2A042-FF5D-4037-9C80-F922AAA3DC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30 Erste Anwe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572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.2) Rangberechnu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r Rangberechnung wird man häufig die elementaren Umformungen verwen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526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30.1) Cramersche Regel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invertierbare (n,n)-Matrizen A ist die Lösung des linearen Gleichungssystems   Ax = b  gegeben dur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519280" y="3429000"/>
                <a:ext cx="4202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685800" y="48769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egentlich ist es günstiger, die Unterdeterminanten zu betracht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47056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-reihi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Unterdeterminan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r (m,n)-Matrix  A  ist  jede Determinante det(B), bei der B eine (r,r)-Matrix ist, die aus A durch Streichen von m-r Zeilen und n-r Spalten entste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0226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gl. §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0120" y="41353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4.02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8195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30.4) Invertierbarkei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(n.n)-Matrix A ist invertierbar, genau dann wenn det A ungleich 0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.3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(m,n)-Matrix A sind äquival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4894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sprechend hat eine lineare Abbildung f von K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ch K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au dann eine Umkehrabbildung, wenn die Matrix von f  nichtver-schwindende Determinante h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495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r Analysis analog: Sind U und V offene Mengen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ist f eine stetig differenzierbare Abbildung von U nach V , so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g A = r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0415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gibt einen r-reihige Unterdeterminante von A ungleich 0 , und jede r+1-reihige Unterdeterminante von A ist 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50896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 die Funktionalmatrix (Jacobi-Matrix) nichtverschwindende Determinante in einem Punkt  x  aus  U , so hat f bei  x  eine lokale Umkehrabbild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.5) Zweidimensionale (affine) Geometr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752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Punkte P,Q aus K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egt X genau dann auf der Geraden durch P und Q, we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81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e drei nicht auf einer Geraden liegenden Punkte P,Q und R aus K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egen auf einer eindeutig bestimmten Kreislinie, und zwar au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567240" y="2468520"/>
                <a:ext cx="21063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</m:e>
                            <m:e>
                              <m:r>
                                <m:t xml:space="preserve">Q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703600" y="3940200"/>
                <a:ext cx="386532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Q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Q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Q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Q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85800" y="5410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.6) Kreuzproduk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730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Vektoren X,Y aus K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 das Kreuzprodukt von X und Y definiert durch die Form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9275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raus folgt: Für eine (3,3)-Matrix A mit den Spaltenvektoren X, Y und Z gil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038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.7) Eigenwe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343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n wichtigsten Problemen in Theorie und Anwendungen gehört die Bestimmung von Eigenwer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3840" y="1446120"/>
                <a:ext cx="2454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sSub>
                      <m:e>
                        <m:r>
                          <m:t xml:space="preserve">ε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</m:e>
                          <m:sup>
                            <m:r>
                              <m:t xml:space="preserve">γ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85800" y="18288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427560" y="2184480"/>
                <a:ext cx="2305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sSub>
                      <m:e>
                        <m:r>
                          <m:t xml:space="preserve">ε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</m:e>
                          <m:sup>
                            <m:r>
                              <m:t xml:space="preserve">ν</m:t>
                            </m:r>
                          </m:sup>
                        </m:sSup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685800" y="26067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 diese Komponenten sind drei Determinant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305160" y="3693960"/>
                <a:ext cx="2552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×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85800" y="50133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30.8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 Eigenwert einer (n,n)-Matrix A ist ein Elemen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λ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K, zu dem es einen Vektor  x  aus  K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\{0}  gibt mit  Ax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λx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5699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30.9) Satz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genau dann Eigenwert von A , we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Nullstelle des Polynoms  det(A 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) 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82880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einen Endomorphismus  f  aus  End(V) = Hom(V,V)  eines endlichdimensionalen K-Vektorraums V wird durch Festlegung einer geordneten Basis b die zu f gehörige Matrix A = A(b) definier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30.10) Determinante von Endomorphism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8098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e Transformationsmatrix T gilt: A(c) = TA(b)T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al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(A(c)) = det(T)det(A(b))det(T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= det(A(b))det(TT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= det(A(b)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041720" y="3429000"/>
                <a:ext cx="10778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685800" y="4648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.10) Orientieru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sei jetzt der Körper der reellen Zahlen: K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und V sei endlichdimens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743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weitere Basis c liefert die zu f gehörige Matrix A = A(c) dieselbe Determinante! Denn für die durch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2419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wei geordnete Basen b und c von V heiß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eichorienti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enn die Transformationsmatrix T zwischen ihnen eine positive Determinante h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14479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6.02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446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aupt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ie Menge der geordneten Basen zerfällt in zwei Äquivalenzklass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 Äquivalenzklassen sind definitionsgemäß die beid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ientierun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V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622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.11) Defin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ientier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eller Vektorraum ist ein Vektorraum üb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 einer Orientieru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635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b eine geordnete Basis von V. b setzt eine Orientierung von V fe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6259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Menge aller zu b gleichorientierten Basen, also die durch b gegebene Äquivalenzklasse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387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(A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A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A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: A aus G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n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76892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bei ist  G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n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:= {A aus GL(n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: det(A) &gt; 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260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Resultate über die Parametrisierung von Basen zei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510552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merkung: G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t eine Grupp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4479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30.12) Sat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Sei V ein orientierter, endlichdimensionaler reeller Vektorraum mit einem euklidischen Skalarproduk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0415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Menge der Matrizen, welche die Orientierung und das Skalarprodukt erhalten, ist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pezielle orthogonale 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803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(n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:= {A aus O(n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: det(A) = 1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1845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tergrund: Für Matrizen A aus O(n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 gilt stets detA = 1 oder detA = -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2-06T17:12:36Z</dcterms:modified>
  <cp:revision>91</cp:revision>
  <dc:subject/>
  <dc:title>PowerPoint-Präsentation</dc:title>
</cp:coreProperties>
</file>