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82A23E03-FC82-438F-A41A-3801BF6CD5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4495680"/>
            <a:ext cx="74678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 29 Determinanten: Eigenschaften und Berechnu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9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Determinantenfunk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 K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nx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eine Abbildung (im Falle char(K) ungleich Zwe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276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züglich der Spalten der (n.n)-Matrizen n-linear und alternierend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946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gilt nach 28.5 für jede Determinantenfun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882960" y="2987640"/>
                <a:ext cx="14637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xn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635120" y="4646520"/>
                <a:ext cx="5908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r>
                          <m:t xml:space="preserve">(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85800" y="5715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9.2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Determinantenfunktio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Δ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Δ(E) = 1 heißt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an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und wird mit  det  be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79400" y="5351400"/>
                <a:ext cx="5761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obei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in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eliebig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ons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te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∈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1892160"/>
            <a:ext cx="74678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446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echnung mit dieser Definition? Es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3505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3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(n,n)-Matrizen A und B gilt st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860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t(A) = det(A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165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t(AB) = det(A)det(B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14520" y="2052720"/>
                <a:ext cx="6181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r>
                          <m:t xml:space="preserve">(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685800" y="4775040"/>
            <a:ext cx="7924680" cy="406440"/>
            <a:chOff x="685800" y="4775040"/>
            <a:chExt cx="7924680" cy="406440"/>
          </a:xfrm>
        </p:grpSpPr>
        <p:sp>
          <p:nvSpPr>
            <p:cNvPr id="61" name=""/>
            <p:cNvSpPr/>
            <p:nvPr/>
          </p:nvSpPr>
          <p:spPr>
            <a:xfrm>
              <a:off x="685800" y="477504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Und speziell                      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3581280" y="4836960"/>
                  <a:ext cx="35229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gn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de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" name=""/>
          <p:cNvGrpSpPr/>
          <p:nvPr/>
        </p:nvGrpSpPr>
        <p:grpSpPr>
          <a:xfrm>
            <a:off x="685800" y="4483080"/>
            <a:ext cx="7924680" cy="398880"/>
            <a:chOff x="685800" y="4483080"/>
            <a:chExt cx="7924680" cy="398880"/>
          </a:xfrm>
        </p:grpSpPr>
        <p:sp>
          <p:nvSpPr>
            <p:cNvPr id="64" name=""/>
            <p:cNvSpPr/>
            <p:nvPr/>
          </p:nvSpPr>
          <p:spPr>
            <a:xfrm>
              <a:off x="685800" y="448308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2076480" y="4571640"/>
                  <a:ext cx="3824280" cy="30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t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st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nvertier</m:t>
                      </m:r>
                      <m:r>
                        <m:rPr>
                          <m:lit/>
                          <m:nor/>
                        </m:rPr>
                        <m:t xml:space="preserve">bar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85800" y="5148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hr zur Berechnung von Determinan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85800" y="5545080"/>
            <a:ext cx="7772400" cy="711360"/>
            <a:chOff x="685800" y="5545080"/>
            <a:chExt cx="7772400" cy="711360"/>
          </a:xfrm>
        </p:grpSpPr>
        <p:sp>
          <p:nvSpPr>
            <p:cNvPr id="68" name=""/>
            <p:cNvSpPr/>
            <p:nvPr/>
          </p:nvSpPr>
          <p:spPr>
            <a:xfrm>
              <a:off x="685800" y="554508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9.4) 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Ein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bere Dreiecksmatri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st eine (n,n)-Matrix A mit                              . Entsprechend: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Unter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Dreiecksmatri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231920" y="5873760"/>
                  <a:ext cx="188604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0  für  </m:t>
                      </m:r>
                      <m:r>
                        <m:t xml:space="preserve">ν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" name=""/>
          <p:cNvSpPr/>
          <p:nvPr/>
        </p:nvSpPr>
        <p:spPr>
          <a:xfrm>
            <a:off x="685800" y="26510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diese Formel nehmen wir als Definition im Falle char(K) = 2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032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zeichnung: Die Formel ist als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ibnizform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kan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5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obere Dreiecksmatrix A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054240" y="1905120"/>
                <a:ext cx="31212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620120" y="121932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04.02.02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49696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6) Verfahr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gegebene (n,n)-Matrix  A  bringe man durch Spaltenvertauschungen und durch Addition von geeigneten Vielfachheiten von Spalten auf die Form einer oberen Dreiecksmatrix B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7940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gilt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t(A) =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–1)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–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t(B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5561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spie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6004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einer (p,p)-Matrix B und einer (q,q)-Matrix D (n = p + q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9370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7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(n,n)-Matrix A der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4159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für Zeilenoperatio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191120" y="5403960"/>
                <a:ext cx="817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7620120" y="457668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0.01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gilt  det(A) = det(B)det(D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8288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sprechend ergibt sich ein zu 29.6 analoges Verfah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2803680"/>
            <a:ext cx="7924680" cy="703800"/>
            <a:chOff x="685800" y="2803680"/>
            <a:chExt cx="7924680" cy="703800"/>
          </a:xfrm>
        </p:grpSpPr>
        <p:sp>
          <p:nvSpPr>
            <p:cNvPr id="88" name=""/>
            <p:cNvSpPr/>
            <p:nvPr/>
          </p:nvSpPr>
          <p:spPr>
            <a:xfrm>
              <a:off x="685800" y="280368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die aus A durch Streichen d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μ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ten Zeile und d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ν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ten Spalte entsteh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812880" y="2845080"/>
                  <a:ext cx="3967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sSubSup>
                        <m:e>
                          <m:r>
                            <m:t xml:space="preserve">'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  <m:sup>
                          <m:r>
                            <m:t xml:space="preserve"> </m:t>
                          </m:r>
                          <m:r>
                            <m:t xml:space="preserve">ν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948040" y="3946680"/>
                <a:ext cx="3321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</m:sup>
                        </m:s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85800" y="2192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 Darstellung einer weiteren Berechnungsformel brauchen wir zu einer (n,n)-Matrix A und zu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3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 (n-1,n-1)-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5800" y="3489480"/>
            <a:ext cx="7924680" cy="674640"/>
            <a:chOff x="685800" y="3489480"/>
            <a:chExt cx="7924680" cy="674640"/>
          </a:xfrm>
        </p:grpSpPr>
        <p:sp>
          <p:nvSpPr>
            <p:cNvPr id="93" name=""/>
            <p:cNvSpPr/>
            <p:nvPr/>
          </p:nvSpPr>
          <p:spPr>
            <a:xfrm>
              <a:off x="685800" y="348948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29.8) Entwicklungssatz von Laplace: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ür eine (n,n)-Matrix A 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826920" y="3870360"/>
                  <a:ext cx="97812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" name=""/>
          <p:cNvGrpSpPr/>
          <p:nvPr/>
        </p:nvGrpSpPr>
        <p:grpSpPr>
          <a:xfrm>
            <a:off x="685800" y="5016600"/>
            <a:ext cx="7772400" cy="398880"/>
            <a:chOff x="685800" y="5016600"/>
            <a:chExt cx="7772400" cy="398880"/>
          </a:xfrm>
        </p:grpSpPr>
        <p:sp>
          <p:nvSpPr>
            <p:cNvPr id="96" name=""/>
            <p:cNvSpPr/>
            <p:nvPr/>
          </p:nvSpPr>
          <p:spPr>
            <a:xfrm>
              <a:off x="685800" y="501660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alog ist für          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2367000" y="5108400"/>
                  <a:ext cx="633240" cy="29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∈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970360" y="5307120"/>
                <a:ext cx="3284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685800" y="44798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twickl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ch Zeile m 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9277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twickl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ch Spalte k 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22092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06.02.02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201680" y="2133720"/>
                <a:ext cx="68310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68580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m Beispiel die Entwicklung der Determinante einer (3,3)-Matrix nach Zeile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1082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we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um Entwicklungssatz 29.8: Zunächst gilt w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676520" y="4516560"/>
                <a:ext cx="5765760" cy="18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m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ν</m:t>
                                      </m:r>
                                    </m:sub>
                                    <m:sup>
                                      <m:r>
                                        <m:t xml:space="preserve">m</m:t>
                                      </m:r>
                                    </m:sup>
                                  </m:sSubSup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ν</m:t>
                                      </m:r>
                                    </m:sup>
                                  </m:sSup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ν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ν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978360" y="3583080"/>
                <a:ext cx="12031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685800" y="40226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en Zeilenvektor  A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wegen der Multilinearität von de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371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rner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82800" y="1295280"/>
                <a:ext cx="715320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  <m:e/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A</m:t>
                              </m:r>
                              <m:sSubSup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  <m:sup>
                                  <m:r>
                                    <m:t xml:space="preserve">ν</m:t>
                                  </m:r>
                                </m:sup>
                              </m:sSubSup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  <m:e/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  <m:e/>
                            <m:e/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/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/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35000" y="4495680"/>
                <a:ext cx="710424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  <m:e/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ν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/>
                            <m:e/>
                          </m:mr>
                          <m:mr>
                            <m:e/>
                            <m:e/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ν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-1</m:t>
                                  </m:r>
                                </m:sup>
                              </m:sSubSup>
                            </m:e>
                            <m:e/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ν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</m:sSubSup>
                            </m:e>
                            <m:e/>
                            <m:e/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ν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85800" y="30481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bei entsteht die letzte Matrix aus der mittleren durch Verschieben der ersten Spalte u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 Positionen und durch Verschieben der ersten Zeile um m – 1 Position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6576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folgt (Addition von geeigneten Vielfachen der m-ten Zeile zu den anderen Zeilen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371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092400" y="1447920"/>
                <a:ext cx="298764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ν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85800" y="32767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 damit die Leibnizformel durch Einsetzen in die Beginn bewiesene Gleich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232080" y="4184640"/>
                <a:ext cx="265284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ν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ν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406680" y="1893960"/>
                <a:ext cx="24177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sSubSup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ν</m:t>
                            </m:r>
                          </m:sub>
                          <m:sup>
                            <m:r>
                              <m:t xml:space="preserve"> </m:t>
                            </m:r>
                            <m:r>
                              <m:t xml:space="preserve">μ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mplementä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 ist die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5800" y="2362320"/>
            <a:ext cx="7924680" cy="398880"/>
            <a:chOff x="685800" y="2362320"/>
            <a:chExt cx="7924680" cy="398880"/>
          </a:xfrm>
        </p:grpSpPr>
        <p:sp>
          <p:nvSpPr>
            <p:cNvPr id="124" name=""/>
            <p:cNvSpPr/>
            <p:nvPr/>
          </p:nvSpPr>
          <p:spPr>
            <a:xfrm>
              <a:off x="685800" y="236232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9.9) Satz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2743200" y="2405160"/>
                  <a:ext cx="246708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 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det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E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6" name=""/>
          <p:cNvSpPr/>
          <p:nvPr/>
        </p:nvSpPr>
        <p:spPr>
          <a:xfrm>
            <a:off x="685800" y="3352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en Koeffizienten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ofaktor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enann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40160" y="3849840"/>
                <a:ext cx="23684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μ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85800" y="42559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komplementären Matrix gilt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666960" y="5079960"/>
                <a:ext cx="18957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ν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85800" y="4637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10) Korollar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invertierbare 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8796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.9 enthält den Entwicklungssatz 29.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2-06T16:58:38Z</dcterms:modified>
  <cp:revision>91</cp:revision>
  <dc:subject/>
  <dc:title>PowerPoint-Präsentation</dc:title>
</cp:coreProperties>
</file>