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CAE6ED92-4B78-4DE8-9FEE-130FF06C0E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449568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9 Determinanten: Eigenschaften und Berechnu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eterminantenfun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Abbildung (im Falle char(K) ungleich Zw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züglich der Spalten der (n.n)-Matrizen n-linear und alternierend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946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gilt nach 28.5 für jede Determinantenfun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82960" y="2987640"/>
                <a:ext cx="14637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x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35120" y="4646520"/>
                <a:ext cx="5908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85800" y="5715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2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Determinantenfunk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(E) = 1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n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und wird mit  det 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79400" y="5351400"/>
                <a:ext cx="576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bei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in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iebig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89216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mit dieser Definition? Es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040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3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(n,n)-Matrizen A und B gil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344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(A) = det(A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49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t(AB) = det(A)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14520" y="2052720"/>
                <a:ext cx="6181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685800" y="4259160"/>
            <a:ext cx="7924680" cy="406440"/>
            <a:chOff x="685800" y="4259160"/>
            <a:chExt cx="7924680" cy="406440"/>
          </a:xfrm>
        </p:grpSpPr>
        <p:sp>
          <p:nvSpPr>
            <p:cNvPr id="61" name=""/>
            <p:cNvSpPr/>
            <p:nvPr/>
          </p:nvSpPr>
          <p:spPr>
            <a:xfrm>
              <a:off x="685800" y="42591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Und speziell                      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581280" y="4321080"/>
                  <a:ext cx="3522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gn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3967200"/>
            <a:ext cx="7924680" cy="398880"/>
            <a:chOff x="685800" y="396720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39672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076480" y="4055760"/>
                  <a:ext cx="382428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vertier</m:t>
                      </m:r>
                      <m:r>
                        <m:rPr>
                          <m:lit/>
                          <m:nor/>
                        </m:rPr>
                        <m:t xml:space="preserve">bar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85800" y="46832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zur Berechnung von Determinan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5079960"/>
            <a:ext cx="7772400" cy="711360"/>
            <a:chOff x="685800" y="5079960"/>
            <a:chExt cx="7772400" cy="711360"/>
          </a:xfrm>
        </p:grpSpPr>
        <p:sp>
          <p:nvSpPr>
            <p:cNvPr id="68" name=""/>
            <p:cNvSpPr/>
            <p:nvPr/>
          </p:nvSpPr>
          <p:spPr>
            <a:xfrm>
              <a:off x="685800" y="507996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4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Ein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bere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t eine (n,n)-Matrix A mit                              . Entsprechend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nter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231920" y="5408640"/>
                  <a:ext cx="188604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 für  </m:t>
                      </m:r>
                      <m:r>
                        <m:t xml:space="preserve">ν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685800" y="573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5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obere Dreiecksmatrix A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54240" y="6145200"/>
                <a:ext cx="3121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5800" y="2651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diese Formel nehmen wir als Definition im Falle char(K)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461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6) Verfahr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gegebene (n,n)-Matrix A bringe man durch Spaltenvertauschungen und durch Addition von geeigneten Vielfachheiten von Spalten auf die Form einer oberen Dreiecksmatrix 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A) =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–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–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505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952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einer (p,p)-Matrix B und einer (q,q)-Matrix D (n = p + q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7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(n,n)-Matrix A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für Zeilenoper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191120" y="4352760"/>
                <a:ext cx="817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85800" y="5318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  det(A) = det(B)det(D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69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ergibt sich ein zu 29.6 analoges Verfa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5800" y="2057400"/>
            <a:ext cx="7924680" cy="703800"/>
            <a:chOff x="685800" y="2057400"/>
            <a:chExt cx="7924680" cy="703800"/>
          </a:xfrm>
        </p:grpSpPr>
        <p:sp>
          <p:nvSpPr>
            <p:cNvPr id="85" name=""/>
            <p:cNvSpPr/>
            <p:nvPr/>
          </p:nvSpPr>
          <p:spPr>
            <a:xfrm>
              <a:off x="685800" y="205740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die aus A durch Streichen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Zeile und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ν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Spalte entsteh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812880" y="2098800"/>
                  <a:ext cx="396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sSubSup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ν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01680" y="5338800"/>
                <a:ext cx="6831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67120" y="3200400"/>
                <a:ext cx="3282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85800" y="4572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Beispiel die Entwicklung der Determinante einer (3,3) nach Zeil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Darstellung einer weiteren Berechnungsformel brauchen wir zu einer (n,n)-Matrix A und zu (j,k)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(n-1,n-1)-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2743200"/>
            <a:ext cx="7924680" cy="674640"/>
            <a:chOff x="685800" y="2743200"/>
            <a:chExt cx="7924680" cy="674640"/>
          </a:xfrm>
        </p:grpSpPr>
        <p:sp>
          <p:nvSpPr>
            <p:cNvPr id="92" name=""/>
            <p:cNvSpPr/>
            <p:nvPr/>
          </p:nvSpPr>
          <p:spPr>
            <a:xfrm>
              <a:off x="685800" y="27432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9.8) Entwicklungssatz von Laplace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eine (n,n)-Matrix A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838080" y="3124080"/>
                  <a:ext cx="9543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"/>
          <p:cNvGrpSpPr/>
          <p:nvPr/>
        </p:nvGrpSpPr>
        <p:grpSpPr>
          <a:xfrm>
            <a:off x="685800" y="3733920"/>
            <a:ext cx="7772400" cy="398880"/>
            <a:chOff x="685800" y="3733920"/>
            <a:chExt cx="7772400" cy="398880"/>
          </a:xfrm>
        </p:grpSpPr>
        <p:sp>
          <p:nvSpPr>
            <p:cNvPr id="95" name=""/>
            <p:cNvSpPr/>
            <p:nvPr/>
          </p:nvSpPr>
          <p:spPr>
            <a:xfrm>
              <a:off x="685800" y="37339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alog ist für          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362320" y="3849480"/>
                  <a:ext cx="644400" cy="24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965320" y="4024440"/>
                <a:ext cx="3295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419640" y="1882800"/>
                <a:ext cx="2392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ν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mentä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ist di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85800" y="2666880"/>
            <a:ext cx="7924680" cy="398880"/>
            <a:chOff x="685800" y="2666880"/>
            <a:chExt cx="7924680" cy="398880"/>
          </a:xfrm>
        </p:grpSpPr>
        <p:sp>
          <p:nvSpPr>
            <p:cNvPr id="102" name=""/>
            <p:cNvSpPr/>
            <p:nvPr/>
          </p:nvSpPr>
          <p:spPr>
            <a:xfrm>
              <a:off x="685800" y="26668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9) Hilfssatz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743200" y="2709720"/>
                  <a:ext cx="24670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t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E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685800" y="2270160"/>
            <a:ext cx="7772400" cy="398880"/>
            <a:chOff x="685800" y="2270160"/>
            <a:chExt cx="7772400" cy="398880"/>
          </a:xfrm>
        </p:grpSpPr>
        <p:sp>
          <p:nvSpPr>
            <p:cNvPr id="105" name=""/>
            <p:cNvSpPr/>
            <p:nvPr/>
          </p:nvSpPr>
          <p:spPr>
            <a:xfrm>
              <a:off x="685800" y="227016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 gilt:         ist die Determinante der Matrix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76520" y="2286000"/>
                  <a:ext cx="3348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5837400" y="2286000"/>
                  <a:ext cx="3348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685800" y="312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n Koeffizient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52760" y="3330720"/>
                <a:ext cx="2343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5800" y="36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komplementären Matrix gilt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666960" y="4394160"/>
                <a:ext cx="1895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85800" y="4052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10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invertierbare 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029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1) Cramersche Regel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invertierbare A ist die Lösung des linearen Gleichungssystems   Ax = b  gegeben dur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19280" y="5891040"/>
                <a:ext cx="4202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30T14:02:49Z</dcterms:modified>
  <cp:revision>90</cp:revision>
  <dc:subject/>
  <dc:title>PowerPoint-Präsentation</dc:title>
</cp:coreProperties>
</file>