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7FE449FC-E384-431E-814C-CA21B27276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8 Multilineare und Alternierende Abbildung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6510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und W seien wieder ein K-Vektorrä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648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 V  nach  W  stets linear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270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dem Wege zum Begriff der Determi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968640" y="3124080"/>
                <a:ext cx="12891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85800" y="350532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ult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sie in jedem Argument linear ist, dh. wenn für fest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s V di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508120" y="4319640"/>
                <a:ext cx="4211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↦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∈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85800" y="4968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 spricht stattdessen auch von p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die Anzahl p der Faktoren betont werden soll, so zum Beispiel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2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5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58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Begriff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linearitä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bt auch Sinn für Abbildu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66960" y="6132600"/>
                <a:ext cx="2713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…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060640" y="4286160"/>
                <a:ext cx="5029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↦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λμν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er Fall für die Einführung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ens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60760" y="1841400"/>
                <a:ext cx="2031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*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85800" y="46162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λμ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ie o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238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1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558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eare Abbildungen sind 1-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879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inearformen, wie in § 25 studiert. Das Kreuzprodu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54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ier eine Trilinear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709720" y="3279600"/>
                <a:ext cx="37227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3549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auch bilinear. Und auch die in § 26 eingeführte Determin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9370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en p Linearformen 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 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f V geg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22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ist das Produ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927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ts p-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49400" y="5546880"/>
                <a:ext cx="52531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371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  habe die geordnete Basis b = 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. Dann hat jede p-linear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9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-lineare Abbildung lässt sich im Fall  V =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ch verstehen als Abbildung von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p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nach W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35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00200" y="2443320"/>
                <a:ext cx="5946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bSup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968640" y="1841400"/>
                <a:ext cx="12891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85800" y="2881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en eindeutig bestimm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19520" y="3247920"/>
                <a:ext cx="3506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85800" y="4253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ist (mit W = K) der Blickpunkt, der für die Determinanten eingenomm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560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die Determinante von (2,2)-Matrizen (§ 26) gilt aber zusätzlich: Sie ist alternier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567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lassen sich p-lineare Abbildungen also definier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996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Vektoren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j &lt; k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2578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8.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p-lineare Abbildung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 V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nach  W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lternieren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oder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antisymmetris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482840" y="5975280"/>
                <a:ext cx="6261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620120" y="35812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01.02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446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4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sei Körper der Charakteristik ungleich 2 . Dann sind die folgenden Aussagen äquivalent für eine p-linear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13200" y="2144880"/>
                <a:ext cx="14018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85800" y="2514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φ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t alterniere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8036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, wen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für ein Paar (j,k), j &lt;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41316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 und für j &lt; k ist st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226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 und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mit 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 ist st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6306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t  rg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&lt; p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3182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, wen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für ein j &lt; p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2619360"/>
            <a:ext cx="51051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4479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 j &lt; p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–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8077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 jede Permutati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aus 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gi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sgn(σ)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p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5) Folgeru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lineare und alternierend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19680" y="4816440"/>
                <a:ext cx="13888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5800" y="5181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einem Vektorraum der Dimension n mit Basis b ist von der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11320" y="5608800"/>
                <a:ext cx="69246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85800" y="6080040"/>
            <a:ext cx="807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s W  ( char(K) nicht Nu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3526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sa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ür allgemeine Körper sind 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einander äquivalent und ebenso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Ferner folgt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zw.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27637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01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30T13:24:12Z</dcterms:modified>
  <cp:revision>89</cp:revision>
  <dc:subject/>
  <dc:title>PowerPoint-Präsentation</dc:title>
</cp:coreProperties>
</file>