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B9EC9381-3482-4E23-BB08-F954C3E756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 28 Multilineare und Alternierende Abbildung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6510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8.1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und W seien wieder ein K-Vektorräu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9718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Ab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6483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 V  nach  W  stets linear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2701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 dem Wege zum Begriff der Determin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968640" y="3124080"/>
                <a:ext cx="12891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85800" y="3505320"/>
            <a:ext cx="8001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ulti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sie in jedem Argument linear ist, dh. wenn für fest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us V di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508120" y="4319640"/>
                <a:ext cx="42116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↦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∈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85800" y="49687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 spricht stattdessen auch von p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die Anzahl p der Faktoren betont werden soll, so zum Beispiel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i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2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i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5-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58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Begriff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linearitä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bt auch Sinn für Abbildu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666960" y="6132600"/>
                <a:ext cx="27133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…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W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060640" y="4286160"/>
                <a:ext cx="5029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↦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λμν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λ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85800" y="144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chtiger Fall für die Einführung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ensor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560760" y="1841400"/>
                <a:ext cx="2031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*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q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85800" y="461628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λμ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ie o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238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8.1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558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neare Abbildungen sind 1-lin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879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ilinearformen, wie in § 25 studiert. Das Kreuzproduk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854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ier eine Trilinear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709720" y="3279600"/>
                <a:ext cx="372276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85800" y="3549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auch bilinear. Und auch die in § 26 eingeführte Determin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9370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s seien p Linearformen 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 ,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uf V gege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226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n ist das Produ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927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ts p-lin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49400" y="5546880"/>
                <a:ext cx="52531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37160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  habe die geordnete Basis b = 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. Dann hat jede p-linear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9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p-lineare Abbildung lässt sich im Fall  V = K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uch verstehen als Abbildung von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2000" spc="-1" strike="noStrike" baseline="38000">
                <a:solidFill>
                  <a:srgbClr val="000000"/>
                </a:solidFill>
                <a:latin typeface="Arial"/>
              </a:rPr>
              <a:t>p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nach W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351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600200" y="2443320"/>
                <a:ext cx="5946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bSup>
                    <m:sSub>
                      <m:e>
                        <m:r>
                          <m:t xml:space="preserve">ϕ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968640" y="1841400"/>
                <a:ext cx="12891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85800" y="28814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en eindeutig bestimm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819520" y="3247920"/>
                <a:ext cx="3506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W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85800" y="4253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ist (mit W = K) der Blickpunkt, der für die Determinanten eingenommen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560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die Determinante von (2,2)-Matrizen (§ 26) gilt aber zusätzlich: Sie ist alterniere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567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lassen sich p-lineare Abbildungen also definier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996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Vektoren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und j &lt; k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2578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8.3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 p-lineare Abbildung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n  V</a:t>
            </a:r>
            <a:r>
              <a:rPr b="0" lang="de-DE" sz="2000" spc="-1" strike="noStrike" baseline="38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nach  W 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lternieren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oder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antisymmetrisch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482840" y="5975280"/>
                <a:ext cx="6261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620120" y="358128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8.01.02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446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8.4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sei Körper der Charakteristik ungleich 2 . Dann sind die folgenden Aussagen äquivalent für eine p-linear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913200" y="2144880"/>
                <a:ext cx="14018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  <m:r>
                      <m:t xml:space="preserve"> 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85800" y="2514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φ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t alterniere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8036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0 , wen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für ein Paar (j,k), j &lt;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41316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 und für j &lt; k ist st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02264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 und s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 mit  s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 ist st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6306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t  rg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&lt; p 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531828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0 , wen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für ein j &lt; p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2619360"/>
            <a:ext cx="51051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V, §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4479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und  j &lt; p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–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057400"/>
            <a:ext cx="8077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V und  jede Permutatio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σ aus  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gi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= sgn(σ)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(1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(2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(p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419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8.5) Folgeru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lineare und alternierend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919680" y="4816440"/>
                <a:ext cx="138888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W</m:t>
                    </m:r>
                    <m:r>
                      <m:t xml:space="preserve"> 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5800" y="5181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 einem Vektorraum der Dimension n mit Basis b ist von der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11320" y="5608800"/>
                <a:ext cx="69246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r>
                          <m:t xml:space="preserve">(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nary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…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85800" y="6080040"/>
            <a:ext cx="8077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bei is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aus W  ( char(K) nicht Nul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3526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sat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ür allgemeine Körper sind 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einander äquivalent und ebenso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Ferner folgt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zw.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er 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27637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8.01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30T13:24:12Z</dcterms:modified>
  <cp:revision>89</cp:revision>
  <dc:subject/>
  <dc:title>PowerPoint-Präsentation</dc:title>
</cp:coreProperties>
</file>