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ECCF6A77-FCEF-47AA-A867-CD56D8EE3F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 28 Multilineare und Alternierende Abbildung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6510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8.1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und W seien wieder ein K-Vektorräu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9718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Abbild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6483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 V  nach  W  stets linear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270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f dem Wege zum Begriff der Determin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968640" y="3124080"/>
                <a:ext cx="12891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685800" y="350532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ulti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sie in jedem Argument linear ist, dh. wenn für fest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us V di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508120" y="4319640"/>
                <a:ext cx="42116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↦</m:t>
                    </m:r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∈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85800" y="49687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n spricht stattdessen auch von p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die Anzahl p der Faktoren betont werden soll, so zum Beispiel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2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ri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5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58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Begriff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linearitä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bt auch Sinn für Abbildu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666960" y="6132600"/>
                <a:ext cx="27133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…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W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060640" y="4286160"/>
                <a:ext cx="5029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↦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λμν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λ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chtiger Fall für die Einführung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ensor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560760" y="1841400"/>
                <a:ext cx="2031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*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q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85800" y="461628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λμ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wie o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238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8.1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558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neare Abbildungen sind 1-lin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879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ilinearformen, wie in § 25 studiert. Das Kreuzproduk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854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ier eine Trilinear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709720" y="3279600"/>
                <a:ext cx="372276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85800" y="3549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auch bilinear. Und auch die in § 26 eingeführte Determin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93704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seien p Linearformen 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 ,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uf V gege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22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n ist das Produ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5927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ts p-lin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49400" y="5546880"/>
                <a:ext cx="52531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3716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  habe die geordnete Basis b = 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. Dann hat jede p-linear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9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p-lineare Abbildung lässt sich im Fall  V = K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uch verstehen als Abbildung von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px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nach W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351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600200" y="2443320"/>
                <a:ext cx="59468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</m:sSubSup>
                    <m:sSub>
                      <m:e>
                        <m:r>
                          <m:t xml:space="preserve">ϕ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968640" y="1841400"/>
                <a:ext cx="12891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685800" y="28814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den eindeutig bestimm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819520" y="3247920"/>
                <a:ext cx="3506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W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685800" y="42530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ist (mit W = K) der Blickpunkt, der für die Determinanten eingenommen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5608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die Determinante von (2,2)-Matrizen (§ 26) gilt aber zusätzlich: Sie ist alterniere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567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lassen sich p-lineare Abbildungen also definier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24996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Vektoren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und j &lt; k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2578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8.3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p-lineare Abbildung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n  V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nach  W 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lternieren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oder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antisymmetrisch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st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482840" y="5975280"/>
                <a:ext cx="6261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 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 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620120" y="358128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8.01.02 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446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8.4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sei Körper der Charakteristik ungleich 2 . Dann sind die folgenden Aussagen äquivalent für eine p-linear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913200" y="2144880"/>
                <a:ext cx="14018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W</m:t>
                    </m:r>
                    <m:r>
                      <m:t xml:space="preserve"> 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85800" y="2514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φ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t alterniere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80368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0 , wen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für ein Paar (j,k), j &lt;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41316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 und für j &lt; k ist st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02264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 und s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 mit  s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 ist st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63068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it  rg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&lt; p 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0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31828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0 , wen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für ein j &lt; p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2619360"/>
            <a:ext cx="510516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44792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und  j &lt; p 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–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057400"/>
            <a:ext cx="8077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und  jede Permutatio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aus 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gil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sgn(σ)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(1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(2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(p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4197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8.5) Folgeru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-lineare und alternierend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919680" y="4816440"/>
                <a:ext cx="138888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W</m:t>
                    </m:r>
                    <m:r>
                      <m:t xml:space="preserve"> 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85800" y="5181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f einem Vektorraum der Dimension n mit Basis b ist von der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11320" y="5608800"/>
                <a:ext cx="69246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gn</m:t>
                        </m:r>
                        <m:r>
                          <m:t xml:space="preserve">(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85800" y="6080040"/>
            <a:ext cx="8077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bei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aus W  ( char(K) nicht Nul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3526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sat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ür allgemeine Körper sind 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ueinander äquivalent und ebenso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Ferner folgt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zw.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der 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276372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8.01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1-30T13:24:12Z</dcterms:modified>
  <cp:revision>89</cp:revision>
  <dc:subject/>
  <dc:title>PowerPoint-Präsentation</dc:title>
</cp:coreProperties>
</file>