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lmu" descr=""/>
          <p:cNvPicPr/>
          <p:nvPr/>
        </p:nvPicPr>
        <p:blipFill>
          <a:blip r:embed="rId2"/>
          <a:stretch/>
        </p:blipFill>
        <p:spPr>
          <a:xfrm>
            <a:off x="3637080" y="415800"/>
            <a:ext cx="1150920" cy="843120"/>
          </a:xfrm>
          <a:prstGeom prst="rect">
            <a:avLst/>
          </a:prstGeom>
          <a:ln w="0">
            <a:noFill/>
          </a:ln>
        </p:spPr>
      </p:pic>
      <p:pic>
        <p:nvPicPr>
          <p:cNvPr id="4" name="mathblue" descr=""/>
          <p:cNvPicPr/>
          <p:nvPr/>
        </p:nvPicPr>
        <p:blipFill>
          <a:blip r:embed="rId3"/>
          <a:stretch/>
        </p:blipFill>
        <p:spPr>
          <a:xfrm>
            <a:off x="3200400" y="685800"/>
            <a:ext cx="349200" cy="309600"/>
          </a:xfrm>
          <a:prstGeom prst="rect">
            <a:avLst/>
          </a:prstGeom>
          <a:ln w="0">
            <a:noFill/>
          </a:ln>
        </p:spPr>
      </p:pic>
      <p:pic>
        <p:nvPicPr>
          <p:cNvPr id="5" name="mathinstshort" descr=""/>
          <p:cNvPicPr/>
          <p:nvPr/>
        </p:nvPicPr>
        <p:blipFill>
          <a:blip r:embed="rId4"/>
          <a:stretch/>
        </p:blipFill>
        <p:spPr>
          <a:xfrm>
            <a:off x="4888080" y="685800"/>
            <a:ext cx="3570120" cy="3110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6629400" y="632448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olie </a:t>
            </a:r>
            <a:fld id="{A7D1BD9C-A3B9-4D08-9231-EFCF6A97965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pitel V. Determinan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4343400"/>
            <a:ext cx="7924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hal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ernierende For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utati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an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are Gleichungssyst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wendu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de-DE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§ 26 Inhaltsmessung von Parallelogram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4648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diesem Paragrafen soll die Einführung der Determinante über einen geometrischen Ansatz motiviert werd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358128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Ebene wird durch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3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präsentiert, ein Parallelogramm wird durch 2 Vektoren gegeb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29718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 geht um die Eigenschaften des Flächeninhalts von Parallelogrammen in der euklidischen Ebe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838080" y="4495680"/>
            <a:ext cx="3391200" cy="1914480"/>
            <a:chOff x="838080" y="4495680"/>
            <a:chExt cx="3391200" cy="1914480"/>
          </a:xfrm>
        </p:grpSpPr>
        <p:grpSp>
          <p:nvGrpSpPr>
            <p:cNvPr id="51" name=""/>
            <p:cNvGrpSpPr/>
            <p:nvPr/>
          </p:nvGrpSpPr>
          <p:grpSpPr>
            <a:xfrm>
              <a:off x="1865160" y="4681080"/>
              <a:ext cx="1962360" cy="1302840"/>
              <a:chOff x="1865160" y="4681080"/>
              <a:chExt cx="1962360" cy="1302840"/>
            </a:xfrm>
          </p:grpSpPr>
          <p:sp>
            <p:nvSpPr>
              <p:cNvPr id="52" name=""/>
              <p:cNvSpPr/>
              <p:nvPr/>
            </p:nvSpPr>
            <p:spPr>
              <a:xfrm rot="20903400">
                <a:off x="1942920" y="4852800"/>
                <a:ext cx="1806480" cy="959040"/>
              </a:xfrm>
              <a:prstGeom prst="parallelogram">
                <a:avLst>
                  <a:gd name="adj" fmla="val 4709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V="1">
                <a:off x="2050200" y="4915800"/>
                <a:ext cx="268920" cy="106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flipV="1">
                <a:off x="2076840" y="5694480"/>
                <a:ext cx="1310760" cy="288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2019240" y="458136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90840" y="557208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38080" y="5996160"/>
              <a:ext cx="3391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044800" y="4495680"/>
              <a:ext cx="0" cy="19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705040" y="51148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4495680" y="4175280"/>
            <a:ext cx="4038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 bezeichnen mit F(v,w) di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läc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n dem von v und w aufgespannten Parallelogramm 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5089680"/>
            <a:ext cx="4038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bei soll  F(v,w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ericht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in, insofern, als F(v,w) = -F(w,v) gi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5699160"/>
            <a:ext cx="4038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um Beispiel: F(v,w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ositiv, wen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vo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im Gegenuhrzeigersin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V, §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838080" y="2209320"/>
            <a:ext cx="3895200" cy="2529360"/>
            <a:chOff x="838080" y="2209320"/>
            <a:chExt cx="3895200" cy="2529360"/>
          </a:xfrm>
        </p:grpSpPr>
        <p:sp>
          <p:nvSpPr>
            <p:cNvPr id="65" name=""/>
            <p:cNvSpPr/>
            <p:nvPr/>
          </p:nvSpPr>
          <p:spPr>
            <a:xfrm flipV="1">
              <a:off x="3633840" y="2209320"/>
              <a:ext cx="730080" cy="80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20903400">
              <a:off x="1942920" y="3180960"/>
              <a:ext cx="1806480" cy="959040"/>
            </a:xfrm>
            <a:prstGeom prst="parallelogram">
              <a:avLst>
                <a:gd name="adj" fmla="val 47091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rot="19953600">
              <a:off x="1676520" y="2868480"/>
              <a:ext cx="3044880" cy="793800"/>
            </a:xfrm>
            <a:prstGeom prst="parallelogram">
              <a:avLst>
                <a:gd name="adj" fmla="val 95896"/>
              </a:avLst>
            </a:prstGeom>
            <a:solidFill>
              <a:srgbClr val="99ff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2050200" y="3243960"/>
              <a:ext cx="268920" cy="106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2076480" y="4022640"/>
              <a:ext cx="1311120" cy="288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019240" y="29098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390840" y="390060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38080" y="4324320"/>
              <a:ext cx="3391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44800" y="2824200"/>
              <a:ext cx="0" cy="19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705040" y="344340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3389760" y="3260160"/>
              <a:ext cx="651600" cy="764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809880" y="3586320"/>
              <a:ext cx="38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685800" y="14479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mentargeometrische Überlegungen zeig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181296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v + u,w) = F(v,w) + F(u,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724280" y="233028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 ebens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724280" y="265104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v,w + z) = F(v,w) + F(v,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24280" y="295596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iterh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24280" y="326088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(v,sw) = sF(v,w) = F(sv,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24280" y="356544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ür positive s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508968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ließlich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539424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-v,w) = -F(v,w) = F(v,-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5128920" y="4255920"/>
            <a:ext cx="3710160" cy="2070360"/>
            <a:chOff x="5128920" y="4255920"/>
            <a:chExt cx="3710160" cy="2070360"/>
          </a:xfrm>
        </p:grpSpPr>
        <p:sp>
          <p:nvSpPr>
            <p:cNvPr id="87" name=""/>
            <p:cNvSpPr/>
            <p:nvPr/>
          </p:nvSpPr>
          <p:spPr>
            <a:xfrm rot="20903400">
              <a:off x="5206680" y="4892040"/>
              <a:ext cx="1806480" cy="959040"/>
            </a:xfrm>
            <a:prstGeom prst="parallelogram">
              <a:avLst>
                <a:gd name="adj" fmla="val 47091"/>
              </a:avLst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20903400">
              <a:off x="6552720" y="4612680"/>
              <a:ext cx="1806480" cy="959040"/>
            </a:xfrm>
            <a:prstGeom prst="parallelogram">
              <a:avLst>
                <a:gd name="adj" fmla="val 47091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6659640" y="4676400"/>
              <a:ext cx="269280" cy="1062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6686640" y="5454360"/>
              <a:ext cx="1311120" cy="288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629400" y="434160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001000" y="533232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448240" y="5756040"/>
              <a:ext cx="3390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654600" y="4255920"/>
              <a:ext cx="0" cy="19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5332320" y="5744520"/>
              <a:ext cx="1311120" cy="288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676840" y="592740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-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V, §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14479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sgesamt: F ist bilinear und alternierend, dh. F(v,w) = -F(w,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2286000"/>
            <a:ext cx="7924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her:  F(v,w) =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38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 baseline="38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38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 baseline="38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38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 baseline="38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38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 baseline="38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2590920"/>
            <a:ext cx="7924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t 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 =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und 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-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, weil F alternieren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95596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her gilt  F(v,w) = s(v</a:t>
            </a:r>
            <a:r>
              <a:rPr b="0" lang="en-US" sz="2000" spc="-1" strike="noStrike" baseline="38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 baseline="38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v</a:t>
            </a:r>
            <a:r>
              <a:rPr b="0" lang="en-US" sz="2000" spc="-1" strike="noStrike" baseline="38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 baseline="38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 mit einer Konstanten s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3413160"/>
            <a:ext cx="79246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t der Festlegung  F(e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e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 = 1 (Normierung von F, so dass das Ein-heitsquadrat den Flächeninhalt 1 erhält) wird diese Konstante zu 1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41752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(v,w) =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v</a:t>
            </a:r>
            <a:r>
              <a:rPr b="0" lang="de-DE" sz="2000" spc="-1" strike="noStrike" baseline="38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w</a:t>
            </a:r>
            <a:r>
              <a:rPr b="0" lang="de-DE" sz="2000" spc="-1" strike="noStrike" baseline="38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v</a:t>
            </a:r>
            <a:r>
              <a:rPr b="0" lang="de-DE" sz="2000" spc="-1" strike="noStrike" baseline="38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w</a:t>
            </a:r>
            <a:r>
              <a:rPr b="0" lang="de-DE" sz="2000" spc="-1" strike="noStrike" baseline="38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 (vgl. §1) =: det(v,w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3613320" y="1905120"/>
                <a:ext cx="19173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: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→</m:t>
                    </m:r>
                    <m:r>
                      <m:t xml:space="preserve">R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685800" y="46990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beiden Spaltenvektoren v,w lassen sich als die Spaltenvektoren von (2,2)-Matrizen A = (v,w) verstehe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530856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sofern definiert  det  eine Abbild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540160" y="5664240"/>
                <a:ext cx="406368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: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x2</m:t>
                        </m:r>
                      </m:sup>
                    </m:sSup>
                    <m:r>
                      <m:t xml:space="preserve">→</m:t>
                    </m:r>
                    <m:r>
                      <m:t xml:space="preserve">R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t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</m:mr>
                          <m:mr>
                            <m:e>
                              <m:r>
                                <m:t xml:space="preserve">c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d-bc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V, §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47242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obei  tr A := a + d (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Spu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von A)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60958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m übrigen ist  det  auch bilinear in den Zeilenvektor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14461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genschaften von  det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18288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6.1) Satz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ür A au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000" spc="-1" strike="noStrike" baseline="38000">
                <a:solidFill>
                  <a:srgbClr val="000000"/>
                </a:solidFill>
                <a:latin typeface="Arial"/>
              </a:rPr>
              <a:t>2x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il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752480" y="2209680"/>
                <a:ext cx="2328840" cy="2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g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alls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752480" y="2514600"/>
                <a:ext cx="3990960" cy="2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g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alls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und  det A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752480" y="2819520"/>
                <a:ext cx="274176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g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alls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t A</m:t>
                    </m:r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6" name=""/>
          <p:cNvGrpSpPr/>
          <p:nvPr/>
        </p:nvGrpSpPr>
        <p:grpSpPr>
          <a:xfrm>
            <a:off x="685800" y="3124080"/>
            <a:ext cx="7924680" cy="398880"/>
            <a:chOff x="685800" y="3124080"/>
            <a:chExt cx="7924680" cy="398880"/>
          </a:xfrm>
        </p:grpSpPr>
        <p:sp>
          <p:nvSpPr>
            <p:cNvPr id="117" name=""/>
            <p:cNvSpPr/>
            <p:nvPr/>
          </p:nvSpPr>
          <p:spPr>
            <a:xfrm>
              <a:off x="685800" y="3124080"/>
              <a:ext cx="792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(26.2) Korollar: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ür A aus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000" spc="-1" strike="noStrike" baseline="38000">
                  <a:solidFill>
                    <a:srgbClr val="000000"/>
                  </a:solidFill>
                  <a:latin typeface="Arial"/>
                </a:rPr>
                <a:t>2x2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8" name=""/>
                <p:cNvSpPr txBox="1"/>
                <p:nvPr/>
              </p:nvSpPr>
              <p:spPr>
                <a:xfrm>
                  <a:off x="4495680" y="3187800"/>
                  <a:ext cx="3187800" cy="30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invertierbar</m:t>
                      </m:r>
                      <m:r>
                        <m:t xml:space="preserve">⇔</m:t>
                      </m:r>
                      <m:r>
                        <m:rPr>
                          <m:lit/>
                          <m:nor/>
                        </m:rPr>
                        <m:t xml:space="preserve">det A</m:t>
                      </m:r>
                      <m:r>
                        <m:t xml:space="preserve">≠</m:t>
                      </m:r>
                      <m:r>
                        <m:t xml:space="preserve">0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9" name=""/>
          <p:cNvSpPr/>
          <p:nvPr/>
        </p:nvSpPr>
        <p:spPr>
          <a:xfrm>
            <a:off x="685800" y="34894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26.3) Satz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A,B aus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2000" spc="-1" strike="noStrike" baseline="38000">
                <a:solidFill>
                  <a:srgbClr val="000000"/>
                </a:solidFill>
                <a:latin typeface="Arial"/>
              </a:rPr>
              <a:t>2x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: det (AB) = (det A)(det B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38862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26.4) Satz von Cayley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A aus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2000" spc="-1" strike="noStrike" baseline="38000">
                <a:solidFill>
                  <a:srgbClr val="000000"/>
                </a:solidFill>
                <a:latin typeface="Arial"/>
              </a:rPr>
              <a:t>2x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3422520" y="4343400"/>
                <a:ext cx="234000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tr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det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685800" y="51055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6.5) Satz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ür A,B,C au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000" spc="-1" strike="noStrike" baseline="38000">
                <a:solidFill>
                  <a:srgbClr val="000000"/>
                </a:solidFill>
                <a:latin typeface="Arial"/>
              </a:rPr>
              <a:t>2x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54100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(AB –BA)</a:t>
            </a:r>
            <a:r>
              <a:rPr b="0" lang="de-DE" sz="2000" spc="-1" strike="noStrike" baseline="38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(det(AB –BA))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57150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AB –BA)</a:t>
            </a:r>
            <a:r>
              <a:rPr b="0" lang="en-US" sz="2000" spc="-1" strike="noStrike" baseline="38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= C(AB –BA)</a:t>
            </a:r>
            <a:r>
              <a:rPr b="0" lang="en-US" sz="2000" spc="-1" strike="noStrike" baseline="38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0T07:52:51Z</dcterms:created>
  <dc:creator>MSchottenloher</dc:creator>
  <dc:description/>
  <dc:language>en-US</dc:language>
  <cp:lastModifiedBy>MSchottenloher</cp:lastModifiedBy>
  <dcterms:modified xsi:type="dcterms:W3CDTF">2002-01-22T20:21:18Z</dcterms:modified>
  <cp:revision>86</cp:revision>
  <dc:subject/>
  <dc:title>PowerPoint-Präsentation</dc:title>
</cp:coreProperties>
</file>