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374C9D9-98F0-4731-BB7D-CFFBF0BA23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7 Permutation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9384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Beschreibung von alternierenden multilinearen Abbildungen und insbesondere für den begriff der Determinante benötigen wir die Permut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63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olgende interessieren wir uns für den Fall M = {1,2, ... , n}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für eine positive natürliche Zahl n 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({1,2, ... , n}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082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inneru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gl. 8.2): Für eine Menge M ist die Menge S(M) der bijektiven Abbildungen von M nach M in eine Grupp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718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mmetrische 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zw.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s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226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ruppenmultiplikation ist dabei die Komposition von Abbild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2578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lemente p von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reibt man zum Beispiel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67200" y="575460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also j zwischen 1 und n mit  p(j) = j+1, p(j+1) = j, und p(i) = i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410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fensichtlich ist eine Nachbarnvertauschung eine Trans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32120" y="1600200"/>
                <a:ext cx="3492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2860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1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achbarnvertausch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Permutation p , die zwei benachbarte Zahlen vertauscht, und alle anderen Zahlen festläs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8862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2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posi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(anders als in einer früheren Übungsaufgabe definiert) eine Permutation p , die zwei Zahlen vertauscht, und alle anderen Zahlen festläs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800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also j &lt; k zwischen 1 und n mit  p(j) = k, p(k) = j, und p(i) = i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76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t n! Ele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791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3) Lem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921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(p) := #{(j,k) aus n : j &lt; k und  p(j) &gt; p(k)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9718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4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p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jedes Paar (j,k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ehl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ür das  j &lt; k  und  p(j) &gt; p(k) 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267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371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Jede Permutation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eine Komposition von Nachbarnvertausch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Jede Transposition ist Komposition einer ungeraden Anzahl von Nachbarnvertausch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590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Jede Permutation ist Komposition von Transposi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5654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  a(p)  die Anzahl der Fehlstände für p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86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bzw.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n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je nachdem, ob  sgn(p)  gerade (bzw. ungerade)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berechnet man  sgn(p)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5) 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Nachbarnvertauschungen und für Transpo-sitionen p gilt  sgn(p) = -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800" y="4343400"/>
            <a:ext cx="7848720" cy="533160"/>
            <a:chOff x="685800" y="4343400"/>
            <a:chExt cx="7848720" cy="533160"/>
          </a:xfrm>
        </p:grpSpPr>
        <p:sp>
          <p:nvSpPr>
            <p:cNvPr id="74" name=""/>
            <p:cNvSpPr/>
            <p:nvPr/>
          </p:nvSpPr>
          <p:spPr>
            <a:xfrm>
              <a:off x="685800" y="440352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gn(p) := (-1)</a:t>
              </a:r>
              <a:r>
                <a:rPr b="0" lang="de-DE" sz="2000" spc="-1" strike="noStrike" baseline="38000">
                  <a:solidFill>
                    <a:srgbClr val="000000"/>
                  </a:solidFill>
                  <a:latin typeface="Arial"/>
                </a:rPr>
                <a:t>a(p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, „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Signum vo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p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98880" y="4343400"/>
              <a:ext cx="1904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812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5) 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657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also ein Gruppenhomomorphis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449520" y="2023920"/>
                <a:ext cx="2354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276720" y="18288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879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6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  sgn(pq) = sgn(p)sgn(q)  für p,q aus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759120" y="3352680"/>
                <a:ext cx="18464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: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85800" y="4022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7) Folgerung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p aus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 p =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...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4038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ind alle 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barnvertauschungen, so gi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gn(p) = (-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01336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ind alle 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positionen, so gilt  sgn(p) = (-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geme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47056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enswer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jeder Darstellung einer Permutation p von der Form  p =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...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mit lauter Transpositionen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oder lauter Nach-barnvertauschungen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ist  k  stets gerade oder stets unger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22T20:31:00Z</dcterms:modified>
  <cp:revision>87</cp:revision>
  <dc:subject/>
  <dc:title>PowerPoint-Präsentation</dc:title>
</cp:coreProperties>
</file>