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8EFF2032-EC68-4B9B-A3F7-DAC77A8AE8A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pitel V. Determina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4343400"/>
            <a:ext cx="7924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a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ierende Fo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uta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an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e Gleichungssyst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wend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26 Inhaltsmessung von Parallelogram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464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iesem Paragrafen soll die Einführung der Determinante über einen geometrischen Ansatz motivier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5812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Ebene wird durc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3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präsentiert, ein Parallelogramm wird durch 2 Vektoren gegeb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9718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geht um die Eigenschaften des Flächeninhalts von Parallelogrammen in der euklidischen Ebe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838080" y="4495680"/>
            <a:ext cx="3391200" cy="1914480"/>
            <a:chOff x="838080" y="4495680"/>
            <a:chExt cx="3391200" cy="1914480"/>
          </a:xfrm>
        </p:grpSpPr>
        <p:grpSp>
          <p:nvGrpSpPr>
            <p:cNvPr id="51" name=""/>
            <p:cNvGrpSpPr/>
            <p:nvPr/>
          </p:nvGrpSpPr>
          <p:grpSpPr>
            <a:xfrm>
              <a:off x="1865160" y="4681080"/>
              <a:ext cx="1962360" cy="1302840"/>
              <a:chOff x="1865160" y="4681080"/>
              <a:chExt cx="1962360" cy="1302840"/>
            </a:xfrm>
          </p:grpSpPr>
          <p:sp>
            <p:nvSpPr>
              <p:cNvPr id="52" name=""/>
              <p:cNvSpPr/>
              <p:nvPr/>
            </p:nvSpPr>
            <p:spPr>
              <a:xfrm rot="20903400">
                <a:off x="1942920" y="4852800"/>
                <a:ext cx="1806480" cy="959040"/>
              </a:xfrm>
              <a:prstGeom prst="parallelogram">
                <a:avLst>
                  <a:gd name="adj" fmla="val 4709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2050200" y="4915800"/>
                <a:ext cx="268920" cy="106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2076840" y="5694480"/>
                <a:ext cx="1310760" cy="288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2019240" y="45813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90840" y="55720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8080" y="5996160"/>
              <a:ext cx="339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44800" y="4495680"/>
              <a:ext cx="0" cy="19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05040" y="5114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495680" y="4175280"/>
            <a:ext cx="403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 bezeichnen mit F(v,w) di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läc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n dem von v und w aufgespannten Parallelogramm 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5089680"/>
            <a:ext cx="403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bei soll  F(v,w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ericht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in, insofern, als F(v,w) = -F(w,v) gi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5699160"/>
            <a:ext cx="403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m Beispiel: F(v,w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sitiv, wen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v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im Gegenuhrzeigersin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838080" y="2209320"/>
            <a:ext cx="3895200" cy="2529360"/>
            <a:chOff x="838080" y="2209320"/>
            <a:chExt cx="3895200" cy="2529360"/>
          </a:xfrm>
        </p:grpSpPr>
        <p:sp>
          <p:nvSpPr>
            <p:cNvPr id="65" name=""/>
            <p:cNvSpPr/>
            <p:nvPr/>
          </p:nvSpPr>
          <p:spPr>
            <a:xfrm flipV="1">
              <a:off x="3633840" y="2209320"/>
              <a:ext cx="730080" cy="80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0903400">
              <a:off x="1942920" y="3180960"/>
              <a:ext cx="1806480" cy="959040"/>
            </a:xfrm>
            <a:prstGeom prst="parallelogram">
              <a:avLst>
                <a:gd name="adj" fmla="val 4709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9953600">
              <a:off x="1676520" y="2868480"/>
              <a:ext cx="3044880" cy="793800"/>
            </a:xfrm>
            <a:prstGeom prst="parallelogram">
              <a:avLst>
                <a:gd name="adj" fmla="val 95896"/>
              </a:avLst>
            </a:prstGeom>
            <a:solidFill>
              <a:srgbClr val="99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2050200" y="3243960"/>
              <a:ext cx="268920" cy="106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76480" y="4022640"/>
              <a:ext cx="1311120" cy="28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19240" y="2909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90840" y="39006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38080" y="4324320"/>
              <a:ext cx="339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44800" y="2824200"/>
              <a:ext cx="0" cy="19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05040" y="34434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3389760" y="3260160"/>
              <a:ext cx="651600" cy="764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09880" y="358632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685800" y="14479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argeometrische Überlegungen zeig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8129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v + u,w) = F(v,w) + F(u,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23302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 ebens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265104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v,w + z) = F(v,w) + F(v,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295596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terh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32608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(v,sw) = sF(v,w) = F(sv,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356544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positive s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0896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ließli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539424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-v,w) = -F(v,w) = F(v,-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5128920" y="4255920"/>
            <a:ext cx="3710160" cy="2070360"/>
            <a:chOff x="5128920" y="4255920"/>
            <a:chExt cx="3710160" cy="2070360"/>
          </a:xfrm>
        </p:grpSpPr>
        <p:sp>
          <p:nvSpPr>
            <p:cNvPr id="87" name=""/>
            <p:cNvSpPr/>
            <p:nvPr/>
          </p:nvSpPr>
          <p:spPr>
            <a:xfrm rot="20903400">
              <a:off x="5206680" y="4892040"/>
              <a:ext cx="1806480" cy="959040"/>
            </a:xfrm>
            <a:prstGeom prst="parallelogram">
              <a:avLst>
                <a:gd name="adj" fmla="val 47091"/>
              </a:avLst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20903400">
              <a:off x="6552720" y="4612680"/>
              <a:ext cx="1806480" cy="959040"/>
            </a:xfrm>
            <a:prstGeom prst="parallelogram">
              <a:avLst>
                <a:gd name="adj" fmla="val 4709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6659640" y="4676400"/>
              <a:ext cx="269280" cy="106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6686640" y="5454360"/>
              <a:ext cx="1311120" cy="28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29400" y="43416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001000" y="53323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48240" y="5756040"/>
              <a:ext cx="339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654600" y="4255920"/>
              <a:ext cx="0" cy="19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5332320" y="5744520"/>
              <a:ext cx="1311120" cy="28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76840" y="592740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4479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sgesamt: F ist bilinear und alternierend, dh. F(v,w) = -F(w,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28600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her:  F(v,w) =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59092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 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 =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und 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weil F alternieren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9559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her gilt  F(v,w) = s(v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v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mit einer Konstanten s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341316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der Festlegung  F(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= 1 (Normierung von F, so dass das Ein-heitsquadrat den Flächeninhalt 1 erhält) wird diese Konstante zu 1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4175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(v,w) =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w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w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(vgl. §1) =: det(v,w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613320" y="1905120"/>
                <a:ext cx="19173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: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685800" y="46990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beiden Spaltenvektoren v,w lassen sich als die Spaltenvektoren von (2,2)-Matrizen A = (v,w) versteh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53085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sofern definiert  det  eine Abbil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540160" y="5664240"/>
                <a:ext cx="40636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: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x2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d-bc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724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obei  tr A := a + d 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pu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A)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60958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 übrigen ist  det  auch bilinear in den Zeilenvekto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14461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genschaften von  de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18288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6.1) Satz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A au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 baseline="38000">
                <a:solidFill>
                  <a:srgbClr val="000000"/>
                </a:solidFill>
                <a:latin typeface="Arial"/>
              </a:rPr>
              <a:t>2x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752480" y="2209680"/>
                <a:ext cx="232884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g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lls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752480" y="2514600"/>
                <a:ext cx="399096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g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lls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und  det A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752480" y="2819520"/>
                <a:ext cx="274176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g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ll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t A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6" name=""/>
          <p:cNvGrpSpPr/>
          <p:nvPr/>
        </p:nvGrpSpPr>
        <p:grpSpPr>
          <a:xfrm>
            <a:off x="685800" y="3124080"/>
            <a:ext cx="7924680" cy="398880"/>
            <a:chOff x="685800" y="3124080"/>
            <a:chExt cx="7924680" cy="398880"/>
          </a:xfrm>
        </p:grpSpPr>
        <p:sp>
          <p:nvSpPr>
            <p:cNvPr id="117" name=""/>
            <p:cNvSpPr/>
            <p:nvPr/>
          </p:nvSpPr>
          <p:spPr>
            <a:xfrm>
              <a:off x="685800" y="312408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26.2) Korollar: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ür A aus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38000">
                  <a:solidFill>
                    <a:srgbClr val="000000"/>
                  </a:solidFill>
                  <a:latin typeface="Arial"/>
                </a:rPr>
                <a:t>2x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4495680" y="3187800"/>
                  <a:ext cx="318780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invertierbar</m:t>
                      </m:r>
                      <m:r>
                        <m:t xml:space="preserve">⇔</m:t>
                      </m:r>
                      <m:r>
                        <m:rPr>
                          <m:lit/>
                          <m:nor/>
                        </m:rPr>
                        <m:t xml:space="preserve">det A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9" name=""/>
          <p:cNvSpPr/>
          <p:nvPr/>
        </p:nvSpPr>
        <p:spPr>
          <a:xfrm>
            <a:off x="685800" y="3489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6.3) Satz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A,B au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2000" spc="-1" strike="noStrike" baseline="38000">
                <a:solidFill>
                  <a:srgbClr val="000000"/>
                </a:solidFill>
                <a:latin typeface="Arial"/>
              </a:rPr>
              <a:t>2x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 det (AB) = (det A)(det B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38862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6.4) Satz von Cayley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A au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2000" spc="-1" strike="noStrike" baseline="38000">
                <a:solidFill>
                  <a:srgbClr val="000000"/>
                </a:solidFill>
                <a:latin typeface="Arial"/>
              </a:rPr>
              <a:t>2x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422520" y="4343400"/>
                <a:ext cx="234000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r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685800" y="5105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6.5) Satz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A,B,C au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 baseline="38000">
                <a:solidFill>
                  <a:srgbClr val="000000"/>
                </a:solidFill>
                <a:latin typeface="Arial"/>
              </a:rPr>
              <a:t>2x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54100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AB –BA)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(det(AB –BA))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57150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B –BA)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C(AB –BA)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2-01-22T20:21:18Z</dcterms:modified>
  <cp:revision>86</cp:revision>
  <dc:subject/>
  <dc:title>PowerPoint-Präsentation</dc:title>
</cp:coreProperties>
</file>