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B97E2B6-36CF-48DB-A1A6-0F42B0185C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V. Determin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34340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ierende F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e Gleichungs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6 Inhaltsmessung von Parallelog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46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soll die Einführung der Determinante über einen geometrischen Ansatz motiv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bene wird dur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äsentiert, ein Parallelogramm wird durch 2 Vektoren gege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971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eht um die Eigenschaften des Flächeninhalts von Parallelogrammen in der euklidischen Eb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4495680"/>
            <a:ext cx="3391200" cy="1914480"/>
            <a:chOff x="838080" y="4495680"/>
            <a:chExt cx="3391200" cy="1914480"/>
          </a:xfrm>
        </p:grpSpPr>
        <p:grpSp>
          <p:nvGrpSpPr>
            <p:cNvPr id="51" name=""/>
            <p:cNvGrpSpPr/>
            <p:nvPr/>
          </p:nvGrpSpPr>
          <p:grpSpPr>
            <a:xfrm>
              <a:off x="1865160" y="4681080"/>
              <a:ext cx="1962360" cy="1302840"/>
              <a:chOff x="1865160" y="4681080"/>
              <a:chExt cx="1962360" cy="1302840"/>
            </a:xfrm>
          </p:grpSpPr>
          <p:sp>
            <p:nvSpPr>
              <p:cNvPr id="52" name=""/>
              <p:cNvSpPr/>
              <p:nvPr/>
            </p:nvSpPr>
            <p:spPr>
              <a:xfrm rot="20903400">
                <a:off x="1942920" y="4852800"/>
                <a:ext cx="1806480" cy="959040"/>
              </a:xfrm>
              <a:prstGeom prst="parallelogram">
                <a:avLst>
                  <a:gd name="adj" fmla="val 4709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050200" y="4915800"/>
                <a:ext cx="2689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076840" y="5694480"/>
                <a:ext cx="1310760" cy="2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019240" y="4581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90840" y="5572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599616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4800" y="449568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5040" y="5114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95680" y="41752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bezeichnen mit F(v,w)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ä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dem von v und w aufgespannten Parallelogramm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50896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ei soll 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rich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n, insofern, als F(v,w) = -F(w,v)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69916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: F(v,w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itiv, wen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m Gegenuhrzeigersi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2209320"/>
            <a:ext cx="3895200" cy="2529360"/>
            <a:chOff x="838080" y="2209320"/>
            <a:chExt cx="3895200" cy="2529360"/>
          </a:xfrm>
        </p:grpSpPr>
        <p:sp>
          <p:nvSpPr>
            <p:cNvPr id="65" name=""/>
            <p:cNvSpPr/>
            <p:nvPr/>
          </p:nvSpPr>
          <p:spPr>
            <a:xfrm flipV="1">
              <a:off x="3633840" y="2209320"/>
              <a:ext cx="730080" cy="8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903400">
              <a:off x="1942920" y="318096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953600">
              <a:off x="1676520" y="2868480"/>
              <a:ext cx="3044880" cy="793800"/>
            </a:xfrm>
            <a:prstGeom prst="parallelogram">
              <a:avLst>
                <a:gd name="adj" fmla="val 95896"/>
              </a:avLst>
            </a:prstGeom>
            <a:solidFill>
              <a:srgbClr val="99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50200" y="3243960"/>
              <a:ext cx="268920" cy="106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76480" y="402264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19240" y="29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90840" y="39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4324320"/>
              <a:ext cx="339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4800" y="282420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5040" y="3443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89760" y="3260160"/>
              <a:ext cx="651600" cy="76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86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argeometrische Überlegungen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 + u,w) = F(v,w) + F(u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3302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eben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6510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v,w + z) = F(v,w) + F(v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h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260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sw) = sF(v,w) = F(sv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35654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positive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896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ieß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3942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-v,w) = -F(v,w) = F(v,-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128920" y="4255920"/>
            <a:ext cx="3710160" cy="2070360"/>
            <a:chOff x="5128920" y="4255920"/>
            <a:chExt cx="3710160" cy="2070360"/>
          </a:xfrm>
        </p:grpSpPr>
        <p:sp>
          <p:nvSpPr>
            <p:cNvPr id="87" name=""/>
            <p:cNvSpPr/>
            <p:nvPr/>
          </p:nvSpPr>
          <p:spPr>
            <a:xfrm rot="20903400">
              <a:off x="5206680" y="489204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903400">
              <a:off x="6552720" y="4612680"/>
              <a:ext cx="1806480" cy="959040"/>
            </a:xfrm>
            <a:prstGeom prst="parallelogram">
              <a:avLst>
                <a:gd name="adj" fmla="val 4709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59640" y="4676400"/>
              <a:ext cx="269280" cy="106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686640" y="545436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400" y="4341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5332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48240" y="5756040"/>
              <a:ext cx="33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54600" y="4255920"/>
              <a:ext cx="0" cy="19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332320" y="5744520"/>
              <a:ext cx="131112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76840" y="5927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gesamt: F ist bilinear und alternierend, dh. F(v,w) = -F(w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:  F(v,w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5909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eil F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955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her gilt  F(v,w) = s(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v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mit einer Konstanten 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13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Festlegung  F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1 (Normierung von F, so dass das Ein-heitsquadrat den Flächeninhalt 1 erhält) wird diese Konstante zu 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7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(v,w)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w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(vgl. §1) =: det(v,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13320" y="1905120"/>
                <a:ext cx="1917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4699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den Spaltenvektoren v,w lassen sich als die Spaltenvektoren von (2,2)-Matrizen A = (v,w) versteh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308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ofern definiert  det 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40160" y="5664240"/>
                <a:ext cx="406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-b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bei  tr A := a + d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095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übrigen ist  det  auch bilinear in den Zeilenvekto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schaften von  de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209680"/>
                <a:ext cx="23288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2480" y="2514600"/>
                <a:ext cx="3990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 det 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52480" y="281952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l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t 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685800" y="3124080"/>
            <a:ext cx="7924680" cy="398880"/>
            <a:chOff x="685800" y="3124080"/>
            <a:chExt cx="7924680" cy="398880"/>
          </a:xfrm>
        </p:grpSpPr>
        <p:sp>
          <p:nvSpPr>
            <p:cNvPr id="117" name=""/>
            <p:cNvSpPr/>
            <p:nvPr/>
          </p:nvSpPr>
          <p:spPr>
            <a:xfrm>
              <a:off x="685800" y="31240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6.2) Korollar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ür A au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38000">
                  <a:solidFill>
                    <a:srgbClr val="000000"/>
                  </a:solidFill>
                  <a:latin typeface="Arial"/>
                </a:rPr>
                <a:t>2x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495680" y="3187800"/>
                  <a:ext cx="31878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bar</m:t>
                      </m:r>
                      <m:r>
                        <m:t xml:space="preserve">⇔</m:t>
                      </m:r>
                      <m:r>
                        <m:rPr>
                          <m:lit/>
                          <m:nor/>
                        </m:rPr>
                        <m:t xml:space="preserve">det 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3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,B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det (AB) = (det A)(det 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6.4) Satz von Cayley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2520" y="4343400"/>
                <a:ext cx="2340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5105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6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,B,C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2x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410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(det(AB –BA))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715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(AB –BA)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2T20:21:18Z</dcterms:modified>
  <cp:revision>86</cp:revision>
  <dc:subject/>
  <dc:title>PowerPoint-Präsentation</dc:title>
</cp:coreProperties>
</file>