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92A45146-36DE-45F0-81B9-BFD1D070742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2860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kanntlich ist ein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inearfo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uf einem K-Vektorraum  V  eine lineare Abbildung  f  von V nach  K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4495680"/>
            <a:ext cx="77724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5.1) Lemma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i  V  K-Vektorraum mit der geordneten Basis  b = (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§ 25 Bilinearformen und spezielle Koordin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2860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 beginnen m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earform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26088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 erstes wollen wir feststellen, dass Linearformen auf einem endlichdimensionalen K-Vektorraumes  V  sich – nach Festlegung einer geordneten Basis  b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8908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Dualrau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Hom(V,K) wird auch mit  V* = Hom(V,K) bezeichn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585144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bei der letzte Term das Matrixprodukt von Y aus K</a:t>
            </a:r>
            <a:r>
              <a:rPr b="1" lang="en-US" sz="2000" spc="-1" strike="noStrike" baseline="38000">
                <a:solidFill>
                  <a:srgbClr val="000000"/>
                </a:solidFill>
                <a:latin typeface="Arial"/>
              </a:rPr>
              <a:t>1x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t X aus K</a:t>
            </a:r>
            <a:r>
              <a:rPr b="1" lang="en-US" sz="2000" spc="-1" strike="noStrike" baseline="38000">
                <a:solidFill>
                  <a:srgbClr val="000000"/>
                </a:solidFill>
                <a:latin typeface="Arial"/>
              </a:rPr>
              <a:t>nx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zeichn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4800600"/>
            <a:ext cx="77724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 f  aus  V*  sei  Y  der Zeilenvektor mit den Komponenten Y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= f(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 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. Y ist (1,n)-Matrix und es gi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655720" y="5494320"/>
                <a:ext cx="38325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YX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685800" y="387036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tels des Produkts von Zeilenvektor mit Spaltenvektor beschreiben lass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85800" y="1447920"/>
            <a:ext cx="7848720" cy="712800"/>
            <a:chOff x="685800" y="1447920"/>
            <a:chExt cx="7848720" cy="712800"/>
          </a:xfrm>
        </p:grpSpPr>
        <p:sp>
          <p:nvSpPr>
            <p:cNvPr id="156" name=""/>
            <p:cNvSpPr/>
            <p:nvPr/>
          </p:nvSpPr>
          <p:spPr>
            <a:xfrm>
              <a:off x="685800" y="1447920"/>
              <a:ext cx="7848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Zu einem weiteren Orthonormalsystem d findet man wie zuvor eine Transformationsmatrix B aus 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r>
                <a:rPr b="1" lang="de-DE" sz="2000" spc="-1" strike="noStrike" baseline="38000">
                  <a:solidFill>
                    <a:srgbClr val="000000"/>
                  </a:solidFill>
                  <a:latin typeface="Arial"/>
                  <a:ea typeface="Arial"/>
                </a:rPr>
                <a:t>nxn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t                   A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5105520" y="1757520"/>
                  <a:ext cx="119052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ν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ν</m:t>
                          </m:r>
                        </m:sub>
                        <m:sup>
                          <m:r>
                            <m:t xml:space="preserve">μ</m:t>
                          </m:r>
                        </m:sup>
                      </m:sSubSup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μ</m:t>
                          </m:r>
                        </m:sub>
                      </m:sSub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371600" y="2155680"/>
                <a:ext cx="64990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μν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μ</m:t>
                        </m:r>
                      </m:sub>
                      <m:sup>
                        <m:r>
                          <m:t xml:space="preserve">λ</m:t>
                        </m:r>
                      </m:sup>
                    </m:sSubSup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,B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κ</m:t>
                        </m:r>
                      </m:sup>
                    </m:sSubSup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κ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μ</m:t>
                        </m:r>
                      </m:sub>
                      <m:sup>
                        <m:r>
                          <m:t xml:space="preserve">λ</m:t>
                        </m:r>
                      </m:sup>
                    </m:sSubSup>
                    <m:r>
                      <m:t xml:space="preserve">σ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d</m:t>
                        </m:r>
                      </m:e>
                      <m:sub>
                        <m:r>
                          <m:t xml:space="preserve">κ</m:t>
                        </m:r>
                      </m:sub>
                    </m:sSub>
                    <m:r>
                      <m:t xml:space="preserve">)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κ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σ</m:t>
                    </m:r>
                    <m:r>
                      <m:t xml:space="preserve"> </m:t>
                    </m:r>
                    <m:r>
                      <m:t xml:space="preserve">B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μν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9" name=""/>
          <p:cNvGrpSpPr/>
          <p:nvPr/>
        </p:nvGrpSpPr>
        <p:grpSpPr>
          <a:xfrm>
            <a:off x="685800" y="2575080"/>
            <a:ext cx="7848720" cy="398880"/>
            <a:chOff x="685800" y="2575080"/>
            <a:chExt cx="7848720" cy="398880"/>
          </a:xfrm>
        </p:grpSpPr>
        <p:sp>
          <p:nvSpPr>
            <p:cNvPr id="160" name=""/>
            <p:cNvSpPr/>
            <p:nvPr/>
          </p:nvSpPr>
          <p:spPr>
            <a:xfrm>
              <a:off x="685800" y="2575080"/>
              <a:ext cx="784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rgibt sich  σ = B</a:t>
              </a:r>
              <a:r>
                <a:rPr b="0" lang="de-DE" sz="2000" spc="-1" strike="noStrike" baseline="38000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σB  für die Matri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4952880" y="2575080"/>
                  <a:ext cx="1268640" cy="3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r>
                        <m:t xml:space="preserve">δ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δ</m:t>
                          </m:r>
                        </m:e>
                        <m:sup>
                          <m:r>
                            <m:t xml:space="preserve">p</m:t>
                          </m:r>
                        </m:sup>
                      </m:sSup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2" name=""/>
          <p:cNvSpPr/>
          <p:nvPr/>
        </p:nvSpPr>
        <p:spPr>
          <a:xfrm>
            <a:off x="685800" y="35798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σ(X,Y) = σ(f(X),f(Y))  gi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296856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5.12) Definitio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lineare Abbildung f aus Hom(V,V) heiß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nvaria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züglich der Bilinearfor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 , wenn für alle X,Y aus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055960" y="6110280"/>
                <a:ext cx="50338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×</m:t>
                            </m:r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:</m:t>
                        </m:r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t xml:space="preserve">A</m:t>
                        </m:r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685800" y="38685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ie σ-invarianten linearen Abbildungen sind automatisch bijekti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418932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Wenn die Matrix A au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de-DE" sz="2000" spc="-1" strike="noStrike" baseline="38000">
                <a:solidFill>
                  <a:srgbClr val="000000"/>
                </a:solidFill>
                <a:latin typeface="Arial"/>
                <a:ea typeface="Arial"/>
              </a:rPr>
              <a:t>nx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ie Abbildung darstellt bezüglich der Basis b, so bedeutet die Invarianz wege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(X,Y) = X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Y  und σ(f(X),f(Y)) = σ(AX,AY) = X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51037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rade σ = A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A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54529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5.13) Satz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thonormalbasen werden durch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-invariante Abbildungen ineinander transformiert. Die Menge der Matriz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4461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schreibt diese Transformationen, parametrisiert also die Orthonormalbas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21337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(p,q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ist eine Gruppe, di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thogonale Grup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438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(n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= O(n,0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ist di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thogonale Grup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27432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(3,1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oder O(1,3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ist di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rentzgrup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320040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uklidischer Raum ist bekanntlich (siehe 11.7) ein affiner Raum (A,V,g) üb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sammen mit einem euklidischen Skalarprodukt auf de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Vektorraum V der Translation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411480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5.14) Definitio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kartesisches Koordinatensyste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s euklidischen Raumes ist ein affines Bezugssystem O,b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wobei b Orthonormalsystem i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501336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5.15) Satz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Transformationen, die die kartesischen Koordina-tensysteme ineinander überführen sind genau die Transformationen der Form  T = B + w , mit B aus O(n,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und w au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2000" spc="-1" strike="noStrike" baseline="38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59277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e bilden eine Gruppe, die sogenann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uklidische Grup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E(n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21337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ur Komposition in  E(n) : Die euklidischen Transformationen sind Paare  (B,w) , die man auch als Blockmatriz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4479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ie euklidische Gruppe E(4) ist eine wichtige Untergruppe d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alileigrup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, der Invarianzgruppe der klassischen Mechani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145040" y="2882880"/>
                <a:ext cx="8557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w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685800" y="342900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rstellen kann. Die Gruppenoperation schreibt sich dann als Matrixproduk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44956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se Notation gibt natürlich auch schon für die im letzten Paragrafen eingeführte affine Gruppe Sin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855880" y="3962520"/>
                <a:ext cx="34354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v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w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w</m:t>
                              </m:r>
                              <m:r>
                                <m:t xml:space="preserve">+</m:t>
                              </m:r>
                              <m:r>
                                <m:t xml:space="preserve">v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685800" y="480060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e auch für die Lorentzkoordinaten, die durch die affine Version der Lorentzgruppe parametrisier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57913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merku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Orientierungserhaltende Transformationen werden später behande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217600" y="2482920"/>
                <a:ext cx="47484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sSup>
                      <m:e>
                        <m:r>
                          <m:t xml:space="preserve">∗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sSup>
                      <m:e>
                        <m:r>
                          <m:t xml:space="preserve">∗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ls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685800" y="1446120"/>
            <a:ext cx="78487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se Beschreibung der Linearformen entspricht der Festlegung einer geordneten Basis b* auf V* in der Weise, dass f aus V* die Komponenten Y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f(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bezüglich der Basis b* ha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125360" y="2873520"/>
                <a:ext cx="69548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b</m:t>
                    </m:r>
                    <m:sSup>
                      <m:e>
                        <m:r>
                          <m:t xml:space="preserve">∗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egen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b</m:t>
                    </m:r>
                    <m:sSup>
                      <m:e>
                        <m:r>
                          <m:t xml:space="preserve">∗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685800" y="40226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ere Schreibwei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444760" y="5105520"/>
                <a:ext cx="4276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</m:d>
                    <m:r>
                      <m:t xml:space="preserve">:</m:t>
                    </m:r>
                    <m:r>
                      <m:t xml:space="preserve">V</m:t>
                    </m:r>
                    <m:r>
                      <m:t xml:space="preserve">∗</m:t>
                    </m:r>
                    <m:r>
                      <m:t xml:space="preserve">V</m:t>
                    </m:r>
                    <m:r>
                      <m:t xml:space="preserve">→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↦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685800" y="44038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5.2) Definiti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er 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türlichen Paaru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wischen V und V* versteht man die Abbild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85800" y="5470560"/>
            <a:ext cx="7848720" cy="473040"/>
            <a:chOff x="685800" y="5470560"/>
            <a:chExt cx="7848720" cy="473040"/>
          </a:xfrm>
        </p:grpSpPr>
        <p:sp>
          <p:nvSpPr>
            <p:cNvPr id="62" name=""/>
            <p:cNvSpPr/>
            <p:nvPr/>
          </p:nvSpPr>
          <p:spPr>
            <a:xfrm>
              <a:off x="685800" y="5470560"/>
              <a:ext cx="784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mit is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905120" y="5479920"/>
                  <a:ext cx="4908600" cy="46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⟨"/>
                          <m:endChr m:val="⟩"/>
                        </m:dPr>
                        <m:e>
                          <m:r>
                            <m:t xml:space="preserve">b</m:t>
                          </m:r>
                          <m:sSup>
                            <m:e>
                              <m:r>
                                <m:t xml:space="preserve">∗</m:t>
                              </m:r>
                            </m:e>
                            <m:sup>
                              <m:r>
                                <m:t xml:space="preserve">μ</m:t>
                              </m:r>
                            </m:sup>
                          </m:sSup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ν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sSubSup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ν</m:t>
                          </m:r>
                        </m:sub>
                        <m:sup>
                          <m:r>
                            <m:t xml:space="preserve">μ</m:t>
                          </m:r>
                        </m:sup>
                      </m:sSubSup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und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⟨"/>
                          <m:endChr m:val="⟩"/>
                        </m:dPr>
                        <m:e>
                          <m:r>
                            <m:t xml:space="preserve">f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ν</m:t>
                              </m:r>
                            </m:sub>
                          </m:sSub>
                        </m:e>
                      </m:d>
                      <m:r>
                        <m:t xml:space="preserve">b</m:t>
                      </m:r>
                      <m:sSup>
                        <m:e>
                          <m:r>
                            <m:t xml:space="preserve">∗</m:t>
                          </m:r>
                        </m:e>
                        <m:sup>
                          <m:r>
                            <m:t xml:space="preserve">ν</m:t>
                          </m:r>
                        </m:sup>
                      </m:sSup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für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∈</m:t>
                      </m:r>
                      <m:r>
                        <m:t xml:space="preserve">V</m:t>
                      </m:r>
                      <m:r>
                        <m:t xml:space="preserve">∗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819000" y="3276720"/>
                <a:ext cx="73152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sSup>
                      <m:e>
                        <m:r>
                          <m:t xml:space="preserve">∗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an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l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i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rPr>
                        <m:lit/>
                        <m:nor/>
                      </m:rPr>
                      <m:t xml:space="preserve">ojektio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on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u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ie</m:t>
                    </m:r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e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685800" y="35654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mponente aufgefass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25146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 geht aus von einer „Parametrisierung“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3368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s Bereiches  U  durch die Parameter  q = (q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q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 aus  Q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4479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5.3) Definiti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* = (b*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b*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 ,b*</a:t>
            </a:r>
            <a:r>
              <a:rPr b="0" lang="en-US" sz="2000" spc="-1" strike="noStrike" baseline="38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heißt di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ale Ba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u b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81296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nwei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eometrie und Physik ergeben sich Basen mit zugehöriger dualer Basis auf folgende Wei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479760" y="2903400"/>
                <a:ext cx="22068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:</m:t>
                    </m:r>
                    <m:r>
                      <m:t xml:space="preserve">Q</m:t>
                    </m:r>
                    <m:r>
                      <m:t xml:space="preserve">→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⊂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685800" y="36417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n lief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379680" y="3835440"/>
                <a:ext cx="24559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ν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ν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2,</m:t>
                    </m:r>
                    <m:r>
                      <m:t xml:space="preserve">…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462480" y="4960800"/>
                <a:ext cx="225576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ν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685800" y="55468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d die duale Basis gegeb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45543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e Basis des „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ngentialrau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. Durch die „1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m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60040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un zu den Bilinearform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2701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dass für alle w aus V die beiden Abbild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51055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uadriken sind verallgemeinert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Kegelschnit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 Sie lassen sich entsprechende auf affinen Räumen definier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35053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zugehörig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uadratische Fo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t  q(v) :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σ(v,v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4479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5.4) Definitio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Bilinearfor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f einem K-Vektorraum V ist eine Abbil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733920" y="1992240"/>
                <a:ext cx="167328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:</m:t>
                    </m:r>
                    <m:r>
                      <m:t xml:space="preserve">V</m:t>
                    </m:r>
                    <m:r>
                      <m:t xml:space="preserve">×</m:t>
                    </m:r>
                    <m:r>
                      <m:t xml:space="preserve">V</m:t>
                    </m:r>
                    <m:r>
                      <m:t xml:space="preserve">→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884320" y="2666880"/>
                <a:ext cx="337212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V</m:t>
                    </m:r>
                    <m:r>
                      <m:t xml:space="preserve">→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↦</m:t>
                    </m:r>
                    <m:r>
                      <m:t xml:space="preserve">σ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895480" y="2982960"/>
                <a:ext cx="337032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V</m:t>
                    </m:r>
                    <m:r>
                      <m:t xml:space="preserve">→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↦</m:t>
                    </m:r>
                    <m:r>
                      <m:t xml:space="preserve">σ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685800" y="32004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formen si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57754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den wesentlichen Aufgabe der affinen Geometrie gehört di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Klassifikation der Quadrik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ihre einfache Beschreibu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81636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Nullstellengebilde von q ist dann ein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Quadri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q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0) . Eine allgemein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Quadri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n K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 definiert 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933640" y="4470480"/>
                <a:ext cx="327348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: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685800" y="47847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bei q quadratische Form, f Linearform und c Konstante aus 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82880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züglich einer geordneten Basis b von V hat eine Bilinearfor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 stets die Darstel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451240" y="2422440"/>
                <a:ext cx="43876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μν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685800" y="4114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mgekehrt definiert jede (n,n)-Matrix eine Bilinearfo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85800" y="2741760"/>
            <a:ext cx="7848720" cy="404640"/>
            <a:chOff x="685800" y="2741760"/>
            <a:chExt cx="7848720" cy="404640"/>
          </a:xfrm>
        </p:grpSpPr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5745240" y="2801880"/>
                  <a:ext cx="164628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μν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7" name=""/>
            <p:cNvSpPr/>
            <p:nvPr/>
          </p:nvSpPr>
          <p:spPr>
            <a:xfrm>
              <a:off x="685800" y="2741760"/>
              <a:ext cx="784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it einer eindeutig bestimmten (n,n)-Matrix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685800" y="14461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chtig ist hier die Relation von Bilinearformen zu Skalarproduk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3505320"/>
            <a:ext cx="7848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5.5) Definitio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Matrix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b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heißt di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undamentalmatrix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 in Bezug auf b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44863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hne Bezug auf eine Basis definiert eine Bilinearfor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tets eine lineare Abbild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816280" y="5121360"/>
                <a:ext cx="35859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σ</m:t>
                        </m:r>
                      </m:e>
                    </m:acc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→</m:t>
                    </m:r>
                    <m:r>
                      <m:t xml:space="preserve">V</m:t>
                    </m:r>
                    <m:r>
                      <m:t xml:space="preserve">∗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↦</m:t>
                    </m:r>
                    <m:r>
                      <m:t xml:space="preserve">σ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: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σ</m:t>
                        </m:r>
                      </m:e>
                    </m:acc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685800" y="54007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se hat bezüglich einer geordneten Basis b und der dualen Basis b* die Matrixdarstellung durch die Fundamentalmatrix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968480" y="6102360"/>
                <a:ext cx="52862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σ</m:t>
                        </m:r>
                      </m:e>
                    </m:acc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σ</m:t>
                        </m:r>
                      </m:e>
                    </m:acc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μν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  <m:r>
                      <m:t xml:space="preserve">b</m:t>
                    </m:r>
                    <m:sSup>
                      <m:e>
                        <m:r>
                          <m:t xml:space="preserve">∗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77960" y="3132000"/>
                <a:ext cx="64944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lso</m:t>
                    </m:r>
                    <m:r>
                      <m:t xml:space="preserve"> </m:t>
                    </m:r>
                    <m:r>
                      <m:t xml:space="preserve">σ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b>
                    </m:sSub>
                    <m:r>
                      <m:t xml:space="preserve">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l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trixmultiplikatio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34146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halb gi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5800" y="1752480"/>
            <a:ext cx="7848720" cy="745560"/>
            <a:chOff x="685800" y="1752480"/>
            <a:chExt cx="7848720" cy="745560"/>
          </a:xfrm>
        </p:grpSpPr>
        <p:sp>
          <p:nvSpPr>
            <p:cNvPr id="108" name=""/>
            <p:cNvSpPr/>
            <p:nvPr/>
          </p:nvSpPr>
          <p:spPr>
            <a:xfrm>
              <a:off x="685800" y="1752480"/>
              <a:ext cx="784872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Der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Nullraum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t  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:= {v aus V : σ(  ,v) = 0} , also der Kern v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1905120" y="2125800"/>
                  <a:ext cx="422280" cy="28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σ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743200" y="3098880"/>
                <a:ext cx="262908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g</m:t>
                    </m:r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im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g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σ</m:t>
                        </m:r>
                      </m:e>
                    </m:acc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200400" y="3506760"/>
                <a:ext cx="27273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ich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usgeartet</m:t>
                        </m:r>
                      </m:e>
                      <m:e>
                        <m:r>
                          <m:t xml:space="preserve">⇔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⇔</m:t>
                        </m:r>
                        <m:r>
                          <m:rPr>
                            <m:lit/>
                            <m:nor/>
                          </m:rPr>
                          <m:t xml:space="preserve">Ker</m:t>
                        </m:r>
                        <m:r>
                          <m:t xml:space="preserve"> 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⇔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omorphismu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685800" y="23623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Ra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r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 ist der Rang der Fundamentalmatri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3032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ensichtlich 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5091120"/>
            <a:ext cx="78487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inner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(Vgl. 11.2)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kalarproduk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f einem reellen Vektorraum V ist eine symmetrische Bilinearfor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 , zu der es eine Zerlegung von V der Form  V =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+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gibt mi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4461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5.6) Definitio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i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 ein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linearfor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uf V , dimV = n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6668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 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nicht ausgearte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, wen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 = 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4197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Bilinearfor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 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ymmetrisc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, wenn stets σ(v,w) = σ(w,v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6080040"/>
            <a:ext cx="784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σ(v,v) &gt; 0  für v aus 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\{0} und  σ(v,v) &lt; 0  für v aus 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\{0}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4724280"/>
            <a:ext cx="784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 ist daher symmetrisch, wenn σ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= σ für die Matrix σ = σ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4461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nächste Satz klärt, welche Bilinearformen Skalarprodukte si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789200" y="4102200"/>
                <a:ext cx="56023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ür 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ν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rg</m:t>
                    </m:r>
                    <m:r>
                      <m:t xml:space="preserve">σ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und 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ür  rg</m:t>
                    </m:r>
                    <m:r>
                      <m:t xml:space="preserve">σ</m:t>
                    </m:r>
                    <m:r>
                      <m:t xml:space="preserve">&lt;</m:t>
                    </m:r>
                    <m:r>
                      <m:t xml:space="preserve">ν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685800" y="2411280"/>
            <a:ext cx="78487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nn existieren eine geordnete Basis  d = (d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d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d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von V und Elemente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K, so dass die Fundamental-matrix von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 in Bezug auf d die Gestalt  diag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 ha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336840"/>
            <a:ext cx="784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bei ist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iag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die Matrix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81116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5.7) Satz: (Hauptachsentransformation, schwache Form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i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 eine symmetrisch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linearfor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uf V , dimV = n , und sei charK &gt; 2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525780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 ist genau dann Skalarprodukt, wenn σ nicht ausge-artet ist. Die Wahl von d und s kann so getroffen werden, das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36576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und s können so gewählt werden, dass  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49528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5.8) Korollar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i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 symmetrisch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linearfor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uf V , dimV = n , und sei K =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119320" y="6019920"/>
                <a:ext cx="49323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ür 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ν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und 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-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ür  </m:t>
                    </m:r>
                    <m:r>
                      <m:t xml:space="preserve">j</m:t>
                    </m:r>
                    <m:r>
                      <m:t xml:space="preserve">&lt;</m:t>
                    </m:r>
                    <m:r>
                      <m:t xml:space="preserve">ν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685800" y="44197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weis durch Induktion nach n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0120" y="1143000"/>
            <a:ext cx="99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3.01.02 </a:t>
            </a:r>
            <a:r>
              <a:rPr b="0" lang="en-US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4461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 = j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σ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eißt 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σ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2743200"/>
            <a:ext cx="784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von Null verschiedenen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können alle als 1 gewähl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21337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5.9) Korollar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i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 eine symmetrisch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linearfor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uf V , dimV = n , und sei K =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49528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bei ist r = r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318456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5.10) Klassifikation der Quadrike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 dem Körp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K der reellen Zahlen haben die quadratischen Formen bei geeigneter Koordinatenwahl die folgend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Normalform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306440" y="4191120"/>
                <a:ext cx="653112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…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 </m:t>
                    </m:r>
                    <m:m>
                      <m:mr>
                        <m:e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1</m:t>
                          </m:r>
                        </m:e>
                      </m:mr>
                      <m:mr>
                        <m:e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X</m:t>
                              </m:r>
                            </m:e>
                            <m:sup>
                              <m:r>
                                <m:t xml:space="preserve">r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685800" y="17524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m Falle j(σ) = n handelt es sich um ein euklidisches Skalarproduk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56386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r kommen abschließend zur Beschreibung vo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peziellen Koor-dinaten und Bezugssystem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it ihrem Transformationsverhal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0120" y="5181480"/>
            <a:ext cx="99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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1.01.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4461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den Rest des Paragrafen sei K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7524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d es sei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 ein Skalarprodukt auf dem n-dimensional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-Vektorraum V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1399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 = diag(1,1, ... , 1,–1, ... , –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452680"/>
            <a:ext cx="7848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ufgrund der vorangehenden Resultate gibt es eine geordnete basis b von V , für die die Fundamentalmatrix σ = σ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die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352116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at, - mit p = j(σ) Einträgen gleich 1 und n – p Einträgen gleich –1 in der Diagonal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57754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Wie kann man die Menge aller Orthonormalsysteme beschreib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420696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5.11) Definitio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solche Basis 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Orthonormalsyste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züglich des Skalarprodukts. Es gi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693960" y="4929120"/>
                <a:ext cx="18352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±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μν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1" name=""/>
          <p:cNvGrpSpPr/>
          <p:nvPr/>
        </p:nvGrpSpPr>
        <p:grpSpPr>
          <a:xfrm>
            <a:off x="685800" y="5273640"/>
            <a:ext cx="8077320" cy="398880"/>
            <a:chOff x="685800" y="5273640"/>
            <a:chExt cx="8077320" cy="398880"/>
          </a:xfrm>
        </p:grpSpPr>
        <p:sp>
          <p:nvSpPr>
            <p:cNvPr id="152" name=""/>
            <p:cNvSpPr/>
            <p:nvPr/>
          </p:nvSpPr>
          <p:spPr>
            <a:xfrm>
              <a:off x="685800" y="5273640"/>
              <a:ext cx="80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r schreiben deshalb auch                    für diese Fundamentalmatrix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4016520" y="5273640"/>
                  <a:ext cx="1218960" cy="37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oder</m:t>
                      </m:r>
                      <m:r>
                        <m:t xml:space="preserve"> </m:t>
                      </m:r>
                      <m:sSup>
                        <m:e>
                          <m:r>
                            <m:t xml:space="preserve">δ</m:t>
                          </m:r>
                        </m:e>
                        <m:sup>
                          <m:r>
                            <m:t xml:space="preserve">p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2-01-21T18:18:03Z</dcterms:modified>
  <cp:revision>85</cp:revision>
  <dc:subject/>
  <dc:title>PowerPoint-Präsentation</dc:title>
</cp:coreProperties>
</file>