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D4DD0B49-3B36-45C9-8F73-55951FA15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3005280"/>
            <a:ext cx="441972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21 Das Produkt von Matriz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1.1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eine (m,n)-Matrix A und eine (n,s)-Matrix B ist das (Matrizen-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k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B definiert 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6991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1.2) Regel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e folgenden Regeln ergeben sich unmittelbar durch Einsetz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7018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Matrix C = AB ist also die (m,s)-Matrix mit den Koeffizi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193920" y="3043080"/>
                <a:ext cx="28274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sSubSup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σ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σ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ν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</m:sSubSup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σ</m:t>
                            </m:r>
                          </m:sub>
                          <m:sup>
                            <m:r>
                              <m:t xml:space="preserve">ν</m:t>
                            </m:r>
                          </m:sup>
                        </m:sSub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925800" y="4191120"/>
                <a:ext cx="1290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σ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σ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685800" y="47242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ch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ltenanzah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hier n )von A muss mit 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eilenan-zah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B übereinstimmen, damit das Produkt überhaupt gebildet werden ka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446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(AB) = (tA)B = A(t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31082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ch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m Allgemeinen gilt nicht AB = BA . Zum Beispie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7524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(B + C) = AB + 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20415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+ B)C = AC + 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6510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3464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(BC) = (AB)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048120" y="3530520"/>
                <a:ext cx="27558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921040" y="4216320"/>
                <a:ext cx="30099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685800" y="4876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101680" y="4978440"/>
                <a:ext cx="46738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: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,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85800" y="5562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1.3) Lineare Abbildungen als Matrizenproduk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s dem vorletzten Paragrafen ist bekannt, dass sich jede lineare Ab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797280" y="1446120"/>
                <a:ext cx="1257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6" name=""/>
          <p:cNvGrpSpPr/>
          <p:nvPr/>
        </p:nvGrpSpPr>
        <p:grpSpPr>
          <a:xfrm>
            <a:off x="685800" y="4484520"/>
            <a:ext cx="8001000" cy="410040"/>
            <a:chOff x="685800" y="4484520"/>
            <a:chExt cx="8001000" cy="410040"/>
          </a:xfrm>
        </p:grpSpPr>
        <p:sp>
          <p:nvSpPr>
            <p:cNvPr id="67" name=""/>
            <p:cNvSpPr/>
            <p:nvPr/>
          </p:nvSpPr>
          <p:spPr>
            <a:xfrm>
              <a:off x="685800" y="4495680"/>
              <a:ext cx="80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t daher Y = f(X) als Spaltenvektor in K</a:t>
              </a:r>
              <a:r>
                <a:rPr b="1" lang="en-US" sz="2000" spc="-1" strike="noStrike" baseline="36000">
                  <a:solidFill>
                    <a:srgbClr val="000000"/>
                  </a:solidFill>
                  <a:latin typeface="Arial"/>
                </a:rPr>
                <a:t>mx1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–                                 -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5867280" y="4484520"/>
                  <a:ext cx="2054520" cy="3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wegen</m:t>
                      </m:r>
                      <m:r>
                        <m:t xml:space="preserve"> </m:t>
                      </m:r>
                      <m:sSup>
                        <m:e>
                          <m:r>
                            <m:t xml:space="preserve">Y</m:t>
                          </m:r>
                        </m:e>
                        <m:sup>
                          <m:r>
                            <m:t xml:space="preserve">μ</m:t>
                          </m:r>
                        </m:sup>
                      </m:sSup>
                      <m:r>
                        <m:t xml:space="preserve">=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ν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"/>
          <p:cNvSpPr/>
          <p:nvPr/>
        </p:nvSpPr>
        <p:spPr>
          <a:xfrm>
            <a:off x="685800" y="55627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1.4) Komposition und Matrizenprodukt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züglich der Standard-einheitsbasen in 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nx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m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mx1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d 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sx1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efert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8288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züglich der Standardbasen durch die Matrix A 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720880" y="2209680"/>
                <a:ext cx="3433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st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685800" y="2575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deutig darstellen läs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85800" y="2879640"/>
            <a:ext cx="8001000" cy="703800"/>
            <a:chOff x="685800" y="2879640"/>
            <a:chExt cx="8001000" cy="703800"/>
          </a:xfrm>
        </p:grpSpPr>
        <p:sp>
          <p:nvSpPr>
            <p:cNvPr id="74" name=""/>
            <p:cNvSpPr/>
            <p:nvPr/>
          </p:nvSpPr>
          <p:spPr>
            <a:xfrm>
              <a:off x="685800" y="287964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ür den Vektor                   als Spaltenvektor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590920" y="2906640"/>
                  <a:ext cx="116496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ν</m:t>
                          </m:r>
                        </m:sup>
                      </m:sSup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270240" y="3276720"/>
                <a:ext cx="22795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x1</m:t>
                        </m:r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85800" y="4838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der Form  Y = AX als Matrizenprodukt  AX  der (m,n)-Matrix A mit der (n,1)-Matrix X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527832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4.01.02 </a:t>
            </a: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4894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i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Matrizen beschreiben die linearen Abbildungen (§19), ihre Wirkung wird durch das Produkt  AX  gegeben (21.3) und die Komposition durch  AB (21.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48769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1.5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  K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geb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ein K-Vektorraum  R zusammen mit einer Multiplikat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4479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e (m,n)-Matrix A die lineare Abbildung f = f(A) von K</a:t>
            </a:r>
            <a:r>
              <a:rPr b="1" lang="en-US" sz="2000" spc="-1" strike="noStrike" baseline="36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 K</a:t>
            </a:r>
            <a:r>
              <a:rPr b="1" lang="en-US" sz="2000" spc="-1" strike="noStrike" baseline="36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eine (n,s)-Matrix B die lineare Abbildung g = f(B) von K</a:t>
            </a:r>
            <a:r>
              <a:rPr b="1" lang="en-US" sz="2000" spc="-1" strike="noStrike" baseline="36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ch K</a:t>
            </a:r>
            <a:r>
              <a:rPr b="1" lang="en-US" sz="2000" spc="-1" strike="noStrike" baseline="36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85800" y="2057400"/>
            <a:ext cx="8001000" cy="703800"/>
            <a:chOff x="685800" y="2057400"/>
            <a:chExt cx="8001000" cy="703800"/>
          </a:xfrm>
        </p:grpSpPr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2730600" y="2057400"/>
                  <a:ext cx="15872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∘</m:t>
                      </m:r>
                      <m:r>
                        <m:t xml:space="preserve">g</m:t>
                      </m:r>
                      <m:r>
                        <m:t xml:space="preserve">: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s</m:t>
                          </m:r>
                        </m:sup>
                      </m:sSup>
                      <m:r>
                        <m:t xml:space="preserve">→</m:t>
                      </m:r>
                      <m:sSup>
                        <m:e>
                          <m:r>
                            <m:t xml:space="preserve">K</m:t>
                          </m:r>
                        </m:e>
                        <m:sup>
                          <m:r>
                            <m:t xml:space="preserve">m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85" name=""/>
            <p:cNvSpPr/>
            <p:nvPr/>
          </p:nvSpPr>
          <p:spPr>
            <a:xfrm>
              <a:off x="685800" y="205740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e Komposition                          ist wieder linear und wird gegeben durch das Produkt  AB der Matriz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249640" y="3209760"/>
                <a:ext cx="468468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∘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d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∘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85800" y="45561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Produkt definiert auf 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nx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(m = n !) die Struktur einer K-Algeb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313080" y="5572080"/>
                <a:ext cx="25290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×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↦</m:t>
                    </m:r>
                    <m:r>
                      <m:rPr>
                        <m:lit/>
                        <m:nor/>
                      </m:rPr>
                      <m:t xml:space="preserve">hk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85800" y="5638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7913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t(hk) = (th)k = h(t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0958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h(k + l) = hk + hl , (h + k)l = hl + k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527200" y="2755800"/>
                <a:ext cx="4202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∘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mi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7620120" y="2840040"/>
            <a:ext cx="99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Wingdings"/>
                <a:ea typeface="Wingdings"/>
              </a:rPr>
              <a:t>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09.01.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32004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nx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dem Matrizenprodukt ist eine assoziative K-Algebra; ebenso Hom(V,V) für einen K-Vektorraume V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447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ür alle t aus K und alle h,k,l aus H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7524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Algebra heiß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soziati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enn st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1114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(hk)l = h(kl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4447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Algebra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kommutativ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st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803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hk = kh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8926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i H eine K-Algebra. Ein Element e aus H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ins (-element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enn st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4798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e = eh = h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784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einer K-Algebra H mit Eins e heißt k 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s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zu h aus H , we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3942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hk = kh = e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6991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 Element h einer K-Algebra H mit Eins heißt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invertierba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falls eine Inverse zu h gib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2512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1.6) Beispie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5720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C(I),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Vektorraum der stetigen Funktionen auf einem Intervall I mit Werten in R mit der üblichen Multiplikation (punktwe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3605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Im Falle der Existenz ist die Inverse zu h eindeutig bestimmt und wird auch mit h</a:t>
            </a:r>
            <a:r>
              <a:rPr b="1" lang="de-DE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zei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85800" y="3032280"/>
            <a:ext cx="8001000" cy="712800"/>
            <a:chOff x="685800" y="3032280"/>
            <a:chExt cx="8001000" cy="712800"/>
          </a:xfrm>
        </p:grpSpPr>
        <p:sp>
          <p:nvSpPr>
            <p:cNvPr id="111" name=""/>
            <p:cNvSpPr/>
            <p:nvPr/>
          </p:nvSpPr>
          <p:spPr>
            <a:xfrm>
              <a:off x="685800" y="3032280"/>
              <a:ext cx="800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In dem für uns wichtigen Falle der Algebra K</a:t>
              </a:r>
              <a:r>
                <a:rPr b="1" lang="de-DE" sz="2000" spc="-1" strike="noStrike" baseline="36000">
                  <a:solidFill>
                    <a:srgbClr val="000000"/>
                  </a:solidFill>
                  <a:latin typeface="Arial"/>
                </a:rPr>
                <a:t>nxn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der (n,n)-Matrizen ist die Einheitsmatrix E (= E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(n)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) mit               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4429080" y="3363840"/>
                  <a:ext cx="9050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: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3" name=""/>
          <p:cNvSpPr/>
          <p:nvPr/>
        </p:nvSpPr>
        <p:spPr>
          <a:xfrm>
            <a:off x="685800" y="14461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merkung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7524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ine Eins ist im Falle der Existenz eindeutig bestimmt und wird auch mit 1 bezeichnet (nicht verwechseln mit 1 in K !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3641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invertierbaren Matrizen in 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nx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ind die Matrizen, die einen Isomorphismus definieren, und das sind die Matrizen mit Rang 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830840" y="5943600"/>
                <a:ext cx="2255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85800" y="51814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eine assoziative und kommutativ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lgebra mit Eins: 1(x) = 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54864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invertierbaren Elemente sind genau die Funktionen f ohne Nullstelle und die Inverse ist da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4461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Analog liefern die stet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wertigen Funktionen C(I,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auf I eine assoziative und kommutativ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lgeb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05740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Der K-Vektorraum K[T] der Polynome wird mit der Multiplik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590920" y="2657520"/>
                <a:ext cx="3954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ν</m:t>
                            </m:r>
                          </m:sub>
                        </m:sSub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ν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μ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σ</m:t>
                        </m:r>
                      </m:sub>
                      <m:sup/>
                      <m:e>
                        <m:r>
                          <m:t xml:space="preserve">(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ν</m:t>
                            </m:r>
                            <m:r>
                              <m:t xml:space="preserve">+</m:t>
                            </m:r>
                            <m:r>
                              <m:t xml:space="preserve">μ</m:t>
                            </m:r>
                            <m:r>
                              <m:t xml:space="preserve">=</m:t>
                            </m:r>
                            <m:r>
                              <m:t xml:space="preserve">σ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ν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μ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σ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685800" y="3048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 einer kommutativen und assoziativen K-Algebra mit Ei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4267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36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 dem Vektorproduk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35268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Eins ist das konstante Polynom P =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t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3657600"/>
            <a:ext cx="800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invertierbaren Elemente sind die konstanten Polynome P =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wobei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0 verschieden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567160" y="4648320"/>
                <a:ext cx="400176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↦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85800" y="49528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e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lgeb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6019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se Algebra hat keine Eins, denn XY steht immer senkrecht auf 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363840" y="5257800"/>
                <a:ext cx="2454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sSub>
                      <m:e>
                        <m:r>
                          <m:t xml:space="preserve">ε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β</m:t>
                            </m:r>
                          </m:e>
                          <m:sup>
                            <m:r>
                              <m:t xml:space="preserve">γ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68240" y="5702400"/>
                <a:ext cx="732636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β</m:t>
                            </m:r>
                          </m:e>
                          <m:sup>
                            <m:r>
                              <m:t xml:space="preserve">γ</m:t>
                            </m:r>
                          </m:sup>
                        </m:sSup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s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r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Vorlesung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ekannt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sdruck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αβ</m:t>
                            </m:r>
                          </m:e>
                          <m:sup>
                            <m:r>
                              <m:t xml:space="preserve">γ</m:t>
                            </m:r>
                          </m:sup>
                        </m:sSup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αβγ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72736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Quaternionenalgebr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er üblichen Vektorraumstruktur und der folgenden Multiplik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4612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Algebra ist nicht assoziativ, man teste mit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7524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Algebra ist nicht kommutativ, es gilt aber stets XY + YX = 0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20638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Algebra erfüllt stets ((XY)Z) + ((YZ)X) + (ZX)Y) = 0 . Das ist 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Jacobi-Identitä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die für Lie-Algebren eine wichtige Rolle spie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06560" y="3505320"/>
                <a:ext cx="357048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t xml:space="preserve">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,3,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03440" y="3882960"/>
                <a:ext cx="42022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ν</m:t>
                            </m:r>
                          </m:e>
                          <m:sup>
                            <m:r>
                              <m:t xml:space="preserve">γ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μν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,3,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360520" y="4295880"/>
                <a:ext cx="45118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: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ν</m:t>
                        </m:r>
                      </m:sup>
                    </m:sSup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685800" y="463248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st eine assoziativ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lgebra mit 1 (=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, H ist nicht kommutati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93704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s von Null verschiedene Element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invertierb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24196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reitete Notation: 1 =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 =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j =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k =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Dan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55468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j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-1 , 1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2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1 , ij = k = -ji , jk = i = - kj , ki = j = - ik un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i = i1 = i, 1j = j1 = j, 1k = k1 = k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Y durch bilineare Fortsetzu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11T18:45:16Z</dcterms:modified>
  <cp:revision>79</cp:revision>
  <dc:subject/>
  <dc:title>PowerPoint-Präsentation</dc:title>
</cp:coreProperties>
</file>