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786E093-53F5-41AE-9872-1EA5904160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0 Der Rang einer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8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lt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ine geordnete Basis von V, sei 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Standardeinheitsbasis von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ei f = f(A,b,e) die durch A definierte lineare Abbildung von V nach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286000"/>
            <a:ext cx="8000640" cy="703800"/>
            <a:chOff x="685800" y="2286000"/>
            <a:chExt cx="8000640" cy="703800"/>
          </a:xfrm>
        </p:grpSpPr>
        <p:sp>
          <p:nvSpPr>
            <p:cNvPr id="49" name=""/>
            <p:cNvSpPr/>
            <p:nvPr/>
          </p:nvSpPr>
          <p:spPr>
            <a:xfrm>
              <a:off x="685800" y="2286000"/>
              <a:ext cx="800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ede (m,n)-Matrix                 kann auch als ein n-Tupel von Spalt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916360" y="2297160"/>
                  <a:ext cx="1009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65440" y="3008160"/>
                <a:ext cx="20829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17640" y="3446640"/>
                <a:ext cx="381168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50896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(A) := rg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895480"/>
            <a:ext cx="601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 A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Im f  = rg f 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90720" y="6108840"/>
                <a:ext cx="5402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xn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685800" y="1446120"/>
            <a:ext cx="7924680" cy="440640"/>
            <a:chOff x="685800" y="1446120"/>
            <a:chExt cx="7924680" cy="440640"/>
          </a:xfrm>
        </p:grpSpPr>
        <p:sp>
          <p:nvSpPr>
            <p:cNvPr id="58" name=""/>
            <p:cNvSpPr/>
            <p:nvPr/>
          </p:nvSpPr>
          <p:spPr>
            <a:xfrm>
              <a:off x="685800" y="1446120"/>
              <a:ext cx="792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nn gilt f(b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 = A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. Denn wegen                             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495680" y="1447920"/>
                  <a:ext cx="19227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685800" y="333684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Span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3870360"/>
            <a:ext cx="7772400" cy="703800"/>
            <a:chOff x="685800" y="3870360"/>
            <a:chExt cx="7772400" cy="703800"/>
          </a:xfrm>
        </p:grpSpPr>
        <p:sp>
          <p:nvSpPr>
            <p:cNvPr id="62" name=""/>
            <p:cNvSpPr/>
            <p:nvPr/>
          </p:nvSpPr>
          <p:spPr>
            <a:xfrm>
              <a:off x="685800" y="38703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alog: Jede (m,n)-Matrix                 kann auch als ein m-Tupel von Zeil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819600" y="388152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59280" y="4713120"/>
                <a:ext cx="13269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 der Spaltenrang von A gleich dem Rang der linearen Abbildung 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27360" y="1803240"/>
                <a:ext cx="198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2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eil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rg(A) := rg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973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wichtiges Hilfsmittel und auch für andere Zwecke wird die Transponierte A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einer Matrix benötig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werden zeigen, dass für eine Matrix A stets srg(A) = zrg(A) gilt, dass man also von d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Matrix sprech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89520" y="4421160"/>
                <a:ext cx="1265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106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Spaltenvektor X aus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Komponenten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ist in der Matrixnotation auch als Element vo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x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zuf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3719520"/>
            <a:ext cx="7772400" cy="703800"/>
            <a:chOff x="685800" y="371952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276720" y="373068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685800" y="371952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ei                eine (m,n)-Matrix über dem Körper K . Die zu A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nsponier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000" spc="-1" strike="noStrike" baseline="36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eine (n,m)-Matrix – ist dur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4726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16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dann der entsprechende Zeilenvektor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1x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ie schon gelegentlich benutz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85800" y="2743200"/>
            <a:ext cx="7772400" cy="457200"/>
            <a:chOff x="685800" y="2743200"/>
            <a:chExt cx="7772400" cy="457200"/>
          </a:xfrm>
        </p:grpSpPr>
        <p:sp>
          <p:nvSpPr>
            <p:cNvPr id="80" name=""/>
            <p:cNvSpPr/>
            <p:nvPr/>
          </p:nvSpPr>
          <p:spPr>
            <a:xfrm>
              <a:off x="2209680" y="2743200"/>
              <a:ext cx="1905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27432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0.5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srg(A) = zrg(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1828800"/>
                <a:ext cx="2900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↦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Abbild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9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 und bijektiv, also ein Isomorphismus. Es gilt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3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m Beweis brauchen wir den Hilfs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6) Hilf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A* gehe aus durch eine Vertauschung von zwei Spalten oder von zwei Zeilen her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srg(A) = srg(A*) und zrg(A) = zrg(A*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0.7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(A)  einer (m,n)-Matrix A ist der Spaltenrang oder der Zeilenrang von 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181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: rg(A) := srg(A) = zrg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54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8) Korolla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 (m,n)-Matrix A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13320" y="5992920"/>
                <a:ext cx="1920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9) Definition: Elementare Umformung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aren Umform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gehör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57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Spalte von A zu einer anderen Spalt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3781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55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Zeile von A zu einer anderen Zeil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lementare Umform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 ist jede Hintereinanderaus-führung von endlich vielen der Umformunge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27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elementaren Umformungen von A gehören insbesondere die Vertauschungen von Spalten und damit beliebige Permut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65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so: Permutationen von Z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0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0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 elementaren Umformungen ändert sich der Rang einer Matrix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14800" y="2759040"/>
                <a:ext cx="95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85800" y="4724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er Rang einer Matrix ist inbesondere für lineare Gleichungssysteme von Bedeutung, vgl. die Sätze 16.5 – 16.8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iesem Invarianzsatz hat man ein wichtiges und effektives Rechenverfahren zur Ermittlung des Ranges einer Matrix zur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(m,n)-Matrix A kann durch elementare Umformungen auf die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cht werden mit r = rg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809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wird die „Kästchenschreibweise“ benutzt; und E</a:t>
            </a:r>
            <a:r>
              <a:rPr b="0" lang="en-US" sz="2000" spc="-1" strike="noStrike" baseline="34000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die (r,r)-Matrix mit lauter „Einsen“ in der Diagonalen und lauter „Nullen“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07T01:38:43Z</dcterms:modified>
  <cp:revision>77</cp:revision>
  <dc:subject/>
  <dc:title>PowerPoint-Präsentation</dc:title>
</cp:coreProperties>
</file>