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lmu" descr=""/>
          <p:cNvPicPr/>
          <p:nvPr/>
        </p:nvPicPr>
        <p:blipFill>
          <a:blip r:embed="rId2"/>
          <a:stretch/>
        </p:blipFill>
        <p:spPr>
          <a:xfrm>
            <a:off x="3637080" y="415800"/>
            <a:ext cx="1150920" cy="843120"/>
          </a:xfrm>
          <a:prstGeom prst="rect">
            <a:avLst/>
          </a:prstGeom>
          <a:ln w="0">
            <a:noFill/>
          </a:ln>
        </p:spPr>
      </p:pic>
      <p:pic>
        <p:nvPicPr>
          <p:cNvPr id="4" name="mathblue" descr=""/>
          <p:cNvPicPr/>
          <p:nvPr/>
        </p:nvPicPr>
        <p:blipFill>
          <a:blip r:embed="rId3"/>
          <a:stretch/>
        </p:blipFill>
        <p:spPr>
          <a:xfrm>
            <a:off x="3200400" y="685800"/>
            <a:ext cx="349200" cy="309600"/>
          </a:xfrm>
          <a:prstGeom prst="rect">
            <a:avLst/>
          </a:prstGeom>
          <a:ln w="0">
            <a:noFill/>
          </a:ln>
        </p:spPr>
      </p:pic>
      <p:pic>
        <p:nvPicPr>
          <p:cNvPr id="5" name="mathinstshort" descr=""/>
          <p:cNvPicPr/>
          <p:nvPr/>
        </p:nvPicPr>
        <p:blipFill>
          <a:blip r:embed="rId4"/>
          <a:stretch/>
        </p:blipFill>
        <p:spPr>
          <a:xfrm>
            <a:off x="4888080" y="685800"/>
            <a:ext cx="3570120" cy="311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9400" y="63244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1136D837-A93F-4EC0-859A-2D479A375F7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§20 Der Rang einer Matri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47847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0.1) Defini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altenra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on A 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5470560"/>
            <a:ext cx="79246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merku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Sei (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eine geordnete Basis von V, sei (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die Standardeinheitsbasis von K</a:t>
            </a:r>
            <a:r>
              <a:rPr b="0" lang="de-DE" sz="2000" spc="-1" strike="noStrike" baseline="36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sei f = f(A,b,e) die durch A definierte lineare Abbildung von V nach K</a:t>
            </a:r>
            <a:r>
              <a:rPr b="0" lang="de-DE" sz="2000" spc="-1" strike="noStrike" baseline="36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2767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b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685800" y="2286000"/>
            <a:ext cx="8000640" cy="703800"/>
            <a:chOff x="685800" y="2286000"/>
            <a:chExt cx="8000640" cy="703800"/>
          </a:xfrm>
        </p:grpSpPr>
        <p:sp>
          <p:nvSpPr>
            <p:cNvPr id="49" name=""/>
            <p:cNvSpPr/>
            <p:nvPr/>
          </p:nvSpPr>
          <p:spPr>
            <a:xfrm>
              <a:off x="685800" y="2286000"/>
              <a:ext cx="8000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Jede (m,n)-Matrix                 kann auch als ein n-Tupel von Spaltenvektoren geschrieben werde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" name=""/>
                <p:cNvSpPr txBox="1"/>
                <p:nvPr/>
              </p:nvSpPr>
              <p:spPr>
                <a:xfrm>
                  <a:off x="2916360" y="2297160"/>
                  <a:ext cx="10098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ν</m:t>
                          </m:r>
                        </m:sub>
                        <m:sup>
                          <m:r>
                            <m:t xml:space="preserve">μ</m:t>
                          </m:r>
                        </m:sup>
                      </m:sSub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565440" y="3008160"/>
                <a:ext cx="208296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717640" y="3446640"/>
                <a:ext cx="381168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ν</m:t>
                                  </m:r>
                                </m:sub>
                                <m:sup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ν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ν</m:t>
                                  </m:r>
                                </m:sub>
                                <m:sup>
                                  <m:r>
                                    <m:t xml:space="preserve">m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ür</m:t>
                    </m:r>
                    <m:r>
                      <m:t xml:space="preserve"> </m:t>
                    </m:r>
                    <m:r>
                      <m:t xml:space="preserve">ν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2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685800" y="5089680"/>
            <a:ext cx="800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rg(A) := rg {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= dim Span {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V, §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2895480"/>
            <a:ext cx="60199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rg A = dim Span {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= dim Im f  = rg f ,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890720" y="6108840"/>
                <a:ext cx="54021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t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μ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=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 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xn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ür</m:t>
                    </m:r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7" name=""/>
          <p:cNvGrpSpPr/>
          <p:nvPr/>
        </p:nvGrpSpPr>
        <p:grpSpPr>
          <a:xfrm>
            <a:off x="685800" y="1446120"/>
            <a:ext cx="7924680" cy="440640"/>
            <a:chOff x="685800" y="1446120"/>
            <a:chExt cx="7924680" cy="440640"/>
          </a:xfrm>
        </p:grpSpPr>
        <p:sp>
          <p:nvSpPr>
            <p:cNvPr id="58" name=""/>
            <p:cNvSpPr/>
            <p:nvPr/>
          </p:nvSpPr>
          <p:spPr>
            <a:xfrm>
              <a:off x="685800" y="1446120"/>
              <a:ext cx="7924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Dann gilt f(b</a:t>
              </a:r>
              <a:r>
                <a:rPr b="0" lang="de-DE" sz="20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) = A</a:t>
              </a:r>
              <a:r>
                <a:rPr b="0" lang="de-DE" sz="20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. Denn wegen                              is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4495680" y="1447920"/>
                  <a:ext cx="192276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ν</m:t>
                          </m:r>
                        </m:sup>
                      </m:sSup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ν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ν</m:t>
                          </m:r>
                        </m:sub>
                        <m:sup>
                          <m:r>
                            <m:t xml:space="preserve">μ</m:t>
                          </m:r>
                        </m:sup>
                      </m:sSubSup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ν</m:t>
                          </m:r>
                        </m:sup>
                      </m:sSup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μ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" name=""/>
          <p:cNvSpPr/>
          <p:nvPr/>
        </p:nvSpPr>
        <p:spPr>
          <a:xfrm>
            <a:off x="685800" y="3336840"/>
            <a:ext cx="800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 Span {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 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= Im f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85800" y="3870360"/>
            <a:ext cx="7772400" cy="703800"/>
            <a:chOff x="685800" y="3870360"/>
            <a:chExt cx="7772400" cy="703800"/>
          </a:xfrm>
        </p:grpSpPr>
        <p:sp>
          <p:nvSpPr>
            <p:cNvPr id="62" name=""/>
            <p:cNvSpPr/>
            <p:nvPr/>
          </p:nvSpPr>
          <p:spPr>
            <a:xfrm>
              <a:off x="685800" y="3870360"/>
              <a:ext cx="7772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Analog: Jede (m,n)-Matrix                 kann auch als ein m-Tupel von Zeilenvektoren geschrieben werde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3819600" y="3881520"/>
                  <a:ext cx="9810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ν</m:t>
                          </m:r>
                        </m:sub>
                        <m:sup>
                          <m:r>
                            <m:t xml:space="preserve">μ</m:t>
                          </m:r>
                        </m:sup>
                      </m:sSub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959280" y="4713120"/>
                <a:ext cx="132696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m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685800" y="21938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ist der Spaltenrang von A gleich dem Rang der linearen Abbildung f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627360" y="1803240"/>
                <a:ext cx="1984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V, §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446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0.2) Defini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eilenra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on A 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8288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rg(A) := rg {A</a:t>
            </a:r>
            <a:r>
              <a:rPr b="0" lang="de-DE" sz="2000" spc="-1" strike="noStrike" baseline="32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de-DE" sz="2000" spc="-1" strike="noStrike" baseline="32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A</a:t>
            </a:r>
            <a:r>
              <a:rPr b="0" lang="de-DE" sz="2000" spc="-1" strike="noStrike" baseline="32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= dim Span {A</a:t>
            </a:r>
            <a:r>
              <a:rPr b="0" lang="de-DE" sz="2000" spc="-1" strike="noStrike" baseline="32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de-DE" sz="2000" spc="-1" strike="noStrike" baseline="32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A</a:t>
            </a:r>
            <a:r>
              <a:rPr b="0" lang="de-DE" sz="2000" spc="-1" strike="noStrike" baseline="32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297324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 wichtiges Hilfsmittel und auch für andere Zwecke wird die Transponierte A</a:t>
            </a:r>
            <a:r>
              <a:rPr b="0" lang="en-US" sz="2000" spc="-1" strike="noStrike" baseline="36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u einer Matrix benötig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23623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r werden zeigen, dass für eine Matrix A stets srg(A) = zrg(A) gilt, dass man also von dem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Ra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er Matrix sprechen kan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989520" y="4421160"/>
                <a:ext cx="12650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Sup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μ</m:t>
                        </m:r>
                      </m:sub>
                      <m:sup>
                        <m:r>
                          <m:t xml:space="preserve">ν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ν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685800" y="510696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spi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 Spaltenvektor X aus K</a:t>
            </a:r>
            <a:r>
              <a:rPr b="1" lang="de-DE" sz="2000" spc="-1" strike="noStrike" baseline="36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it den Komponenten X</a:t>
            </a:r>
            <a:r>
              <a:rPr b="0" lang="de-DE" sz="2000" spc="-1" strike="noStrike" baseline="34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K ist in der Matrixnotation auch als Element von K</a:t>
            </a:r>
            <a:r>
              <a:rPr b="1" lang="de-DE" sz="2000" spc="-1" strike="noStrike" baseline="36000">
                <a:solidFill>
                  <a:srgbClr val="000000"/>
                </a:solidFill>
                <a:latin typeface="Arial"/>
              </a:rPr>
              <a:t>mx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fzufass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85800" y="3719520"/>
            <a:ext cx="7772400" cy="703800"/>
            <a:chOff x="685800" y="3719520"/>
            <a:chExt cx="7772400" cy="703800"/>
          </a:xfrm>
        </p:grpSpPr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3276720" y="3730680"/>
                  <a:ext cx="9810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ν</m:t>
                          </m:r>
                        </m:sub>
                        <m:sup>
                          <m:r>
                            <m:t xml:space="preserve">μ</m:t>
                          </m:r>
                        </m:sup>
                      </m:sSub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6" name=""/>
            <p:cNvSpPr/>
            <p:nvPr/>
          </p:nvSpPr>
          <p:spPr>
            <a:xfrm>
              <a:off x="685800" y="3719520"/>
              <a:ext cx="7772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20.3) Definition: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Sei                eine (m,n)-Matrix über dem Körper K . Die zu A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ransponiert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A</a:t>
              </a:r>
              <a:r>
                <a:rPr b="0" lang="en-US" sz="2000" spc="-1" strike="noStrike" baseline="36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– eine (n,m)-Matrix – ist durch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685800" y="47260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e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571644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2000" spc="-1" strike="noStrike" baseline="36000">
                <a:solidFill>
                  <a:srgbClr val="000000"/>
                </a:solidFill>
                <a:latin typeface="Arial"/>
              </a:rPr>
              <a:t>T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 (X</a:t>
            </a:r>
            <a:r>
              <a:rPr b="0" lang="de-DE" sz="2000" spc="-1" strike="noStrike" baseline="34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de-DE" sz="2000" spc="-1" strike="noStrike" baseline="34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X</a:t>
            </a:r>
            <a:r>
              <a:rPr b="0" lang="de-DE" sz="2000" spc="-1" strike="noStrike" baseline="34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ist dann der entsprechende Zeilenvektor in K</a:t>
            </a:r>
            <a:r>
              <a:rPr b="1" lang="de-DE" sz="2000" spc="-1" strike="noStrike" baseline="36000">
                <a:solidFill>
                  <a:srgbClr val="000000"/>
                </a:solidFill>
                <a:latin typeface="Arial"/>
              </a:rPr>
              <a:t>1x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wie schon gelegentlich benutz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685800" y="2743200"/>
            <a:ext cx="7772400" cy="457200"/>
            <a:chOff x="685800" y="2743200"/>
            <a:chExt cx="7772400" cy="457200"/>
          </a:xfrm>
        </p:grpSpPr>
        <p:sp>
          <p:nvSpPr>
            <p:cNvPr id="80" name=""/>
            <p:cNvSpPr/>
            <p:nvPr/>
          </p:nvSpPr>
          <p:spPr>
            <a:xfrm>
              <a:off x="2209680" y="2743200"/>
              <a:ext cx="190512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5800" y="2743200"/>
              <a:ext cx="777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(20.5) Satz: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 srg(A) = zrg(A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V, §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141720" y="1828800"/>
                <a:ext cx="29001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m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↦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685800" y="1446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0.4) Satz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e Abbildun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1970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t linear und bijektiv, also ein Isomorphismus. Es gilt (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A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31399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 dem Beweis brauchen wir den Hilfssatz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35812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0.6) Hilfssatz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i A eine (m,n)-Matrix. A* gehe aus durch eine Vertauschung von zwei Spalten oder von zwei Zeilen herv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41911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nn gilt: srg(A) = srg(A*) und zrg(A) = zrg(A*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45720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0.7) Definition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Ra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rg(A)  einer (m,n)-Matrix A ist der Spaltenrang oder der Zeilenrang von A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518148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urz: rg(A) := srg(A) = zrg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55468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0.8) Korolla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ür eine (m,n)-Matrix A gi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613320" y="5992920"/>
                <a:ext cx="192060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g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V, §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4461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0.9) Definition: Elementare Umformunge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i A eine (m,n)-Matrix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752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 d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lementaren Umformung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on A gehöre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20574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ddition einer Spalte von A zu einer anderen Spalte von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237816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ultiplikation einer Spalte von A mit einem von Null verschiedenen Skalar aus 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295596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ddition einer Zeile von A zu einer anderen Zeile von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388620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elementare Umformu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A ist jede Hintereinanderaus-führung von endlich vielen der Umformungen 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32749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ultiplikation einer Spalte von A mit einem von Null verschiedenen Skalar aus 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455616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 den elementaren Umformungen von A gehören insbesondere die Vertauschungen von Spalten und damit beliebige Permutation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51656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enso: Permutationen von Zeil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547056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0.10) Satz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i elementaren Umformungen ändert sich der Rang einer Matrix nich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V, §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114800" y="2759040"/>
                <a:ext cx="9540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r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685800" y="47242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merku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Der Rang einer Matrix ist inbesondere für lineare Gleichungssysteme von Bedeutung, vgl. die Sätze 16.5 – 16.8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14461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diesem Invarianzsatz hat man ein wichtiges und effektives Rechenverfahren zur Ermittlung des Ranges einer Matrix zur H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22096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0.11) Satz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de (m,n)-Matrix A kann durch elementare Umformungen auf die For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34290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bracht werden mit r = rg(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38098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er wird die „Kästchenschreibweise“ benutzt; und E</a:t>
            </a:r>
            <a:r>
              <a:rPr b="0" lang="en-US" sz="2000" spc="-1" strike="noStrike" baseline="34000">
                <a:solidFill>
                  <a:srgbClr val="000000"/>
                </a:solidFill>
                <a:latin typeface="Arial"/>
              </a:rPr>
              <a:t>(r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t die (r,r)-Matrix mit lauter „Einsen“ in der Diagonalen und lauter „Nullen“ son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07:52:51Z</dcterms:created>
  <dc:creator>MSchottenloher</dc:creator>
  <dc:description/>
  <dc:language>en-US</dc:language>
  <cp:lastModifiedBy>MSchottenloher</cp:lastModifiedBy>
  <dcterms:modified xsi:type="dcterms:W3CDTF">2002-01-07T01:38:43Z</dcterms:modified>
  <cp:revision>77</cp:revision>
  <dc:subject/>
  <dc:title>PowerPoint-Präsentation</dc:title>
</cp:coreProperties>
</file>