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D64D7817-BE00-4D10-9AE9-9A338A5E3A1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20 Der Rang einer Ma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784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alten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470560"/>
            <a:ext cx="79246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Sei (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eine geordnete Basis von V, sei (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die Standardeinheitsbasis von K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sei f = f(A,b,e) die durch A definierte lineare Abbildung von V nach K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b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5800" y="2286000"/>
            <a:ext cx="8000640" cy="703800"/>
            <a:chOff x="685800" y="2286000"/>
            <a:chExt cx="8000640" cy="703800"/>
          </a:xfrm>
        </p:grpSpPr>
        <p:sp>
          <p:nvSpPr>
            <p:cNvPr id="49" name=""/>
            <p:cNvSpPr/>
            <p:nvPr/>
          </p:nvSpPr>
          <p:spPr>
            <a:xfrm>
              <a:off x="685800" y="2286000"/>
              <a:ext cx="800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Jede (m,n)-Matrix                 kann auch als ein n-Tupel von Spaltenvektoren geschrieben werd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2916360" y="2297160"/>
                  <a:ext cx="10098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565440" y="3008160"/>
                <a:ext cx="2082960" cy="3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17640" y="3446640"/>
                <a:ext cx="381168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ν</m:t>
                                  </m:r>
                                </m:sub>
                                <m:sup>
                                  <m:r>
                                    <m:t xml:space="preserve">m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85800" y="508968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rg(A) := rg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Span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2895480"/>
            <a:ext cx="6019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rg A = dim Span {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Im f  = rg f ,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890720" y="6108840"/>
                <a:ext cx="5402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t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∈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xn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ür</m:t>
                    </m:r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…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" name=""/>
          <p:cNvGrpSpPr/>
          <p:nvPr/>
        </p:nvGrpSpPr>
        <p:grpSpPr>
          <a:xfrm>
            <a:off x="685800" y="1446120"/>
            <a:ext cx="7924680" cy="440640"/>
            <a:chOff x="685800" y="1446120"/>
            <a:chExt cx="7924680" cy="440640"/>
          </a:xfrm>
        </p:grpSpPr>
        <p:sp>
          <p:nvSpPr>
            <p:cNvPr id="58" name=""/>
            <p:cNvSpPr/>
            <p:nvPr/>
          </p:nvSpPr>
          <p:spPr>
            <a:xfrm>
              <a:off x="685800" y="1446120"/>
              <a:ext cx="7924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Dann gilt f(b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) = A</a:t>
              </a:r>
              <a:r>
                <a:rPr b="0" lang="de-DE" sz="20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. Denn wegen                              is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4495680" y="1447920"/>
                  <a:ext cx="192276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ν</m:t>
                          </m:r>
                        </m:sup>
                      </m:sSup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μ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685800" y="3336840"/>
            <a:ext cx="800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 Span {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= Im f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3870360"/>
            <a:ext cx="7772400" cy="703800"/>
            <a:chOff x="685800" y="3870360"/>
            <a:chExt cx="7772400" cy="703800"/>
          </a:xfrm>
        </p:grpSpPr>
        <p:sp>
          <p:nvSpPr>
            <p:cNvPr id="62" name=""/>
            <p:cNvSpPr/>
            <p:nvPr/>
          </p:nvSpPr>
          <p:spPr>
            <a:xfrm>
              <a:off x="685800" y="387036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nalog: Jede (m,n)-Matrix                 kann auch als ein m-Tupel von Zeilenvektoren geschrieben werden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3819600" y="3881520"/>
                  <a:ext cx="981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959280" y="4713120"/>
                <a:ext cx="132696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m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85800" y="21938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ist der Spaltenrang von A gleich dem Rang der linearen Abbildung f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627360" y="1803240"/>
                <a:ext cx="19843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2) Defini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eilenra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rg(A) := rg {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= dim Span {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A</a:t>
            </a:r>
            <a:r>
              <a:rPr b="0" lang="de-DE" sz="2000" spc="-1" strike="noStrike" baseline="32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297324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wichtiges Hilfsmittel und auch für andere Zwecke wird die Transponierte A</a:t>
            </a:r>
            <a:r>
              <a:rPr b="0" lang="en-US" sz="2000" spc="-1" strike="noStrike" baseline="36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zu einer Matrix benötig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3623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r werden zeigen, dass für eine Matrix A stets srg(A) = zrg(A) gilt, dass man also von dem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er Matrix sprechen ka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989520" y="4421160"/>
                <a:ext cx="1265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Sup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μ</m:t>
                        </m:r>
                      </m:sub>
                      <m:sup>
                        <m:r>
                          <m:t xml:space="preserve">ν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ν</m:t>
                        </m:r>
                      </m:sub>
                      <m:sup>
                        <m:r>
                          <m:t xml:space="preserve">μ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85800" y="51069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ispiel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Ein Spaltenvektor X aus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t den Komponenten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j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s K ist in der Matrixnotation auch als Element von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mx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aufzufa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85800" y="3719520"/>
            <a:ext cx="7772400" cy="703800"/>
            <a:chOff x="685800" y="3719520"/>
            <a:chExt cx="7772400" cy="703800"/>
          </a:xfrm>
        </p:grpSpPr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3276720" y="3730680"/>
                  <a:ext cx="98100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μ</m:t>
                          </m:r>
                        </m:sup>
                      </m:sSub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6" name=""/>
            <p:cNvSpPr/>
            <p:nvPr/>
          </p:nvSpPr>
          <p:spPr>
            <a:xfrm>
              <a:off x="685800" y="3719520"/>
              <a:ext cx="777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20.3) Definition: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Sei                eine (m,n)-Matrix über dem Körper K . Die zu A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ransponierte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A</a:t>
              </a:r>
              <a:r>
                <a:rPr b="0" lang="en-US" sz="2000" spc="-1" strike="noStrike" baseline="36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eine (n,m)-Matrix – ist durc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685800" y="4726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7164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000" spc="-1" strike="noStrike" baseline="36000">
                <a:solidFill>
                  <a:srgbClr val="000000"/>
                </a:solidFill>
                <a:latin typeface="Arial"/>
              </a:rPr>
              <a:t>T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= (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... , X</a:t>
            </a:r>
            <a:r>
              <a:rPr b="0" lang="de-DE" sz="2000" spc="-1" strike="noStrike" baseline="34000">
                <a:solidFill>
                  <a:srgbClr val="000000"/>
                </a:solidFill>
                <a:latin typeface="Arial"/>
              </a:rPr>
              <a:t>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 ist dann der entsprechende Zeilenvektor in K</a:t>
            </a:r>
            <a:r>
              <a:rPr b="1" lang="de-DE" sz="2000" spc="-1" strike="noStrike" baseline="36000">
                <a:solidFill>
                  <a:srgbClr val="000000"/>
                </a:solidFill>
                <a:latin typeface="Arial"/>
              </a:rPr>
              <a:t>1x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wie schon gelegentlich benutz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685800" y="2743200"/>
            <a:ext cx="7772400" cy="457200"/>
            <a:chOff x="685800" y="2743200"/>
            <a:chExt cx="7772400" cy="457200"/>
          </a:xfrm>
        </p:grpSpPr>
        <p:sp>
          <p:nvSpPr>
            <p:cNvPr id="80" name=""/>
            <p:cNvSpPr/>
            <p:nvPr/>
          </p:nvSpPr>
          <p:spPr>
            <a:xfrm>
              <a:off x="2209680" y="2743200"/>
              <a:ext cx="1905120" cy="457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800" y="274320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20.5) Satz: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  srg(A) = zrg(A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141720" y="1828800"/>
                <a:ext cx="2900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↦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685800" y="14461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4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e Abbildun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197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t linear und bijektiv, also ein Isomorphismus. Es gilt (A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A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139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m Beweis brauchen wir den Hilfssat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81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6) Hilfs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A eine (m,n)-Matrix. A* gehe aus durch eine Vertauschung von zwei Spalten oder von zwei Zeilen herv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4191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gilt: srg(A) = srg(A*) und zrg(A) = zrg(A*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57200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20.7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rg(A)  einer (m,n)-Matrix A ist der Spaltenrang oder der Zeilenrang von 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51814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urz: rg(A) := srg(A) = zrg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5546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8) Korolla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ür eine (m,n)-Matrix A gi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13320" y="5992920"/>
                <a:ext cx="192060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4461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9) Definition: Elementare Umformungen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i A eine (m,n)-Matrix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752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mentaren Umformun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n A gehör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2057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 einer Spalte von A zu einer anderen Spalte von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37816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ultiplikation einer Spalte von A mit einem von Null verschiedenen Skalar aus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95596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 einer Zeile von A zu einer anderen Zeile von 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862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elementare Umform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von A ist jede Hintereinanderaus-führung von endlich vielen der Umformungen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327492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ultiplikation einer Spalte von A mit einem von Null verschiedenen Skalar aus 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4556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 den elementaren Umformungen von A gehören insbesondere die Vertauschungen von Spalten und damit beliebige Permutation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1656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enso: Permutationen von Zei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4705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0)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i elementaren Umformungen ändert sich der Rang einer Matrix n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V, §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114800" y="2759040"/>
                <a:ext cx="9540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r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685800" y="47242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merkun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: Der Rang einer Matrix ist inbesondere für lineare Gleichungssysteme von Bedeutung, vgl. die Sätze 16.5 – 16.8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4461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t diesem Invarianzsatz hat man ein wichtiges und effektives Rechenverfahren zur Ermittlung des Ranges einer Matrix zur H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2096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0.11) Satz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de (m,n)-Matrix A kann durch elementare Umformungen auf die Fo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429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bracht werden mit r = rg(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809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 wird die „Kästchenschreibweise“ benutzt; und E</a:t>
            </a:r>
            <a:r>
              <a:rPr b="0" lang="en-US" sz="2000" spc="-1" strike="noStrike" baseline="34000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t die (r,r)-Matrix mit lauter „Einsen“ in der Diagonalen und lauter „Nullen“ son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2-01-07T01:38:43Z</dcterms:modified>
  <cp:revision>77</cp:revision>
  <dc:subject/>
  <dc:title>PowerPoint-Präsentation</dc:title>
</cp:coreProperties>
</file>