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D944C73-4204-450C-AC56-9A839E8896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9 Der affine Raum – Teil 2: Ge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ind auf dem Weg zum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5627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A(G) := G, T := T(G) := G  und  t(a,b) := a –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9.1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G  eine abelsche additive Gruppe.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19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tellen zunächst eine Verbindung von §8 zu §7 her (Umkehrung der Aussage 7.8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§7 haben wir unter Zugrundelegung von „Punkten“ und geeignet guten „Translationen“ zum Begriff 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amit zum Begriff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füh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131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werden wir mit Hilfe der Vorstellung von dem, was eine „Gerade“ im Raum ausmachen sollte, zu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de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ktor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lan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 (A,T,t) eine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2) Definition –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Produkt zweier Gruppen  G  und  H  ist gegeben durch die Verknüp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00200" y="2209680"/>
                <a:ext cx="265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2513160"/>
                <a:ext cx="5851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,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´,h´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rPr>
                            <m:lit/>
                            <m:nor/>
                          </m:rPr>
                          <m:t xml:space="preserve">g´,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685800" y="2819520"/>
            <a:ext cx="7924680" cy="398880"/>
            <a:chOff x="685800" y="2819520"/>
            <a:chExt cx="7924680" cy="398880"/>
          </a:xfrm>
        </p:grpSpPr>
        <p:sp>
          <p:nvSpPr>
            <p:cNvPr id="57" name=""/>
            <p:cNvSpPr/>
            <p:nvPr/>
          </p:nvSpPr>
          <p:spPr>
            <a:xfrm>
              <a:off x="685800" y="28195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bei  bezeichnet                   die Verknüpfung von G bzw. von H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862360" y="2905200"/>
                  <a:ext cx="1252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circ </m:t>
                      </m:r>
                      <m:r>
                        <m:rPr>
                          <m:lit/>
                          <m:nor/>
                        </m:rPr>
                        <m:t xml:space="preserve">, bzw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cdot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685800" y="3870360"/>
            <a:ext cx="7924680" cy="703800"/>
            <a:chOff x="685800" y="3870360"/>
            <a:chExt cx="7924680" cy="703800"/>
          </a:xfrm>
        </p:grpSpPr>
        <p:sp>
          <p:nvSpPr>
            <p:cNvPr id="60" name=""/>
            <p:cNvSpPr/>
            <p:nvPr/>
          </p:nvSpPr>
          <p:spPr>
            <a:xfrm>
              <a:off x="685800" y="38703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nn mit       die Gruppenoperation auf der Produktmenge              bezeichnet wir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898640" y="3962160"/>
                  <a:ext cx="31104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413480" y="395928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876920"/>
            <a:ext cx="7924680" cy="398880"/>
            <a:chOff x="685800" y="487692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8769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Produktmenge            mit        als Verknüpfung ist eine Grupp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971800" y="495324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184640" y="4969080"/>
                  <a:ext cx="31104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"/>
          <p:cNvGrpSpPr/>
          <p:nvPr/>
        </p:nvGrpSpPr>
        <p:grpSpPr>
          <a:xfrm>
            <a:off x="685800" y="5467320"/>
            <a:ext cx="7924680" cy="704880"/>
            <a:chOff x="685800" y="5467320"/>
            <a:chExt cx="7924680" cy="704880"/>
          </a:xfrm>
        </p:grpSpPr>
        <p:sp>
          <p:nvSpPr>
            <p:cNvPr id="68" name=""/>
            <p:cNvSpPr/>
            <p:nvPr/>
          </p:nvSpPr>
          <p:spPr>
            <a:xfrm>
              <a:off x="685800" y="5467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einer Gruppe G  hat man also insbesondere auch die Grupp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762120" y="5829480"/>
                  <a:ext cx="3341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, 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t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685800" y="3184560"/>
            <a:ext cx="7924680" cy="701640"/>
            <a:chOff x="685800" y="3184560"/>
            <a:chExt cx="7924680" cy="70164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668600" y="3579840"/>
                  <a:ext cx="57150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∘</m:t>
                          </m:r>
                          <m:r>
                            <m:rPr>
                              <m:lit/>
                              <m:nor/>
                            </m:rPr>
                            <m:t xml:space="preserve">g´,h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h´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fü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H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685800" y="31845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2000"/>
                <a:ext cx="6484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er kurz: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g´,h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6228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erster natürlicher Ansatz für eine Gerade als Punktmenge in A ist der folgen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1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ch Festlegung auf eine abelschen Gruppe 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m abstrakten Modell nach 9.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icht – ganz vordergründig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6324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nächst legen wir uns darauf fest, dass eine Gerade in einem Translationsraum (A,T,t) eine Punktmenge ist und dass sich die Inzidenzrelation durch das „Enthaltensein“ beschre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7180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zeichnet die Vorstellung von einer Geraden aus? Welche Eigenschaften sehen wir in einem Translationsraum als essentiell für eine Gerade 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),T(G),t) einer „Gerad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75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r „Eben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9559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m „dreidimensionalem Raum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5210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Gerade g, die zwei vorgegebene, voneinander verschiedene Punkte  P  und  Q  enthält, sei die folgende, durch P und v = t(P,Q) festgelegte Punktme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5053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v := v , (n+1)v := nv + v , so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:= {P + zv : z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79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ist zv als die in 8.8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führte additiv geschriebene „Potenz“ zu verste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098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-n)v := -(nv) , für natürliche Zahlen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241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1v =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480" y="4267080"/>
            <a:ext cx="8153640" cy="685800"/>
            <a:chOff x="609480" y="4267080"/>
            <a:chExt cx="8153640" cy="685800"/>
          </a:xfrm>
        </p:grpSpPr>
        <p:sp>
          <p:nvSpPr>
            <p:cNvPr id="90" name=""/>
            <p:cNvSpPr/>
            <p:nvPr/>
          </p:nvSpPr>
          <p:spPr>
            <a:xfrm>
              <a:off x="609480" y="426708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9.3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ür alle abelschen Gruppen T operiert </a:t>
              </a:r>
              <a:r>
                <a:rPr b="1" lang="de-DE" sz="2000" spc="-1" strike="noStrike">
                  <a:solidFill>
                    <a:srgbClr val="000000"/>
                  </a:solidFill>
                  <a:latin typeface="Lucida Sans Unicode"/>
                  <a:ea typeface="Lucida Sans Unicode"/>
                </a:rPr>
                <a:t>ℤ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auf T durch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441600" y="4659480"/>
                  <a:ext cx="24256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z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z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"/>
          <p:cNvSpPr/>
          <p:nvPr/>
        </p:nvSpPr>
        <p:spPr>
          <a:xfrm>
            <a:off x="609480" y="493704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sind für v,w aus T und r,s au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den Regeln erfüllt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5627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(v + w) = rv + r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9277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 + s)v = rv + s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05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4) Bemerkun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s kann  nv = 0  vorkommen, auch wenn n und v von 0 verschieden sind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akterist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8638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kann in P*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* vollkommen enthalten sein, ohne dass die beiden Mengen gleich sind. Zum Beispiel, wenn P = P* 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v* = v gil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1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s)v = r(s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940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diesem Grunde liefert z.B.  A 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m „Ansatz für Geraden“ keine (abstrakte) affine Ebene nach §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3275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s Beispie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s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ingeschränkte Division durch natürliche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mi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93704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folgende Eigenschaft: Zu jedem von 0 verschiedenen Element v aus T und jeder von 0 verschiedenen natürlichen Zahl n gibt es ein weiteres Element w mit nw = v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5851440"/>
            <a:ext cx="8153640" cy="703800"/>
            <a:chOff x="609480" y="5851440"/>
            <a:chExt cx="8153640" cy="703800"/>
          </a:xfrm>
        </p:grpSpPr>
        <p:sp>
          <p:nvSpPr>
            <p:cNvPr id="103" name=""/>
            <p:cNvSpPr/>
            <p:nvPr/>
          </p:nvSpPr>
          <p:spPr>
            <a:xfrm>
              <a:off x="609480" y="585144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ses Element w ist im Falle der Existenz eindeutig bestimmt und kann mit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bezeichnet werd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758960" y="6267600"/>
                  <a:ext cx="298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521000"/>
            <a:ext cx="8153640" cy="1313640"/>
            <a:chOff x="609480" y="1521000"/>
            <a:chExt cx="8153640" cy="1313640"/>
          </a:xfrm>
        </p:grpSpPr>
        <p:sp>
          <p:nvSpPr>
            <p:cNvPr id="107" name=""/>
            <p:cNvSpPr/>
            <p:nvPr/>
          </p:nvSpPr>
          <p:spPr>
            <a:xfrm>
              <a:off x="609480" y="1521000"/>
              <a:ext cx="815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Für abelsche Gruppen T mit uneingeschränkter Division durch natürliche Zahlen kann die in 9.3 beschriebene Operation auf die Brüche von ganzen Zahlen, also auf die rationalen Zahlen ausgedehnt werd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92640" y="2538360"/>
                  <a:ext cx="25002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q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q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"/>
          <p:cNvSpPr/>
          <p:nvPr/>
        </p:nvSpPr>
        <p:spPr>
          <a:xfrm>
            <a:off x="609480" y="28195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zu 9.3 analogen Regeln sind aber nicht immer rich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2767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Regeln gefallen uns aber, und wir hätten sie gerne ganz allgemein auch für einen beliebigen Körper anstelle der rationalen Zah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r 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 Translationsraum (A,T,t) zusammen mit einem Körper K, der auf T so wirkt, dass die Regel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9.3 erfüllt sind: Für alle v,w aus T und alle r,s aus K is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4973760"/>
            <a:ext cx="8153640" cy="1368720"/>
            <a:chOff x="609480" y="4973760"/>
            <a:chExt cx="8153640" cy="1368720"/>
          </a:xfrm>
        </p:grpSpPr>
        <p:sp>
          <p:nvSpPr>
            <p:cNvPr id="113" name=""/>
            <p:cNvSpPr/>
            <p:nvPr/>
          </p:nvSpPr>
          <p:spPr>
            <a:xfrm>
              <a:off x="609480" y="49737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52959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561960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594360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651040"/>
            <a:ext cx="7924680" cy="627480"/>
            <a:chOff x="685800" y="2651040"/>
            <a:chExt cx="7924680" cy="627480"/>
          </a:xfrm>
        </p:grpSpPr>
        <p:sp>
          <p:nvSpPr>
            <p:cNvPr id="119" name=""/>
            <p:cNvSpPr/>
            <p:nvPr/>
          </p:nvSpPr>
          <p:spPr>
            <a:xfrm>
              <a:off x="685800" y="28796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o dass die Axiome 9.5.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9.5.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füllt si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359160" y="2651040"/>
                  <a:ext cx="2397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T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685800" y="3718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durch ist auf T die Struktur eine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es über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75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§2 Satz 2.3 sind wir den Vektorraumaxiomen bereits begegnet. Insbesondere ist der Standardraum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 Vektorraum über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1521000"/>
            <a:ext cx="7924680" cy="1068840"/>
            <a:chOff x="685800" y="1521000"/>
            <a:chExt cx="7924680" cy="1068840"/>
          </a:xfrm>
        </p:grpSpPr>
        <p:sp>
          <p:nvSpPr>
            <p:cNvPr id="124" name=""/>
            <p:cNvSpPr/>
            <p:nvPr/>
          </p:nvSpPr>
          <p:spPr>
            <a:xfrm>
              <a:off x="685800" y="15210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 einem affinen Raum (A,T,t,K) hat man auf dem Raum T 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18860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ranslationen die in §7 eingeführte Addition, die T zu einer abelschen Gruppe macht und dazu noch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318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m affinen Raum (A,T,t,K) sind jetzt die Teilmenge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Kv := {P + rv : r aus K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336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3210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her wird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(P,Q) = Q –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sammen mit der Skalarmultiplikation auf T ein affiner Raum defin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889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rfüllt analog zu §2 (Standardraum) die Axiome einer abelschen Gruppe und bezüglich der Skalar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521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ispi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i K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57640" y="2611440"/>
                <a:ext cx="2598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,v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rv 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" y="2940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Axiome 9.5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9.5.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Fall  n = 2  liefert dann mit dem oben festgelegten Geradenbegriff eine (abstrakte) affine Ebene in Sinne von §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394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fehlt noch zu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alytischen Geomet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? Länge von Vektoren, Abstand zwischen Punkten, Winkel.  Siehe §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0800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vor Vektorräume in §10: Axiome (noch einmal) und viele Beispi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04T17:04:52Z</dcterms:modified>
  <cp:revision>68</cp:revision>
  <dc:subject/>
  <dc:title>PowerPoint-Präsentation</dc:title>
</cp:coreProperties>
</file>