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lmu" descr=""/>
          <p:cNvPicPr/>
          <p:nvPr/>
        </p:nvPicPr>
        <p:blipFill>
          <a:blip r:embed="rId2"/>
          <a:stretch/>
        </p:blipFill>
        <p:spPr>
          <a:xfrm>
            <a:off x="3637080" y="415800"/>
            <a:ext cx="1150920" cy="843120"/>
          </a:xfrm>
          <a:prstGeom prst="rect">
            <a:avLst/>
          </a:prstGeom>
          <a:ln w="0">
            <a:noFill/>
          </a:ln>
        </p:spPr>
      </p:pic>
      <p:pic>
        <p:nvPicPr>
          <p:cNvPr id="4" name="mathblue" descr=""/>
          <p:cNvPicPr/>
          <p:nvPr/>
        </p:nvPicPr>
        <p:blipFill>
          <a:blip r:embed="rId3"/>
          <a:stretch/>
        </p:blipFill>
        <p:spPr>
          <a:xfrm>
            <a:off x="3200400" y="685800"/>
            <a:ext cx="349200" cy="309600"/>
          </a:xfrm>
          <a:prstGeom prst="rect">
            <a:avLst/>
          </a:prstGeom>
          <a:ln w="0">
            <a:noFill/>
          </a:ln>
        </p:spPr>
      </p:pic>
      <p:pic>
        <p:nvPicPr>
          <p:cNvPr id="5" name="mathinstshort" descr=""/>
          <p:cNvPicPr/>
          <p:nvPr/>
        </p:nvPicPr>
        <p:blipFill>
          <a:blip r:embed="rId4"/>
          <a:stretch/>
        </p:blipFill>
        <p:spPr>
          <a:xfrm>
            <a:off x="4888080" y="685800"/>
            <a:ext cx="3570120" cy="311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629400" y="63244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olie </a:t>
            </a:r>
            <a:fld id="{BFDAE74A-BF1B-40FA-900D-D6E93D0DC3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§9 Der affine Raum – Teil 2: Ge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9384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sind auf dem Weg zum Begriff d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finen 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5627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:= A(G) := G, T := T(G) := G  und  t(a,b) := a –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1814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9.1) Satz: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Sei  G  eine abelsche additive Gruppe. Set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441972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 stellen zunächst eine Verbindung von §8 zu §7 her (Umkehrung der Aussage 7.8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193840"/>
            <a:ext cx="7772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§7 haben wir unter Zugrundelegung von „Punkten“ und geeignet guten „Translationen“ zum Begriff de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Translationsraume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und damit zum Begriff d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abelschen Grupp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füh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41316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iesem Paragrafen werden wir mit Hilfe der Vorstellung von dem, was eine „Gerade“ im Raum ausmachen sollte, zum Begriff 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finen 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 dem Begriff d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ektorraum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lang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927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nn ist  (A,T,t) eine Translationsra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5238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9.2) Definition – Satz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s Produkt zweier Gruppen  G  und  H  ist gegeben durch die Verknüp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600200" y="2209680"/>
                <a:ext cx="265572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G 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600200" y="2513160"/>
                <a:ext cx="58514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 ,h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g´,h´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g</m:t>
                        </m:r>
                        <m:r>
                          <m:t xml:space="preserve">∘</m:t>
                        </m:r>
                        <m:r>
                          <m:rPr>
                            <m:lit/>
                            <m:nor/>
                          </m:rPr>
                          <m:t xml:space="preserve">g´,h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h´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, fü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6" name=""/>
          <p:cNvGrpSpPr/>
          <p:nvPr/>
        </p:nvGrpSpPr>
        <p:grpSpPr>
          <a:xfrm>
            <a:off x="685800" y="2819520"/>
            <a:ext cx="7924680" cy="398880"/>
            <a:chOff x="685800" y="2819520"/>
            <a:chExt cx="7924680" cy="398880"/>
          </a:xfrm>
        </p:grpSpPr>
        <p:sp>
          <p:nvSpPr>
            <p:cNvPr id="57" name=""/>
            <p:cNvSpPr/>
            <p:nvPr/>
          </p:nvSpPr>
          <p:spPr>
            <a:xfrm>
              <a:off x="685800" y="28195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bei  bezeichnet                   die Verknüpfung von G bzw. von H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2862360" y="2905200"/>
                  <a:ext cx="1252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circ </m:t>
                      </m:r>
                      <m:r>
                        <m:rPr>
                          <m:lit/>
                          <m:nor/>
                        </m:rPr>
                        <m:t xml:space="preserve">, bzw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 cdot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" name=""/>
          <p:cNvGrpSpPr/>
          <p:nvPr/>
        </p:nvGrpSpPr>
        <p:grpSpPr>
          <a:xfrm>
            <a:off x="685800" y="3870360"/>
            <a:ext cx="7924680" cy="703800"/>
            <a:chOff x="685800" y="3870360"/>
            <a:chExt cx="7924680" cy="703800"/>
          </a:xfrm>
        </p:grpSpPr>
        <p:sp>
          <p:nvSpPr>
            <p:cNvPr id="60" name=""/>
            <p:cNvSpPr/>
            <p:nvPr/>
          </p:nvSpPr>
          <p:spPr>
            <a:xfrm>
              <a:off x="685800" y="387036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enn mit       die Gruppenoperation auf der Produktmenge              bezeichnet wir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1898640" y="3962160"/>
                  <a:ext cx="311040" cy="20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*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7413480" y="3959280"/>
                  <a:ext cx="58752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G 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685800" y="4876920"/>
            <a:ext cx="7924680" cy="398880"/>
            <a:chOff x="685800" y="4876920"/>
            <a:chExt cx="7924680" cy="398880"/>
          </a:xfrm>
        </p:grpSpPr>
        <p:sp>
          <p:nvSpPr>
            <p:cNvPr id="64" name=""/>
            <p:cNvSpPr/>
            <p:nvPr/>
          </p:nvSpPr>
          <p:spPr>
            <a:xfrm>
              <a:off x="685800" y="48769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e Produktmenge            mit        als Verknüpfung ist eine Gruppe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2971800" y="4953240"/>
                  <a:ext cx="587520" cy="24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G </m:t>
                      </m:r>
                      <m:r>
                        <m:t xml:space="preserve">×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4184640" y="4969080"/>
                  <a:ext cx="311040" cy="20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 *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" name=""/>
          <p:cNvGrpSpPr/>
          <p:nvPr/>
        </p:nvGrpSpPr>
        <p:grpSpPr>
          <a:xfrm>
            <a:off x="685800" y="5467320"/>
            <a:ext cx="7924680" cy="704880"/>
            <a:chOff x="685800" y="5467320"/>
            <a:chExt cx="7924680" cy="704880"/>
          </a:xfrm>
        </p:grpSpPr>
        <p:sp>
          <p:nvSpPr>
            <p:cNvPr id="68" name=""/>
            <p:cNvSpPr/>
            <p:nvPr/>
          </p:nvSpPr>
          <p:spPr>
            <a:xfrm>
              <a:off x="685800" y="546732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Zu einer Gruppe G  hat man also insbesondere auch die Gruppe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762120" y="5829480"/>
                  <a:ext cx="334152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 , 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G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etc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685800" y="3184560"/>
            <a:ext cx="7924680" cy="701640"/>
            <a:chOff x="685800" y="3184560"/>
            <a:chExt cx="7924680" cy="701640"/>
          </a:xfrm>
        </p:grpSpPr>
        <mc:AlternateContent>
          <mc:Choice xmlns:a14="http://schemas.microsoft.com/office/drawing/2010/main" Requires="a14">
            <p:sp>
              <p:nvSpPr>
                <p:cNvPr id="71" name=""/>
                <p:cNvSpPr txBox="1"/>
                <p:nvPr/>
              </p:nvSpPr>
              <p:spPr>
                <a:xfrm>
                  <a:off x="1668600" y="3579840"/>
                  <a:ext cx="5715000" cy="3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 ,h</m:t>
                      </m:r>
                      <m:r>
                        <m:t xml:space="preserve">)</m:t>
                      </m:r>
                      <m:r>
                        <m:t xml:space="preserve">∗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´,h´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g</m:t>
                          </m:r>
                          <m:r>
                            <m:t xml:space="preserve">∘</m:t>
                          </m:r>
                          <m:r>
                            <m:rPr>
                              <m:lit/>
                              <m:nor/>
                            </m:rPr>
                            <m:t xml:space="preserve">g´,h</m:t>
                          </m:r>
                          <m:r>
                            <m:t xml:space="preserve">⋅</m:t>
                          </m:r>
                          <m:r>
                            <m:rPr>
                              <m:lit/>
                              <m:nor/>
                            </m:rPr>
                            <m:t xml:space="preserve">h´</m:t>
                          </m:r>
                        </m:e>
                      </m:d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für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 ,h</m:t>
                      </m:r>
                      <m:r>
                        <m:t xml:space="preserve">)</m:t>
                      </m:r>
                      <m:r>
                        <m:t xml:space="preserve">,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g´,h´</m:t>
                      </m:r>
                      <m:r>
                        <m:t xml:space="preserve">)</m:t>
                      </m:r>
                      <m:r>
                        <m:t xml:space="preserve">∈</m:t>
                      </m:r>
                      <m:r>
                        <m:t xml:space="preserve">G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H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2" name=""/>
            <p:cNvSpPr/>
            <p:nvPr/>
          </p:nvSpPr>
          <p:spPr>
            <a:xfrm>
              <a:off x="685800" y="318456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62120" y="4572000"/>
                <a:ext cx="6484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der kurz: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gg´,hh´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, für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 ,h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g´,h´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G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H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562284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n erster natürlicher Ansatz für eine Gerade als Punktmenge in A ist der folgen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10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Nach Festlegung auf eine abelschen Gruppe G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dem abstrakten Modell nach 9.1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ntspricht – ganz vordergründig 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46324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nächst legen wir uns darauf fest, dass eine Gerade in einem Translationsraum (A,T,t) eine Punktmenge ist und dass sich die Inzidenzrelation durch das „Enthaltensein“ beschreib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37180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as zeichnet die Vorstellung von einer Geraden aus? Welche Eigenschaften sehen wir in einem Translationsraum als essentiell für eine Gerade 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2096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),T(G),t) einer „Geraden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257508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) einer „Ebenen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29559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Translationsraum ((A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(G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),t) einem „dreidimensionalem Raum“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5210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Gerade g, die zwei vorgegebene, voneinander verschiedene Punkte  P  und  Q  enthält, sei die folgende, durch P und v = t(P,Q) festgelegte Punktmen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50532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0v := v , (n+1)v := nv + v , sow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9876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 := P +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:= {P + zv : z aus </a:t>
            </a:r>
            <a:r>
              <a:rPr b="1" lang="de-DE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}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28796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bei ist zv als die in 8.8.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geführte additiv geschriebene „Potenz“ zu versteh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80988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-n)v := -(nv) , für natürliche Zahlen 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52419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1v = 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09480" y="4267080"/>
            <a:ext cx="8153640" cy="685800"/>
            <a:chOff x="609480" y="4267080"/>
            <a:chExt cx="8153640" cy="685800"/>
          </a:xfrm>
        </p:grpSpPr>
        <p:sp>
          <p:nvSpPr>
            <p:cNvPr id="90" name=""/>
            <p:cNvSpPr/>
            <p:nvPr/>
          </p:nvSpPr>
          <p:spPr>
            <a:xfrm>
              <a:off x="609480" y="426708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(9.3) Lemma: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Für alle abelschen Gruppen T operiert </a:t>
              </a:r>
              <a:r>
                <a:rPr b="1" lang="de-DE" sz="2000" spc="-1" strike="noStrike">
                  <a:solidFill>
                    <a:srgbClr val="000000"/>
                  </a:solidFill>
                  <a:latin typeface="Lucida Sans Unicode"/>
                  <a:ea typeface="Lucida Sans Unicode"/>
                </a:rPr>
                <a:t>ℤ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auf T durch 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3441600" y="4659480"/>
                  <a:ext cx="242568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z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zv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2" name=""/>
          <p:cNvSpPr/>
          <p:nvPr/>
        </p:nvSpPr>
        <p:spPr>
          <a:xfrm>
            <a:off x="609480" y="493704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bei sind für v,w aus T und r,s aus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folgenden Regeln erfüllt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56272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r(v + w) = rv + rw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59277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 + s)v = rv + sv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9051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4) Bemerkunge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s kann  nv = 0  vorkommen, auch wenn n und v von 0 verschieden sind. („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harakteristik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“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86380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 +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kann in P* +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* vollkommen enthalten sein, ohne dass die beiden Mengen gleich sind. Zum Beispiel, wenn P = P* 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2v* = v gil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52100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(rs)v = r(sv)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379404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diesem Grunde liefert z.B.  A =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ℤ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it diesem „Ansatz für Geraden“ keine (abstrakte) affine Ebene nach §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32756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Das Beispiel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ässt di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eingeschränkte Division durch natürliche Zahl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rmi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93704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.h. die folgende Eigenschaft: Zu jedem von 0 verschiedenen Element v aus T und jeder von 0 verschiedenen natürlichen Zahl n gibt es ein weiteres Element w mit nw = v.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09480" y="5851440"/>
            <a:ext cx="8153640" cy="703800"/>
            <a:chOff x="609480" y="5851440"/>
            <a:chExt cx="8153640" cy="703800"/>
          </a:xfrm>
        </p:grpSpPr>
        <p:sp>
          <p:nvSpPr>
            <p:cNvPr id="103" name=""/>
            <p:cNvSpPr/>
            <p:nvPr/>
          </p:nvSpPr>
          <p:spPr>
            <a:xfrm>
              <a:off x="609480" y="5851440"/>
              <a:ext cx="8153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eses Element w ist im Falle der Existenz eindeutig bestimmt und kann mit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    bezeichnet werd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758960" y="6267600"/>
                  <a:ext cx="298440" cy="26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09480" y="1521000"/>
            <a:ext cx="8153640" cy="1313640"/>
            <a:chOff x="609480" y="1521000"/>
            <a:chExt cx="8153640" cy="1313640"/>
          </a:xfrm>
        </p:grpSpPr>
        <p:sp>
          <p:nvSpPr>
            <p:cNvPr id="107" name=""/>
            <p:cNvSpPr/>
            <p:nvPr/>
          </p:nvSpPr>
          <p:spPr>
            <a:xfrm>
              <a:off x="609480" y="1521000"/>
              <a:ext cx="8153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5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Für abelsche Gruppen T mit uneingeschränkter Division durch natürliche Zahlen kann die in 9.3 beschriebene Operation auf die Brüche von ganzen Zahlen, also auf die rationalen Zahlen ausgedehnt werden: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3392640" y="2538360"/>
                  <a:ext cx="2500200" cy="29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t xml:space="preserve">T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q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qv 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" name=""/>
          <p:cNvSpPr/>
          <p:nvPr/>
        </p:nvSpPr>
        <p:spPr>
          <a:xfrm>
            <a:off x="609480" y="281952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zu 9.3 analogen Regeln sind aber nicht immer richti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276720"/>
            <a:ext cx="81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Regeln gefallen uns aber, und wir hätten sie gerne ganz allgemein auch für einen beliebigen Körper anstelle der rationalen Zahl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9625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5) Definition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in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ffiner Rau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ist ein Translationsraum (A,T,t) zusammen mit einem Körper K, der auf T so wirkt, dass die Regeln 1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4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aus 9.3 erfüllt sind: Für alle v,w aus T und alle r,s aus K ist st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09480" y="4973760"/>
            <a:ext cx="8153640" cy="1368720"/>
            <a:chOff x="609480" y="4973760"/>
            <a:chExt cx="8153640" cy="1368720"/>
          </a:xfrm>
        </p:grpSpPr>
        <p:sp>
          <p:nvSpPr>
            <p:cNvPr id="113" name=""/>
            <p:cNvSpPr/>
            <p:nvPr/>
          </p:nvSpPr>
          <p:spPr>
            <a:xfrm>
              <a:off x="609480" y="497376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1v = 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9480" y="529596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2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r(v + w) = rv + rw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480" y="561960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3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 + s)v = rv + sv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5943600"/>
              <a:ext cx="815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	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4</a:t>
              </a:r>
              <a:r>
                <a:rPr b="0" lang="de-DE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 (rs)v = r(sv)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651040"/>
            <a:ext cx="7924680" cy="627480"/>
            <a:chOff x="685800" y="2651040"/>
            <a:chExt cx="7924680" cy="627480"/>
          </a:xfrm>
        </p:grpSpPr>
        <p:sp>
          <p:nvSpPr>
            <p:cNvPr id="119" name=""/>
            <p:cNvSpPr/>
            <p:nvPr/>
          </p:nvSpPr>
          <p:spPr>
            <a:xfrm>
              <a:off x="685800" y="287964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o dass die Axiome 9.5.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- 9.5.4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füllt sind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359160" y="2651040"/>
                  <a:ext cx="2397240" cy="29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 </m:t>
                      </m:r>
                      <m:r>
                        <m:t xml:space="preserve">×</m:t>
                      </m:r>
                      <m:r>
                        <m:t xml:space="preserve">T</m:t>
                      </m:r>
                      <m:r>
                        <m:t xml:space="preserve">→</m:t>
                      </m:r>
                      <m:r>
                        <m:rPr>
                          <m:lit/>
                          <m:nor/>
                        </m:rPr>
                        <m:t xml:space="preserve">T,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r,v</m:t>
                      </m:r>
                      <m:r>
                        <m:t xml:space="preserve">)</m:t>
                      </m:r>
                      <m:r>
                        <m:t xml:space="preserve">↦</m:t>
                      </m:r>
                      <m:r>
                        <m:rPr>
                          <m:lit/>
                          <m:nor/>
                        </m:rPr>
                        <m:t xml:space="preserve">rv ,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>
            <a:off x="685800" y="37180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durch ist auf T die Struktur eines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ktorraumes über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definie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175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§2 Satz 2.3 sind wir den Vektorraumaxiomen bereits begegnet. Insbesondere ist der Standardraum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n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in Vektorraum über</a:t>
            </a:r>
            <a:r>
              <a:rPr b="1" lang="en-US" sz="20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1521000"/>
            <a:ext cx="7924680" cy="1068840"/>
            <a:chOff x="685800" y="1521000"/>
            <a:chExt cx="7924680" cy="1068840"/>
          </a:xfrm>
        </p:grpSpPr>
        <p:sp>
          <p:nvSpPr>
            <p:cNvPr id="124" name=""/>
            <p:cNvSpPr/>
            <p:nvPr/>
          </p:nvSpPr>
          <p:spPr>
            <a:xfrm>
              <a:off x="685800" y="1521000"/>
              <a:ext cx="792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In einem affinen Raum (A,T,t,K) hat man auf dem Raum T d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1886040"/>
              <a:ext cx="7924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Translationen die in §7 eingeführte Addition, die T zu einer abelschen Gruppe macht und dazu noch die </a:t>
              </a:r>
              <a:r>
                <a:rPr b="0" i="1" lang="de-DE" sz="2000" spc="-1" strike="noStrike">
                  <a:solidFill>
                    <a:srgbClr val="000000"/>
                  </a:solidFill>
                  <a:latin typeface="Arial"/>
                  <a:ea typeface="Lucida Sans Unicode"/>
                </a:rPr>
                <a:t>Skalarmultiplik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85800" y="53182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 einem affinen Raum (A,T,t,K) sind jetzt die Teilmengen der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 := P + Kv := {P + rv : r aus K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ade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49528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Gera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33684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Vektorra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pitel II, §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3321000"/>
            <a:ext cx="792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her wird du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T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t(P,Q) = Q –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Zusammen mit der Skalarmultiplikation auf T ein affiner Raum definier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1889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 = K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  <a:ea typeface="Lucida Sans Unicode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erfüllt analog zu §2 (Standardraum) die Axiome einer abelschen Gruppe und bezüglich der Skalarmultipl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15210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(9.6) Beispie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i K ein Körp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57640" y="2611440"/>
                <a:ext cx="2598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,v</m:t>
                    </m:r>
                    <m:r>
                      <m:t xml:space="preserve">)</m:t>
                    </m:r>
                    <m:r>
                      <m:t xml:space="preserve">↦</m:t>
                    </m:r>
                    <m:r>
                      <m:rPr>
                        <m:lit/>
                        <m:nor/>
                      </m:rPr>
                      <m:t xml:space="preserve">rv ,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85800" y="294012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e Axiome 9.5.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-9.5.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55616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r Fall  n = 2  liefert dann mit dem oben festgelegten Geradenbegriff eine (abstrakte) affine Ebene in Sinne von §5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3942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Was fehlt noch zu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nalytischen Geometr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? Länge von Vektoren, Abstand zwischen Punkten, Winkel.  Siehe §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608004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vor Vektorräume in §10: Axiome (noch einmal) und viele Beispie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0T07:52:51Z</dcterms:created>
  <dc:creator>MSchottenloher</dc:creator>
  <dc:description/>
  <dc:language>en-US</dc:language>
  <cp:lastModifiedBy>MSchottenloher</cp:lastModifiedBy>
  <dcterms:modified xsi:type="dcterms:W3CDTF">2001-11-04T17:04:52Z</dcterms:modified>
  <cp:revision>68</cp:revision>
  <dc:subject/>
  <dc:title>PowerPoint-Präsentation</dc:title>
</cp:coreProperties>
</file>