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5AB3DF88-8945-483B-B911-62C9B9988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II. Vom Raumbegriff zu algebraischen Struk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beginn: „Herleitung“ des Begriffs Vektorraum aus intuitiven Vorstellungen über den Raumbegriff und aus Erfahr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426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7 Der affine Raum – Teil 1: Punk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Translatio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768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7688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76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wicklung eines mathematisch gefassten Raumbegriffs „Affiner Raum“, um zunächst den Gruppenbegriff herzule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2767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affine Raum ist zunächst eine Menge A von Punkten. Dazu gehört eine Menge T von Translationen auf dem Raum A mit einer Reihe von Regeln, und zw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572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itivitä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u jedem Paar (P,Q) von Punkten aus A gibt es eine Translation v aus T, die P im Q überführt. Diese Translation wird mit t(P,Q) bezeichn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486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u jedem Punkt P aus A und jedem v aus T gibt es einen eindeutig bestimmten Punkt Q aus A mit t(P,Q) =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895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gangspunkt und Handlungsanweisung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§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267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1) Axi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Mengen A und T kommt also nach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4894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Eigenschaft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7.1 ist gleichbedeutend mit: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bijekti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270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r zusätzlichen Eigenschaf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jeden festen Punkt P aus erhalten wir di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76520" y="1905120"/>
                <a:ext cx="14032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76520" y="3124080"/>
                <a:ext cx="11160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 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038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2) Bemerku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Äquivalent zu der in 7.1 beschriebenen Struktur ist die Vorgabe von zwei Mengen A und T mit einer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76520" y="4811760"/>
                <a:ext cx="14032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85800" y="516564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ie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jektiv ist für alle P aus 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622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3) Beispie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 Modelle mit 2 Punk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A = {P,Q}. Dann ist T = {v,w}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200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ispiele 5.2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5.2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 1:  t(P,P) = t(Q,Q) =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P,Q) = t(Q,P) =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422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 2:  t(P,P) = t(Q,P) =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P,Q) = t(Q,Q) =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00120" y="1600200"/>
            <a:ext cx="2747160" cy="764280"/>
            <a:chOff x="5100120" y="1600200"/>
            <a:chExt cx="2747160" cy="764280"/>
          </a:xfrm>
        </p:grpSpPr>
        <p:grpSp>
          <p:nvGrpSpPr>
            <p:cNvPr id="78" name=""/>
            <p:cNvGrpSpPr/>
            <p:nvPr/>
          </p:nvGrpSpPr>
          <p:grpSpPr>
            <a:xfrm>
              <a:off x="5387760" y="1828800"/>
              <a:ext cx="2155680" cy="380880"/>
              <a:chOff x="5387760" y="1828800"/>
              <a:chExt cx="2155680" cy="38088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7162200" y="1828800"/>
                <a:ext cx="381240" cy="380880"/>
                <a:chOff x="7162200" y="1828800"/>
                <a:chExt cx="381240" cy="380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7162560" y="1828800"/>
                  <a:ext cx="380880" cy="380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>
                  <a:off x="7162200" y="1899360"/>
                  <a:ext cx="5868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87760" y="1828800"/>
                <a:ext cx="380880" cy="380880"/>
                <a:chOff x="5387760" y="1828800"/>
                <a:chExt cx="380880" cy="380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387760" y="1828800"/>
                  <a:ext cx="380880" cy="380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733000" y="1895760"/>
                  <a:ext cx="33120" cy="6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5965560" y="19810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36960" y="19810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08560" y="19810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5965560" y="205740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338520" y="1600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38520" y="1965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0120" y="175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38400" y="175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396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106600" y="2422440"/>
            <a:ext cx="2816280" cy="779760"/>
            <a:chOff x="5106600" y="2422440"/>
            <a:chExt cx="2816280" cy="779760"/>
          </a:xfrm>
        </p:grpSpPr>
        <p:sp>
          <p:nvSpPr>
            <p:cNvPr id="96" name=""/>
            <p:cNvSpPr/>
            <p:nvPr/>
          </p:nvSpPr>
          <p:spPr>
            <a:xfrm>
              <a:off x="6325920" y="2422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106600" y="2574720"/>
              <a:ext cx="2816280" cy="627480"/>
              <a:chOff x="5106600" y="2574720"/>
              <a:chExt cx="2816280" cy="627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5410080" y="2651040"/>
                <a:ext cx="2154960" cy="380880"/>
                <a:chOff x="5410080" y="2651040"/>
                <a:chExt cx="2154960" cy="38088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7183800" y="2651040"/>
                  <a:ext cx="381240" cy="380880"/>
                  <a:chOff x="7183800" y="2651040"/>
                  <a:chExt cx="381240" cy="38088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7184160" y="2651040"/>
                    <a:ext cx="380880" cy="380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7183800" y="2721600"/>
                    <a:ext cx="58680" cy="6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5410080" y="2651040"/>
                  <a:ext cx="380880" cy="380880"/>
                  <a:chOff x="5410080" y="2651040"/>
                  <a:chExt cx="380880" cy="38088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5410080" y="2651040"/>
                    <a:ext cx="380880" cy="380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755320" y="2718000"/>
                    <a:ext cx="33120" cy="6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5987520" y="280332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758920" y="280332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130160" y="280332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987160" y="287964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5106600" y="2574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95040" y="2803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57840" y="25747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15000" y="287964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33960" y="287964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685800" y="3657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Abbildung zusammen mit der Eigenschaf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76520" y="4114800"/>
                <a:ext cx="14032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85800" y="4419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ziert in natürlicher Weise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241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die folgende Festlegung: g(P,v) ist derjenige Punkt Q aus A, der t(P,Q) erfül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676520" y="4849920"/>
                <a:ext cx="147132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: A</m:t>
                    </m:r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2973600" y="5791320"/>
            <a:ext cx="4124880" cy="610920"/>
            <a:chOff x="2973600" y="5791320"/>
            <a:chExt cx="4124880" cy="610920"/>
          </a:xfrm>
        </p:grpSpPr>
        <p:sp>
          <p:nvSpPr>
            <p:cNvPr id="120" name=""/>
            <p:cNvSpPr/>
            <p:nvPr/>
          </p:nvSpPr>
          <p:spPr>
            <a:xfrm>
              <a:off x="6172200" y="5943600"/>
              <a:ext cx="76320" cy="7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76720" y="6324480"/>
              <a:ext cx="7596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581280" y="6019560"/>
              <a:ext cx="23623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640" y="603396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 = g(P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3600" y="6019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2520" y="5791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= t(P,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4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gegeben durch ein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76520" y="2846520"/>
                <a:ext cx="14032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85800" y="3124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n Eigenschaften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sammen 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je vier Punkte P,Q,R,S aus A gilt: Aus t(P,Q) = t(R,S) folgt stets t(P,R) = t(Q,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724280" y="4510080"/>
            <a:ext cx="1173600" cy="595440"/>
            <a:chOff x="4724280" y="4510080"/>
            <a:chExt cx="1173600" cy="595440"/>
          </a:xfrm>
        </p:grpSpPr>
        <p:sp>
          <p:nvSpPr>
            <p:cNvPr id="132" name=""/>
            <p:cNvSpPr/>
            <p:nvPr/>
          </p:nvSpPr>
          <p:spPr>
            <a:xfrm>
              <a:off x="4724280" y="4572000"/>
              <a:ext cx="762120" cy="533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5880" y="4510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(Q,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027520" y="4114800"/>
            <a:ext cx="3793680" cy="2363760"/>
            <a:chOff x="2027520" y="4114800"/>
            <a:chExt cx="3793680" cy="2363760"/>
          </a:xfrm>
        </p:grpSpPr>
        <p:sp>
          <p:nvSpPr>
            <p:cNvPr id="135" name=""/>
            <p:cNvSpPr/>
            <p:nvPr/>
          </p:nvSpPr>
          <p:spPr>
            <a:xfrm flipV="1">
              <a:off x="3809880" y="5333760"/>
              <a:ext cx="16765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0920" y="5486400"/>
              <a:ext cx="761760" cy="533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5257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518148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609588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590920" y="4495320"/>
              <a:ext cx="16761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6240" y="411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7520" y="527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8200" y="5257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2200" y="6110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7600" y="44956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P,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92040" y="56386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(P,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4840" y="572940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R,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1371600"/>
            <a:ext cx="7924680" cy="745560"/>
            <a:chOff x="685800" y="1371600"/>
            <a:chExt cx="7924680" cy="745560"/>
          </a:xfrm>
        </p:grpSpPr>
        <p:sp>
          <p:nvSpPr>
            <p:cNvPr id="151" name=""/>
            <p:cNvSpPr/>
            <p:nvPr/>
          </p:nvSpPr>
          <p:spPr>
            <a:xfrm>
              <a:off x="685800" y="1371600"/>
              <a:ext cx="79246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jeden festen Punkt P aus A erhalten wir so die Umkehrabbildung von t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als                 , definiert durch g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v) := g(P,v) für v aus T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874880" y="1708200"/>
                  <a:ext cx="11732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: T</m:t>
                      </m:r>
                      <m:r>
                        <m:t xml:space="preserve">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5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einem Translationsraum (A,T,t) gilt t(P,P) = t(Q,Q) für alle Punkte P und Q. Diese Translation wird mit n bezeichn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193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6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(A,T,t) ein System mit den Eigenschaften 7.1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7.1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Dann sind die folgenden Eigenschaften äquival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803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je vier Punkte P,Q,R,S aus A gilt: Aus t(P,Q) = t(R,S) folgt stets t(P,R) = t(Q,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413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jeden Punkt P aus A gilt: Für alle v,w aus T ist g(g(P.v),w) = g(g(P,w),v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027520" y="4114800"/>
            <a:ext cx="5477040" cy="2363760"/>
            <a:chOff x="2027520" y="4114800"/>
            <a:chExt cx="5477040" cy="2363760"/>
          </a:xfrm>
        </p:grpSpPr>
        <p:sp>
          <p:nvSpPr>
            <p:cNvPr id="159" name=""/>
            <p:cNvSpPr/>
            <p:nvPr/>
          </p:nvSpPr>
          <p:spPr>
            <a:xfrm>
              <a:off x="5031000" y="42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809880" y="5333760"/>
              <a:ext cx="16765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5486400"/>
              <a:ext cx="76176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5257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5000" y="518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5320" y="609588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590920" y="4495320"/>
              <a:ext cx="16761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6240" y="411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27520" y="527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25640" y="525780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* = g(g(P,w),v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2200" y="6110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832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8080" y="5638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44840" y="5729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67280" y="495288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4495680"/>
              <a:ext cx="8380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2040" y="4586400"/>
              <a:ext cx="171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g(g(P,v),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828800" y="4038480"/>
            <a:ext cx="6095880" cy="2666880"/>
            <a:chOff x="1828800" y="4038480"/>
            <a:chExt cx="6095880" cy="2666880"/>
          </a:xfrm>
        </p:grpSpPr>
        <p:sp>
          <p:nvSpPr>
            <p:cNvPr id="178" name=""/>
            <p:cNvSpPr/>
            <p:nvPr/>
          </p:nvSpPr>
          <p:spPr>
            <a:xfrm>
              <a:off x="1828800" y="4038480"/>
              <a:ext cx="6095880" cy="26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45120" y="42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924360" y="5333400"/>
              <a:ext cx="16761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5486400"/>
              <a:ext cx="7621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10160" y="4343400"/>
              <a:ext cx="7596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0120" y="525780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9120" y="518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19440" y="609588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705040" y="4495320"/>
              <a:ext cx="16765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0360" y="411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1640" y="5271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38680" y="5257800"/>
              <a:ext cx="197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* = g(g(P.w)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g(g(P,v),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16320" y="6110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8280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62560" y="5638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58960" y="57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76560" y="4495680"/>
              <a:ext cx="7621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057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en P,Q,R Punkte aus A mit v = t(P,Q) und w = t(P,R). Für jeden weiteren Punkt P* aus gilt für Q* = g(P*,v) und R* = g(P*,w) stets t(Q,R) = t(Q*,R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00600" y="3809880"/>
            <a:ext cx="2514600" cy="1982880"/>
            <a:chOff x="4800600" y="3809880"/>
            <a:chExt cx="2514600" cy="1982880"/>
          </a:xfrm>
        </p:grpSpPr>
        <p:sp>
          <p:nvSpPr>
            <p:cNvPr id="200" name=""/>
            <p:cNvSpPr/>
            <p:nvPr/>
          </p:nvSpPr>
          <p:spPr>
            <a:xfrm>
              <a:off x="4876920" y="4647960"/>
              <a:ext cx="685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876920" y="3885840"/>
              <a:ext cx="18288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3809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8680" y="54100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57800" y="3962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0" y="38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6080" y="54244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0600" y="48765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790960" y="4038480"/>
            <a:ext cx="1654560" cy="1295280"/>
            <a:chOff x="5790960" y="4038480"/>
            <a:chExt cx="1654560" cy="1295280"/>
          </a:xfrm>
        </p:grpSpPr>
        <p:sp>
          <p:nvSpPr>
            <p:cNvPr id="209" name=""/>
            <p:cNvSpPr/>
            <p:nvPr/>
          </p:nvSpPr>
          <p:spPr>
            <a:xfrm flipH="1">
              <a:off x="5790960" y="4038480"/>
              <a:ext cx="990360" cy="1295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8520" y="4647960"/>
              <a:ext cx="11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(Q*,R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447920" y="3276720"/>
            <a:ext cx="3330360" cy="1982520"/>
            <a:chOff x="1447920" y="3276720"/>
            <a:chExt cx="3330360" cy="1982520"/>
          </a:xfrm>
        </p:grpSpPr>
        <p:sp>
          <p:nvSpPr>
            <p:cNvPr id="212" name=""/>
            <p:cNvSpPr/>
            <p:nvPr/>
          </p:nvSpPr>
          <p:spPr>
            <a:xfrm>
              <a:off x="1981080" y="4114800"/>
              <a:ext cx="685800" cy="68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981080" y="3352320"/>
              <a:ext cx="18288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895480" y="3504960"/>
              <a:ext cx="99072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52480" y="3886200"/>
              <a:ext cx="76320" cy="75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2520" y="3276720"/>
              <a:ext cx="7596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487656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48320" y="4419360"/>
              <a:ext cx="7596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7920" y="38862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32907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60600" y="48909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1120" y="43434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43400" y="4433760"/>
              <a:ext cx="4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60600" y="33526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52680" y="4114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Q,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507120" y="5842080"/>
            <a:ext cx="2055240" cy="3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Q,R) = t(Q*,R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7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ranslationsraum (A,T,t) erfüllt auch die folgrnde Eigenschaf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ranslationsraum (A,T,t) induziert eine Verknüpfung auf T, die wir im folgenden beschreiben woll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489480"/>
            <a:ext cx="7772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:=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g(g(P,v),w)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05740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en v und w Translationen aus T. Zu jedem Punkt P gibt es den Punkt g(g(P,v),w) in A, den man durch eine Translation 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aus T erreichen ka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0322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(P,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) = g(g(P,v)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26708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8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Translationsraum (A,T,t) g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= 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Punkte P und Q aus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39424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her ka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:= 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abhängig von der speziellen Wahl von P definier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523880" y="2286000"/>
            <a:ext cx="6095880" cy="2821680"/>
            <a:chOff x="1523880" y="2286000"/>
            <a:chExt cx="6095880" cy="2821680"/>
          </a:xfrm>
        </p:grpSpPr>
        <p:sp>
          <p:nvSpPr>
            <p:cNvPr id="239" name=""/>
            <p:cNvSpPr/>
            <p:nvPr/>
          </p:nvSpPr>
          <p:spPr>
            <a:xfrm>
              <a:off x="1523880" y="2286000"/>
              <a:ext cx="6095880" cy="990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4708800"/>
              <a:ext cx="6019560" cy="398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ind die Gruppenaxio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8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die Verknüpfung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auf T zu einem Translations-raum (A,T,t) sind die folgenden Regeln erfül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Translationen v,w,z aus T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286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(w□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90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gibt n aus T mit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v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879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 jedem v aus T existiert v* aus T mit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413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a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0-24T07:52:41Z</dcterms:modified>
  <cp:revision>59</cp:revision>
  <dc:subject/>
  <dc:title>PowerPoint-Präsentation</dc:title>
</cp:coreProperties>
</file>