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F3A4A051-19AC-46FB-9EE8-4C7EC0B9B39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tel II. Vom Raumbegriff zu algebraischen Struk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556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beginn: „Herleitung“ des Begriffs Vektorraum aus intuitiven Vorstellungen über den Raumbegriff und aus Erfahr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426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7 Der affine Raum – Teil 1: Punk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Translatio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768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7688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76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209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wicklung eines mathematisch gefassten Raumbegriffs „Affiner Raum“, um zunächst den Gruppenbegriff herzulei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2767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affine Raum ist zunächst eine Menge A von Punkten. Dazu gehört eine Menge T von Translationen auf dem Raum A mit einer Reihe von Regeln, und zw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572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ansitivitä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Zu jedem Paar (P,Q) von Punkten aus A gibt es eine Translation v aus T, die P im Q überführt. Diese Translation wird mit t(P,Q) bezeichn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486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Zu jedem Punkt P aus A und jedem v aus T gibt es einen eindeutig bestimmten Punkt Q aus A mit t(P,Q) =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895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gangspunkt und Handlungsanweisung: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 §6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267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7.1) Axio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371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n Mengen A und T kommt also nach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48948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Eigenschaft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7.1 ist gleichbedeutend mit: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bijekti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2270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er zusätzlichen Eigenschaf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666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jeden festen Punkt P aus erhalten wir di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385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676520" y="1905120"/>
                <a:ext cx="14032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: A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76520" y="3124080"/>
                <a:ext cx="11160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 A</m:t>
                    </m:r>
                    <m:r>
                      <m:t xml:space="preserve">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1292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038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7.2) Bemerku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Äquivalent zu der in 7.1 beschriebenen Struktur ist die Vorgabe von zwei Mengen A und T mit einer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76520" y="4811760"/>
                <a:ext cx="14032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: A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85800" y="516564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ie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jektiv ist für alle P aus 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622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7.3) Beispie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 Modelle mit 2 Punk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371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A = {P,Q}. Dann ist T = {v,w}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200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ispiele 5.2.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5.2.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752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 1:  t(P,P) = t(Q,Q) =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(P,Q) = t(Q,P) =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385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4224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 2:  t(P,P) = t(Q,P) =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(P,Q) = t(Q,Q) =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100120" y="1600200"/>
            <a:ext cx="2747160" cy="764280"/>
            <a:chOff x="5100120" y="1600200"/>
            <a:chExt cx="2747160" cy="764280"/>
          </a:xfrm>
        </p:grpSpPr>
        <p:grpSp>
          <p:nvGrpSpPr>
            <p:cNvPr id="78" name=""/>
            <p:cNvGrpSpPr/>
            <p:nvPr/>
          </p:nvGrpSpPr>
          <p:grpSpPr>
            <a:xfrm>
              <a:off x="5387760" y="1828800"/>
              <a:ext cx="2155680" cy="380880"/>
              <a:chOff x="5387760" y="1828800"/>
              <a:chExt cx="2155680" cy="38088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7162200" y="1828800"/>
                <a:ext cx="381240" cy="380880"/>
                <a:chOff x="7162200" y="1828800"/>
                <a:chExt cx="381240" cy="380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7162560" y="1828800"/>
                  <a:ext cx="380880" cy="380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H="1">
                  <a:off x="7162200" y="1899360"/>
                  <a:ext cx="58680" cy="6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87760" y="1828800"/>
                <a:ext cx="380880" cy="380880"/>
                <a:chOff x="5387760" y="1828800"/>
                <a:chExt cx="380880" cy="380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387760" y="1828800"/>
                  <a:ext cx="380880" cy="380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733000" y="1895760"/>
                  <a:ext cx="33120" cy="6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5965560" y="198108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36960" y="19810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108560" y="19810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5965560" y="205740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6338520" y="1600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38520" y="19652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00120" y="1752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38400" y="1752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5000" y="2057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3960" y="2057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106600" y="2422440"/>
            <a:ext cx="2816280" cy="779760"/>
            <a:chOff x="5106600" y="2422440"/>
            <a:chExt cx="2816280" cy="779760"/>
          </a:xfrm>
        </p:grpSpPr>
        <p:sp>
          <p:nvSpPr>
            <p:cNvPr id="96" name=""/>
            <p:cNvSpPr/>
            <p:nvPr/>
          </p:nvSpPr>
          <p:spPr>
            <a:xfrm>
              <a:off x="6325920" y="2422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106600" y="2574720"/>
              <a:ext cx="2816280" cy="627480"/>
              <a:chOff x="5106600" y="2574720"/>
              <a:chExt cx="2816280" cy="6274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5410080" y="2651040"/>
                <a:ext cx="2154960" cy="380880"/>
                <a:chOff x="5410080" y="2651040"/>
                <a:chExt cx="2154960" cy="38088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7183800" y="2651040"/>
                  <a:ext cx="381240" cy="380880"/>
                  <a:chOff x="7183800" y="2651040"/>
                  <a:chExt cx="381240" cy="38088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7184160" y="2651040"/>
                    <a:ext cx="380880" cy="380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flipH="1">
                    <a:off x="7183800" y="2721600"/>
                    <a:ext cx="58680" cy="6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5410080" y="2651040"/>
                  <a:ext cx="380880" cy="380880"/>
                  <a:chOff x="5410080" y="2651040"/>
                  <a:chExt cx="380880" cy="38088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5410080" y="2651040"/>
                    <a:ext cx="380880" cy="380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5755320" y="2718000"/>
                    <a:ext cx="33120" cy="6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>
                  <a:off x="5987520" y="280332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758920" y="2803320"/>
                  <a:ext cx="7596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130160" y="2803320"/>
                  <a:ext cx="7596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>
                  <a:off x="5987160" y="287964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5106600" y="2574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95040" y="2803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57840" y="25747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15000" y="287964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33960" y="287964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685800" y="3657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Abbildung zusammen mit der Eigenschaf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76520" y="4114800"/>
                <a:ext cx="14032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: A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85800" y="4419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ziert in natürlicher Weise ein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2419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ch die folgende Festlegung: g(P,v) ist derjenige Punkt Q aus A, der t(P,Q) erfül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676520" y="4849920"/>
                <a:ext cx="147132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: A</m:t>
                    </m:r>
                    <m:r>
                      <m:t xml:space="preserve">×</m:t>
                    </m:r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2973600" y="5791320"/>
            <a:ext cx="4124880" cy="610920"/>
            <a:chOff x="2973600" y="5791320"/>
            <a:chExt cx="4124880" cy="610920"/>
          </a:xfrm>
        </p:grpSpPr>
        <p:sp>
          <p:nvSpPr>
            <p:cNvPr id="120" name=""/>
            <p:cNvSpPr/>
            <p:nvPr/>
          </p:nvSpPr>
          <p:spPr>
            <a:xfrm>
              <a:off x="6172200" y="5943600"/>
              <a:ext cx="76320" cy="75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76720" y="6324480"/>
              <a:ext cx="7596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581280" y="6019560"/>
              <a:ext cx="23623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67640" y="603396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 = g(P,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73600" y="6019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2520" y="5791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= t(P,Q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7.4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anslations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gegeben durch eine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76520" y="2846520"/>
                <a:ext cx="14032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: A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85800" y="3124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en Eigenschaften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 dass außerdem noch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je vier Punkte P,Q,R,S aus A gilt: Aus t(P,Q) = t(R,S) folgt stets t(P,R) = t(Q,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724280" y="4510080"/>
            <a:ext cx="1173600" cy="595440"/>
            <a:chOff x="4724280" y="4510080"/>
            <a:chExt cx="1173600" cy="595440"/>
          </a:xfrm>
        </p:grpSpPr>
        <p:sp>
          <p:nvSpPr>
            <p:cNvPr id="132" name=""/>
            <p:cNvSpPr/>
            <p:nvPr/>
          </p:nvSpPr>
          <p:spPr>
            <a:xfrm>
              <a:off x="4724280" y="4572000"/>
              <a:ext cx="762120" cy="533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5880" y="45100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(Q,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027520" y="4114800"/>
            <a:ext cx="3793680" cy="2363760"/>
            <a:chOff x="2027520" y="4114800"/>
            <a:chExt cx="3793680" cy="2363760"/>
          </a:xfrm>
        </p:grpSpPr>
        <p:sp>
          <p:nvSpPr>
            <p:cNvPr id="135" name=""/>
            <p:cNvSpPr/>
            <p:nvPr/>
          </p:nvSpPr>
          <p:spPr>
            <a:xfrm flipV="1">
              <a:off x="3809880" y="5333760"/>
              <a:ext cx="167652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90920" y="5486400"/>
              <a:ext cx="761760" cy="533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95680" y="43434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6000" y="52578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5000" y="518148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609588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590920" y="4495320"/>
              <a:ext cx="16761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6240" y="4114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27520" y="5272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8200" y="5257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2200" y="6110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67600" y="44956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(P,Q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92040" y="56386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(P,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44840" y="572940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(R,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5800" y="1371600"/>
            <a:ext cx="7924680" cy="745560"/>
            <a:chOff x="685800" y="1371600"/>
            <a:chExt cx="7924680" cy="745560"/>
          </a:xfrm>
        </p:grpSpPr>
        <p:sp>
          <p:nvSpPr>
            <p:cNvPr id="151" name=""/>
            <p:cNvSpPr/>
            <p:nvPr/>
          </p:nvSpPr>
          <p:spPr>
            <a:xfrm>
              <a:off x="685800" y="1371600"/>
              <a:ext cx="792468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jeden festen Punkt P aus A erhalten wir so die Umkehrabbildung von t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als                 , definiert durch g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v) := g(P,v) für v aus T.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874880" y="1708200"/>
                  <a:ext cx="117324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: T</m:t>
                      </m:r>
                      <m:r>
                        <m:t xml:space="preserve">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7.5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einem Translationsraum (A,T,t) gilt t(P,P) = t(Q,Q) für alle Punkte P und Q. Diese Translation wird mit n bezeichn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193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7.6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(A,T,t) ein System mit den Eigenschaften 7.1.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7.1.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Dann sind die folgenden Eigenschaften äquivalen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803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je vier Punkte P,Q,R,S aus A gilt: Aus t(P,Q) = t(R,S) folgt stets t(P,R) = t(Q,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413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jeden Punkt P aus A gilt: Für alle v,w aus T ist g(g(P.v),w) = g(g(P,w),v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027520" y="4114800"/>
            <a:ext cx="5477040" cy="2363760"/>
            <a:chOff x="2027520" y="4114800"/>
            <a:chExt cx="5477040" cy="2363760"/>
          </a:xfrm>
        </p:grpSpPr>
        <p:sp>
          <p:nvSpPr>
            <p:cNvPr id="159" name=""/>
            <p:cNvSpPr/>
            <p:nvPr/>
          </p:nvSpPr>
          <p:spPr>
            <a:xfrm>
              <a:off x="5031000" y="4267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809880" y="5333760"/>
              <a:ext cx="167652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5486400"/>
              <a:ext cx="76176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43434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52578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5000" y="51814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05320" y="609588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590920" y="4495320"/>
              <a:ext cx="16761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6240" y="4114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27520" y="5272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25640" y="5257800"/>
              <a:ext cx="186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* = g(g(P,w),v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2200" y="6110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68320" y="4495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48080" y="5638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44840" y="5729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67280" y="495288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4495680"/>
              <a:ext cx="8380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2040" y="4586400"/>
              <a:ext cx="171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= g(g(P,v),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828800" y="4038480"/>
            <a:ext cx="6095880" cy="2666880"/>
            <a:chOff x="1828800" y="4038480"/>
            <a:chExt cx="6095880" cy="2666880"/>
          </a:xfrm>
        </p:grpSpPr>
        <p:sp>
          <p:nvSpPr>
            <p:cNvPr id="178" name=""/>
            <p:cNvSpPr/>
            <p:nvPr/>
          </p:nvSpPr>
          <p:spPr>
            <a:xfrm>
              <a:off x="1828800" y="4038480"/>
              <a:ext cx="6095880" cy="26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45120" y="4267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924360" y="5333400"/>
              <a:ext cx="16761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66880" y="5486400"/>
              <a:ext cx="76212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10160" y="4343400"/>
              <a:ext cx="7596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00120" y="525780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9120" y="51814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19440" y="609588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705040" y="4495320"/>
              <a:ext cx="167652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0360" y="4114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41640" y="5271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38680" y="5257800"/>
              <a:ext cx="197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* = g(g(P.w),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= g(g(P,v),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16320" y="6110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82800" y="4495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62560" y="5638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58960" y="57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76560" y="4495680"/>
              <a:ext cx="76212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385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05740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en P,Q,R Punkte aus A mit v = t(P,Q) und w = t(P,R). Für jeden weiteren Punkt P* aus gilt für Q* = g(P*,v) und R* = g(P*,w) stets t(Q,R) = t(Q*,R*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800600" y="3809880"/>
            <a:ext cx="2514600" cy="1982880"/>
            <a:chOff x="4800600" y="3809880"/>
            <a:chExt cx="2514600" cy="1982880"/>
          </a:xfrm>
        </p:grpSpPr>
        <p:sp>
          <p:nvSpPr>
            <p:cNvPr id="200" name=""/>
            <p:cNvSpPr/>
            <p:nvPr/>
          </p:nvSpPr>
          <p:spPr>
            <a:xfrm>
              <a:off x="4876920" y="4647960"/>
              <a:ext cx="6858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876920" y="3885840"/>
              <a:ext cx="18288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38098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38680" y="54100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57800" y="39621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0" y="3824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56080" y="54244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00600" y="48765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790960" y="4038480"/>
            <a:ext cx="1654560" cy="1295280"/>
            <a:chOff x="5790960" y="4038480"/>
            <a:chExt cx="1654560" cy="1295280"/>
          </a:xfrm>
        </p:grpSpPr>
        <p:sp>
          <p:nvSpPr>
            <p:cNvPr id="209" name=""/>
            <p:cNvSpPr/>
            <p:nvPr/>
          </p:nvSpPr>
          <p:spPr>
            <a:xfrm flipH="1">
              <a:off x="5790960" y="4038480"/>
              <a:ext cx="990360" cy="1295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48520" y="4647960"/>
              <a:ext cx="119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(Q*,R*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447920" y="3276720"/>
            <a:ext cx="3330360" cy="1982520"/>
            <a:chOff x="1447920" y="3276720"/>
            <a:chExt cx="3330360" cy="1982520"/>
          </a:xfrm>
        </p:grpSpPr>
        <p:sp>
          <p:nvSpPr>
            <p:cNvPr id="212" name=""/>
            <p:cNvSpPr/>
            <p:nvPr/>
          </p:nvSpPr>
          <p:spPr>
            <a:xfrm>
              <a:off x="1981080" y="4114800"/>
              <a:ext cx="685800" cy="68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981080" y="3352320"/>
              <a:ext cx="18288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895480" y="3504960"/>
              <a:ext cx="99072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52480" y="3886200"/>
              <a:ext cx="76320" cy="75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62520" y="3276720"/>
              <a:ext cx="7596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200" y="487656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48320" y="4419360"/>
              <a:ext cx="7596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7920" y="38862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62520" y="32907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60600" y="48909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51120" y="43434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43400" y="4433760"/>
              <a:ext cx="4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60600" y="33526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52680" y="41148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(Q,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507120" y="5842080"/>
            <a:ext cx="2055240" cy="398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(Q,R) = t(Q*,R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7.7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Translationsraum (A,T,t) erfüllt auch die folgende Eigenschaf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24224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Translationsraum (A,T,t) induziert eine Verknüpfung auf T, die wir im folgenden beschreiben woll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540320"/>
            <a:ext cx="7772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 :=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g(g(P,v),w)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3108240"/>
            <a:ext cx="7772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en v und w Translationen aus T. Zu jedem Punkt P gibt es den Punkt g(g(P,v),w) in A, den man durch eine Translation 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 aus T erreichen kan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408312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(P,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 ) = g(g(P,v),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385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292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318280"/>
            <a:ext cx="7772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7.9) Satz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einen Translationsraum (A,T,t) g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 = 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Punkte P und Q aus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3716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7.8) Beispiel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1 in 7.3.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ein Translationsraum. Modell 2 in 7.3.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kein Translationsraum. 7.3.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fert zwei Beispiel von Translationsrä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523880" y="3571920"/>
            <a:ext cx="6095880" cy="2821680"/>
            <a:chOff x="1523880" y="3571920"/>
            <a:chExt cx="6095880" cy="2821680"/>
          </a:xfrm>
        </p:grpSpPr>
        <p:sp>
          <p:nvSpPr>
            <p:cNvPr id="239" name=""/>
            <p:cNvSpPr/>
            <p:nvPr/>
          </p:nvSpPr>
          <p:spPr>
            <a:xfrm>
              <a:off x="1523880" y="3571920"/>
              <a:ext cx="6095880" cy="990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0200" y="5994720"/>
              <a:ext cx="6019560" cy="398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sind die Gruppenaxiom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385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292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5052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7.8) Satz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ür die Verknüpfung 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auf T zu einem Translations-raum (A,T,t) sind die folgenden Regeln erfül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3114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Translationen v,w,z aus T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3571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(w□z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38768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gibt n aus T mit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v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4165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 jedem v aus T existiert v* aus T mit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* =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4699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 da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371600"/>
            <a:ext cx="7772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her ka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 := 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□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abhängig von der speziellen Wahl von P definiert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0-28T21:05:36Z</dcterms:modified>
  <cp:revision>61</cp:revision>
  <dc:subject/>
  <dc:title>PowerPoint-Präsentation</dc:title>
</cp:coreProperties>
</file>