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EA700A49-A17A-463F-B2DC-24A17BC579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143000" y="3429000"/>
            <a:ext cx="6934320" cy="3048120"/>
            <a:chOff x="1143000" y="3429000"/>
            <a:chExt cx="6934320" cy="3048120"/>
          </a:xfrm>
        </p:grpSpPr>
        <p:sp>
          <p:nvSpPr>
            <p:cNvPr id="44" name=""/>
            <p:cNvSpPr/>
            <p:nvPr/>
          </p:nvSpPr>
          <p:spPr>
            <a:xfrm>
              <a:off x="1143000" y="5257800"/>
              <a:ext cx="693432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3429000"/>
              <a:ext cx="693432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10 Vektorraum. Definition und Bei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7432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0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ektorraum über dem Kör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 ist eine additive abelsche Gruppe V, also für alle x,y,z aus V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59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wiederholen (vgl. auch 2.3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Begriff des Vektorraumes wurde in den letzten Paragrafen entwick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13160"/>
            <a:ext cx="79246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+ y) + z = x + (y +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0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vek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mit: x + 0 = x = 0 + 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Zu jedem x a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istiert  -x  a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  x+(-x) = 0. 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= y + x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5800" y="4572000"/>
            <a:ext cx="7772400" cy="703800"/>
            <a:chOff x="685800" y="4572000"/>
            <a:chExt cx="7772400" cy="703800"/>
          </a:xfrm>
        </p:grpSpPr>
        <p:sp>
          <p:nvSpPr>
            <p:cNvPr id="53" name=""/>
            <p:cNvSpPr/>
            <p:nvPr/>
          </p:nvSpPr>
          <p:spPr>
            <a:xfrm>
              <a:off x="685800" y="45720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zusammen mit ein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Skalarmultipl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5427720" y="4635720"/>
                  <a:ext cx="24969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 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V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r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rv ,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685800" y="48769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 dass für alle x,y aus V und alle r,s aus K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5257800"/>
            <a:ext cx="8153280" cy="1176840"/>
            <a:chOff x="685800" y="5257800"/>
            <a:chExt cx="8153280" cy="1176840"/>
          </a:xfrm>
        </p:grpSpPr>
        <p:sp>
          <p:nvSpPr>
            <p:cNvPr id="57" name=""/>
            <p:cNvSpPr/>
            <p:nvPr/>
          </p:nvSpPr>
          <p:spPr>
            <a:xfrm>
              <a:off x="685800" y="525780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1x = x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55245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6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r(x + y) = rx + ry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58071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7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 + s)x = rx + sx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60357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8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s)x = r(sx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1337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0) = 0 (0 ist der Nullvekto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861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ie für Untergruppen (vgl. 8.11) haben wir den 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446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2) Bemerkun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(V wird auch kurz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-Vektor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enannt.) Dann gilt für all x aus V und all r aus K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8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-1)x = -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438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 = 0 (Linke Seite: 0 ist die Null im Körper K; rechte Seite: 0 ist der Nullvekto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368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-1)(-1) = 1 und 0r = 0 im Körper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703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3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tervektor-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eine Menge U in V, die bezüglich der auf V gegebenen Addition und Skalarmultiplikation ein Vektorraum über K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2419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4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Eine nichtleere Menge U in V ist genau dann ein Untervektorraum, wenn für alle x,y in U und alle r aus K gilt: x+y, -y und rx liegen in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130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von Vektorräu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733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(r,s,0) : r,s aus K}  ist ein Untervektorraum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85800" y="3098880"/>
            <a:ext cx="7924680" cy="703800"/>
            <a:chOff x="685800" y="3098880"/>
            <a:chExt cx="7924680" cy="703800"/>
          </a:xfrm>
        </p:grpSpPr>
        <p:sp>
          <p:nvSpPr>
            <p:cNvPr id="74" name=""/>
            <p:cNvSpPr/>
            <p:nvPr/>
          </p:nvSpPr>
          <p:spPr>
            <a:xfrm>
              <a:off x="685800" y="309888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Sind U und W Untervektorräume von V, so ist auch der Durchschnitt              eine Untervektorraum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86000" y="3457800"/>
                  <a:ext cx="77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∩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" name=""/>
          <p:cNvSpPr/>
          <p:nvPr/>
        </p:nvSpPr>
        <p:spPr>
          <a:xfrm>
            <a:off x="685800" y="3673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die Vereinigung gilt das in der Regel n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197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 ist ein Vektorraum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üglich der komponentenweise Addition und Multiplik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79132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beschränkt} ist ein Untervektorraum von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4956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6) Folgenräum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eht zunächst um Folgen in der Analysis. Sei F die Menge aller Folgen x = 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...  ) reeller Zahl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768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0} und V sind Untervektorräume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124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v aus V\{0} . Dann ist die Menge Kv := {rv : r aus K} ein Untervektorraum von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4461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konvergent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1337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= {x aus F: x ist Nullfolge} ist Untervektorraum vo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75904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hat einen Häufungspunk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kein Untervektorraum von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3685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{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endlich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03848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konstant ab einem Index m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und zwar der Durchschnitt dieser beiden Untervektorräu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93704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Eine Folge x = 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F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solu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ummier- b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die Reihe mit dem allgemeinen Glie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 konverg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4382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rd meistens mit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5546880"/>
            <a:ext cx="7924680" cy="745560"/>
            <a:chOff x="685800" y="5546880"/>
            <a:chExt cx="7924680" cy="745560"/>
          </a:xfrm>
        </p:grpSpPr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762120" y="5600880"/>
                  <a:ext cx="22356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ℓ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>
              <a:off x="685800" y="5546880"/>
              <a:ext cx="79246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= {x aus F: x ist absolut summierbar} ist ein Untervektorraum von 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419720"/>
            <a:ext cx="79246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 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Eine komplexe Zahlenfolge  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=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+ i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ist genau dan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verg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i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renzwer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z = x + iy , wen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gegen x und (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gegen y konvergieren, dh. wenn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z| gegen 0 konvergiert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447920"/>
            <a:ext cx="8077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Eine Folge x = 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s F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quadratsummier- b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die Reihe mit dem allgemeinen Glie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konverg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2073240"/>
            <a:ext cx="7924680" cy="703800"/>
            <a:chOff x="685800" y="2073240"/>
            <a:chExt cx="7924680" cy="703800"/>
          </a:xfrm>
        </p:grpSpPr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55640" y="2111400"/>
                  <a:ext cx="23652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ℓ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" name=""/>
            <p:cNvSpPr/>
            <p:nvPr/>
          </p:nvSpPr>
          <p:spPr>
            <a:xfrm>
              <a:off x="685800" y="20732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:= {x aus F: x ist quadratsummierbar} ist ein Untervektorraum von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62120" y="2454120"/>
                  <a:ext cx="3474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ℓ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685800" y="275904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7) Räume komplexer Zahlenfol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tsprechend hat man den Raum aller komplexen Zahlenfolgen und die zu 10.6 analogen Untervektorrä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85800" y="3746520"/>
            <a:ext cx="7924680" cy="703800"/>
            <a:chOff x="685800" y="3746520"/>
            <a:chExt cx="7924680" cy="703800"/>
          </a:xfrm>
        </p:grpSpPr>
        <p:sp>
          <p:nvSpPr>
            <p:cNvPr id="103" name=""/>
            <p:cNvSpPr/>
            <p:nvPr/>
          </p:nvSpPr>
          <p:spPr>
            <a:xfrm>
              <a:off x="685800" y="374652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u 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benötigt man de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Betrag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in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C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, gegeben 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|z| :=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ür z = x + iy , x,y aus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2419200" y="4067280"/>
                  <a:ext cx="933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685800" y="5486400"/>
            <a:ext cx="792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 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8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9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nalog überträgt man die Defini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äufungspunk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solut summierb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adratsummierb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f komplexe Zahlenfolgen z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=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+ i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4224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+g)(m) := f(m) + g(m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4479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8) Räume von Abbildung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K ein Körper und M eine Menge. Die Menge der Abbildungen Abb(M,K)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in natürlicher Weise ein K-Vektorraum bezügl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f)(m) := rf(m) für f,g au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alle m aus M und r aus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4894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in 10.6 (bzw. in 10.7) beschriebene Folgenraum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zw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. Allgemeinere Folgenräume (Folgen von Körperele-menten aus K) sind die K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708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der Standardraum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als Abbildungsraum aufzufassen, es handelt sich 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M = {1,2, ... ,n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318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Vektorraum V über K ist auch 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er Raum der Folgen in V, ein Vektorraum von Abbild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447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Vektorraum V über K ist ganz allgemein 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K-Vektor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01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eisten Vektorräume von Bedeutung in der Analysis sind Untervektorräume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7874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9) Räume von Abbildungen mit endlichem Träger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äger einer Abbildung  x  aus Abb(M,K)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st nach Definition die Menge T = T(x) := {m aus M : x(m) ist nicht Null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57560" y="4952880"/>
                <a:ext cx="46018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für  m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M, m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85800" y="37339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hat als Untervektorraum den Ra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M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:= {x : x aus Abb(M,K) mit endlichem Träger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4470480"/>
            <a:ext cx="7924680" cy="408240"/>
            <a:chOff x="685800" y="4470480"/>
            <a:chExt cx="7924680" cy="408240"/>
          </a:xfrm>
        </p:grpSpPr>
        <p:grpSp>
          <p:nvGrpSpPr>
            <p:cNvPr id="120" name=""/>
            <p:cNvGrpSpPr/>
            <p:nvPr/>
          </p:nvGrpSpPr>
          <p:grpSpPr>
            <a:xfrm>
              <a:off x="2286000" y="4470480"/>
              <a:ext cx="5715000" cy="398880"/>
              <a:chOff x="2286000" y="4470480"/>
              <a:chExt cx="5715000" cy="398880"/>
            </a:xfrm>
          </p:grpSpPr>
          <p:sp>
            <p:nvSpPr>
              <p:cNvPr id="121" name=""/>
              <p:cNvSpPr/>
              <p:nvPr/>
            </p:nvSpPr>
            <p:spPr>
              <a:xfrm>
                <a:off x="2286000" y="4470480"/>
                <a:ext cx="57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Sei für a aus M die Abbildung                     durch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2" name=""/>
                  <p:cNvSpPr txBox="1"/>
                  <p:nvPr/>
                </p:nvSpPr>
                <p:spPr>
                  <a:xfrm>
                    <a:off x="5791320" y="4535640"/>
                    <a:ext cx="1218960" cy="31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K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3" name=""/>
            <p:cNvSpPr/>
            <p:nvPr/>
          </p:nvSpPr>
          <p:spPr>
            <a:xfrm>
              <a:off x="685800" y="44798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Bemerkung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09480" y="5272200"/>
            <a:ext cx="7925040" cy="398880"/>
            <a:chOff x="609480" y="5272200"/>
            <a:chExt cx="7925040" cy="398880"/>
          </a:xfrm>
        </p:grpSpPr>
        <p:sp>
          <p:nvSpPr>
            <p:cNvPr id="125" name=""/>
            <p:cNvSpPr/>
            <p:nvPr/>
          </p:nvSpPr>
          <p:spPr>
            <a:xfrm>
              <a:off x="609480" y="5272200"/>
              <a:ext cx="792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Offensichtlich ist       ein Element von K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(M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2641680" y="5335560"/>
                  <a:ext cx="23652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"/>
          <p:cNvSpPr/>
          <p:nvPr/>
        </p:nvSpPr>
        <p:spPr>
          <a:xfrm>
            <a:off x="609480" y="56386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ilt: Jedes Element x aus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hat eine eindeutige Darstellung als endliche Summe der 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648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n K-Vektorraum der Polynome mit Koeffizienten schreibt man auch als  K[T]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79064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geeigneten von Null verschieden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K und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M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30560" y="1447920"/>
                <a:ext cx="29113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85800" y="2209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10) Polynom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Folgen mit endlichem Träger in einem Körper, also die Vektoren aus 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(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lassen sich auch al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lyn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mit Koeffizienten aus K auffass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3184560"/>
            <a:ext cx="7924680" cy="703800"/>
            <a:chOff x="685800" y="3184560"/>
            <a:chExt cx="7924680" cy="703800"/>
          </a:xfrm>
        </p:grpSpPr>
        <p:sp>
          <p:nvSpPr>
            <p:cNvPr id="134" name=""/>
            <p:cNvSpPr/>
            <p:nvPr/>
          </p:nvSpPr>
          <p:spPr>
            <a:xfrm>
              <a:off x="685800" y="318456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Die      für  n aus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schreibe man als  T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, dann hat nach dem Vorangehenden ein Element  p  aus  K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(</a:t>
              </a:r>
              <a:r>
                <a:rPr b="1" lang="de-DE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N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  <a:ea typeface="Lucida Sans Unicode"/>
                </a:rPr>
                <a:t>)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tets die Form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211400" y="3232080"/>
                  <a:ext cx="23652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32120" y="3917880"/>
                <a:ext cx="3497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85800" y="426708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en Koeffizienten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aus K (hier dürfen einige der  p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Null sei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5800" y="5257800"/>
            <a:ext cx="7924680" cy="1008720"/>
            <a:chOff x="685800" y="5257800"/>
            <a:chExt cx="7924680" cy="1008720"/>
          </a:xfrm>
        </p:grpSpPr>
        <p:sp>
          <p:nvSpPr>
            <p:cNvPr id="139" name=""/>
            <p:cNvSpPr/>
            <p:nvPr/>
          </p:nvSpPr>
          <p:spPr>
            <a:xfrm>
              <a:off x="685800" y="5257800"/>
              <a:ext cx="7924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Ein Polynom p der Form                                                     bestimmt eine Abbildung von K nach K, die zugehörig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Polynomabbildun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, die folgendermaßen definiert is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3657600" y="5270400"/>
                  <a:ext cx="34718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 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2147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11) Stetige und differenzierbare Abbildun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sei ein Intervall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Dann ist  C(I) := {f : f ist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f ist stetig} ein Untervektorraum v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124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rner ist 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:= {f : f ist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f  ist k-mal stetig differenzierbar} ein Untervektorraum von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795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diesem Sinne ist  K[T]  ein Untervektorraum von 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097000" y="1447920"/>
                <a:ext cx="4977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: K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K ,  x</m:t>
                    </m:r>
                    <m:r>
                      <m:t xml:space="preserve">↦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85800" y="44956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rück zu d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ffinen Räum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mit denen wir den Begriff des Vektorraumes motiviert haben: Es sei V ein Vektorraum über K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181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tze  A = A(V) := V , T = T(V) := V  und  t(P,Q) := Q – P  für P,Q aus A . Dann 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791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A(V), T(V), 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 affiner Raum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733920"/>
            <a:ext cx="792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718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[T]  als Raum von Polynomabbildungen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ässt sich als Untervektorraum von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auffa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9T10:30:23Z</dcterms:modified>
  <cp:revision>72</cp:revision>
  <dc:subject/>
  <dc:title>PowerPoint-Präsentation</dc:title>
</cp:coreProperties>
</file>