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5FAE9A2F-3B31-4327-B5EB-87CB31F7B3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143000" y="3429000"/>
            <a:ext cx="6934320" cy="3048120"/>
            <a:chOff x="1143000" y="3429000"/>
            <a:chExt cx="6934320" cy="3048120"/>
          </a:xfrm>
        </p:grpSpPr>
        <p:sp>
          <p:nvSpPr>
            <p:cNvPr id="44" name=""/>
            <p:cNvSpPr/>
            <p:nvPr/>
          </p:nvSpPr>
          <p:spPr>
            <a:xfrm>
              <a:off x="1143000" y="5257800"/>
              <a:ext cx="6934320" cy="12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3429000"/>
              <a:ext cx="6934320" cy="12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10 Vektorraum. Definition und Bei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7432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0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ektorraum über dem Körp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 ist eine additive abelsche Gruppe V, also für alle x,y,z au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59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wiederholen (vgl. auch 2.3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Begriff des Vektorraumes wurde in den letzten Paragrafen entwicke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413160"/>
            <a:ext cx="79246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+ y) + z = x + (y + 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0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vek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mit: x + 0 = x = 0 + 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Zu jedem x a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istiert  -x  a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  x+(-x) = 0. 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= y +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5800" y="4572000"/>
            <a:ext cx="7772400" cy="703800"/>
            <a:chOff x="685800" y="4572000"/>
            <a:chExt cx="7772400" cy="703800"/>
          </a:xfrm>
        </p:grpSpPr>
        <p:sp>
          <p:nvSpPr>
            <p:cNvPr id="53" name=""/>
            <p:cNvSpPr/>
            <p:nvPr/>
          </p:nvSpPr>
          <p:spPr>
            <a:xfrm>
              <a:off x="685800" y="45720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zusammen mit ein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Skalarmultipl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5427720" y="4635720"/>
                  <a:ext cx="24969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 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V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r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rv ,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685800" y="48769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 dass für alle x,y aus V und alle r,s aus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5257800"/>
            <a:ext cx="8153280" cy="1176840"/>
            <a:chOff x="685800" y="5257800"/>
            <a:chExt cx="8153280" cy="1176840"/>
          </a:xfrm>
        </p:grpSpPr>
        <p:sp>
          <p:nvSpPr>
            <p:cNvPr id="57" name=""/>
            <p:cNvSpPr/>
            <p:nvPr/>
          </p:nvSpPr>
          <p:spPr>
            <a:xfrm>
              <a:off x="685800" y="525780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1v = 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55245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6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r(v + w) = rv + rw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58071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7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 + s)v = rv + s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60357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8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s)v = r(sv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193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0) = 0 (0 ist der Nullvekto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632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ie für Untergruppen haben wir den Sa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508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2) Bemerkung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(V wird auch kurz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-Vektor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enannt. Dann gilt für all x aus V und all r aus K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803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-1)x = -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498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 = 0 (0 ist die Null im Körper K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-1)(-1) = 1 und 0r = 0 im Körper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5496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3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tervektor-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eine Menge U in V, die bezüglich der auf V gegebenen Addition und Skalarmultiplikation ein Vektorraum über K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089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4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Eine nichtleere Menge U in V ist genau dann ein Untervektorraum, wenn für alle x,y in U und alle r aus K gilt: x+y, -y und rx liegen in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0} und V sind Untervektorräume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191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von Vektorräum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508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79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(r,s,0) : r,s aus K}  ist ein Untervektorraum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184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v aus V\{0} . Dann ist die Menge Kv := {rv : r aus K} ein Untervektorraum von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5800" y="3159000"/>
            <a:ext cx="7924680" cy="703800"/>
            <a:chOff x="685800" y="3159000"/>
            <a:chExt cx="7924680" cy="703800"/>
          </a:xfrm>
        </p:grpSpPr>
        <p:sp>
          <p:nvSpPr>
            <p:cNvPr id="77" name=""/>
            <p:cNvSpPr/>
            <p:nvPr/>
          </p:nvSpPr>
          <p:spPr>
            <a:xfrm>
              <a:off x="685800" y="315900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Sind U und W Untervektorräume von V, so ist auch der Durchschnitt              eine Untervektorraum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286000" y="3517920"/>
                  <a:ext cx="77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∩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" name=""/>
          <p:cNvSpPr/>
          <p:nvPr/>
        </p:nvSpPr>
        <p:spPr>
          <a:xfrm>
            <a:off x="685800" y="3733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ür die Vereinigung gilt das in der Regel n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2578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 ist ein Vektorraum ü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üglich der komponentenweise Addition und Multiplik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85144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beschränkt} ist ein Untervektorraum von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55616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6) Folgenräum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 geht um Folgen in der Analysis. Sei F die Menge aller Folgen x = (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...  ) reeller Zahl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99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f+g)(m) := f(m) + g(m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rf)(m) := rf(m) für f,g au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 aus M und r aus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4461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konvergent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1337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= {x aus F: x ist Nullfolge} ist Untervektorraum von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45412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hat einen Häufungspunk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st kein Untervektorraum von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06396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{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st endlich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73392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konstant ab einem Index m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und zwar der Durchschnitt dieser beiden Untervektorräu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7847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7) Räume von Abbildung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K ein Körper und M eine Menge. Die Menge der Abbildungen Abb(M,K)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in natürlicher Weise ein K-Vektorraum bezügl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in 10.6 beschriebene Folgenraum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Allgemei-nere Folgenräume (Folgen von Körperelementen aus K) sind die K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der Standardraum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als Abbildungsraum aufzufassen, es handelt sich 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M = {1,2, ... ,n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9718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Vektorraum V über K ist auch 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der Raum der Folgen in V, ein Vektorraum von Abbild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581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Vektorraum V über K ist ganz allgemein 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 K-Vektor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8610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7) Stetige und differenzierbare Abbildung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sei ein Intervall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Dann ist  C(I) := {f : f ist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nd f ist stetig} ein Untervektorraum v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1752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eisten Vektorräume von Bedeutung in der Analysis sind Untervektorräume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spiels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851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erner ist 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) := {f : f ist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nd f  ist k-mal stetig differenzierbar} ein Untervektorraum von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11T19:31:33Z</dcterms:modified>
  <cp:revision>71</cp:revision>
  <dc:subject/>
  <dc:title>PowerPoint-Präsentation</dc:title>
</cp:coreProperties>
</file>