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0F044DA-02DA-4177-A1CC-2AE663E591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9 Der affine Raum – Teil 2: Ge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93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sind auf dem Weg zum Begriff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finen 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5627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:= A(G) := G, T := T(G) := G  und  t(a,b) := b –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181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9.1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 G  eine abelsche additive Gruppe. S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419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stellen zunächst eine Verbindung von §8 zu §7 her (Umkehrung der Aussage 7.8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§7 haben wir unter Zugrundelegung von „Punkten“ und geeignet guten „Translationen“ zum Begriff 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lationsraum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amit zum Begriff 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füh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41316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esem Paragrafen werden wir mit Hilfe der Vorstellung von dem, was eine „Gerade“ im Raum ausmachen sollte, zum Begriff 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finen 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dem Begriff 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ktor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lan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927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ist  (A,T,t) eine Translations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32100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her wird du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T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t(P,Q) = Q –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sammen mit der Skalarmultiplikation auf T ein affiner Raum defin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889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rfüllt analog zu §2 (Standardraum) die Axiome einer abelschen Gruppe und bezüglich der Skalarmultipl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521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6) Beispie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i K ein Kör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257640" y="2611440"/>
                <a:ext cx="2598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,v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rPr>
                        <m:lit/>
                        <m:nor/>
                      </m:rPr>
                      <m:t xml:space="preserve">rv ,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85800" y="2940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Axiome 9.5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9.5.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Fall  n = 2  liefert dann mit dem oben festgelegten Geradenbegriff eine (abstrakte) affine Ebene in Sinne von §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53942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s fehlt noch zu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alytischen Geomet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? Länge von Vektoren, Abstand zwischen Punkten, Winkel.  Siehe §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60800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vor Vektorräume in §10: Axiome (noch einmal) und viele Beispie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.2) Definition –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Produkt zweier Gruppen  G  und  H  ist gegeben durch die Verknüp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00200" y="2209680"/>
                <a:ext cx="26557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00200" y="2513160"/>
                <a:ext cx="5851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 ,h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´,h´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rPr>
                            <m:lit/>
                            <m:nor/>
                          </m:rPr>
                          <m:t xml:space="preserve">g´,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h´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, fü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" name=""/>
          <p:cNvGrpSpPr/>
          <p:nvPr/>
        </p:nvGrpSpPr>
        <p:grpSpPr>
          <a:xfrm>
            <a:off x="685800" y="2819520"/>
            <a:ext cx="7924680" cy="398880"/>
            <a:chOff x="685800" y="2819520"/>
            <a:chExt cx="7924680" cy="398880"/>
          </a:xfrm>
        </p:grpSpPr>
        <p:sp>
          <p:nvSpPr>
            <p:cNvPr id="57" name=""/>
            <p:cNvSpPr/>
            <p:nvPr/>
          </p:nvSpPr>
          <p:spPr>
            <a:xfrm>
              <a:off x="685800" y="28195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bei  bezeichnet                   die Verknüpfung von G bzw. von H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2862360" y="2905200"/>
                  <a:ext cx="1252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circ </m:t>
                      </m:r>
                      <m:r>
                        <m:rPr>
                          <m:lit/>
                          <m:nor/>
                        </m:rPr>
                        <m:t xml:space="preserve">, bzw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 cdot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" name=""/>
          <p:cNvGrpSpPr/>
          <p:nvPr/>
        </p:nvGrpSpPr>
        <p:grpSpPr>
          <a:xfrm>
            <a:off x="685800" y="3870360"/>
            <a:ext cx="7924680" cy="703800"/>
            <a:chOff x="685800" y="3870360"/>
            <a:chExt cx="7924680" cy="703800"/>
          </a:xfrm>
        </p:grpSpPr>
        <p:sp>
          <p:nvSpPr>
            <p:cNvPr id="60" name=""/>
            <p:cNvSpPr/>
            <p:nvPr/>
          </p:nvSpPr>
          <p:spPr>
            <a:xfrm>
              <a:off x="685800" y="387036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nn mit       die Gruppenoperation auf der Produktmenge              bezeichnet wir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898640" y="3962160"/>
                  <a:ext cx="311040" cy="2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*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7413480" y="3959280"/>
                  <a:ext cx="58752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 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4876920"/>
            <a:ext cx="7924680" cy="398880"/>
            <a:chOff x="685800" y="4876920"/>
            <a:chExt cx="7924680" cy="398880"/>
          </a:xfrm>
        </p:grpSpPr>
        <p:sp>
          <p:nvSpPr>
            <p:cNvPr id="64" name=""/>
            <p:cNvSpPr/>
            <p:nvPr/>
          </p:nvSpPr>
          <p:spPr>
            <a:xfrm>
              <a:off x="685800" y="48769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 Produktmenge            mit        als Verknüpfung ist eine Grupp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2971800" y="4953240"/>
                  <a:ext cx="58752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 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4184640" y="4969080"/>
                  <a:ext cx="311040" cy="20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*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3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ine Gruppe G heiß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yklis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wenn sie von einem Element erzeugt wird, d.h. wenn es a aus G gibt mi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5800" y="3184560"/>
            <a:ext cx="7924680" cy="701640"/>
            <a:chOff x="685800" y="3184560"/>
            <a:chExt cx="7924680" cy="701640"/>
          </a:xfrm>
        </p:grpSpPr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68600" y="3579840"/>
                  <a:ext cx="57150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 ,h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´,h´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∘</m:t>
                          </m:r>
                          <m:r>
                            <m:rPr>
                              <m:lit/>
                              <m:nor/>
                            </m:rPr>
                            <m:t xml:space="preserve">g´,h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h´</m:t>
                          </m:r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für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 ,h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´,h´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H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" name=""/>
            <p:cNvSpPr/>
            <p:nvPr/>
          </p:nvSpPr>
          <p:spPr>
            <a:xfrm>
              <a:off x="685800" y="318456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2120" y="4572000"/>
                <a:ext cx="6484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er kurz: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g´,hh´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, fü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2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multiplikativer Schreibwei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85800" y="5467320"/>
            <a:ext cx="7924680" cy="704880"/>
            <a:chOff x="685800" y="5467320"/>
            <a:chExt cx="7924680" cy="704880"/>
          </a:xfrm>
        </p:grpSpPr>
        <p:sp>
          <p:nvSpPr>
            <p:cNvPr id="75" name=""/>
            <p:cNvSpPr/>
            <p:nvPr/>
          </p:nvSpPr>
          <p:spPr>
            <a:xfrm>
              <a:off x="685800" y="54673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Zu einer Gruppe G  hat man also insbesondere auch die Grupp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62120" y="5829480"/>
                  <a:ext cx="33415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, 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G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tc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"/>
          <p:cNvSpPr/>
          <p:nvPr/>
        </p:nvSpPr>
        <p:spPr>
          <a:xfrm>
            <a:off x="685800" y="2727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.4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e G eine zyklische Gruppe. Dann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048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 ist abels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4131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 ist isomorph zu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oder es gibt eine natürliche Zahl n , so dass G zu 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omorph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193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haben den folgend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kturs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327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Produkt abelscher Gruppen ist abels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648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Produkt zyklischer Gruppen ist nicht immer zyklis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5105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ück zur „Geometrie“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6228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erster natürlicher Ansatz für eine Gerade als Punktmenge in A ist der folgen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521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ch Festlegung auf eine abelschen Gruppe 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m abstrakten Modell nach 9.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tspricht – ganz vordergründig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6324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nächst legen wir uns darauf fest, dass eine Gerade in einem Translationsraum (A,T,t) eine Punktmenge ist und dass sich die Inzidenzrelation durch das „Enthaltensein“ beschre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7180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s zeichnet die Vorstellung von einer Geraden aus? Welche Eigenschaften sehen wir in einem Translationsraum als essentiell für eine Gerade 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2096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),T(G),t) einer „Geraden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5750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) einer „Ebenen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9559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) einem „dreidimensionalem Raum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4862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Gerade g, die durch zwei vorgegebene, voneinander verschiedene Punkte  P  und  Q  verläuft, enthalte die folgende, durch P und v = t(P,Q) festgelegte Punktme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4705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0v := v , (n+1)v := nv + v , sow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464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 +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:= {P + zv : z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844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bei ist zv als die in 8.8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führte additiv geschriebene „Potenz“ zu verste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7754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-n)v := -(nv) , für natürliche Zahlen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11480" y="1995480"/>
            <a:ext cx="2753640" cy="811080"/>
            <a:chOff x="2211480" y="1995480"/>
            <a:chExt cx="2753640" cy="811080"/>
          </a:xfrm>
        </p:grpSpPr>
        <p:sp>
          <p:nvSpPr>
            <p:cNvPr id="99" name=""/>
            <p:cNvSpPr/>
            <p:nvPr/>
          </p:nvSpPr>
          <p:spPr>
            <a:xfrm>
              <a:off x="4038480" y="22860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600" y="25146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819520" y="236196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34280" y="243828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 = g(P,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11480" y="2209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90920" y="19954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= t(P,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2514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228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-228600" y="2300400"/>
            <a:ext cx="2590920" cy="671040"/>
            <a:chOff x="-228600" y="2300400"/>
            <a:chExt cx="2590920" cy="671040"/>
          </a:xfrm>
        </p:grpSpPr>
        <p:sp>
          <p:nvSpPr>
            <p:cNvPr id="108" name=""/>
            <p:cNvSpPr/>
            <p:nvPr/>
          </p:nvSpPr>
          <p:spPr>
            <a:xfrm>
              <a:off x="990720" y="274320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295280" y="2590560"/>
              <a:ext cx="1067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0720" y="274320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74320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-228600" y="281916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600" y="2438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2300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343400" y="1371600"/>
            <a:ext cx="4114800" cy="914040"/>
            <a:chOff x="4343400" y="1371600"/>
            <a:chExt cx="4114800" cy="914040"/>
          </a:xfrm>
        </p:grpSpPr>
        <p:sp>
          <p:nvSpPr>
            <p:cNvPr id="116" name=""/>
            <p:cNvSpPr/>
            <p:nvPr/>
          </p:nvSpPr>
          <p:spPr>
            <a:xfrm>
              <a:off x="7086600" y="18288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391520" y="167616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86600" y="18288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205740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867280" y="1904760"/>
              <a:ext cx="1067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720" y="205740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343400" y="213336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1843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16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0120" y="1371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2438280"/>
            <a:ext cx="662940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4382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1v =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46120"/>
            <a:ext cx="8153640" cy="685800"/>
            <a:chOff x="609480" y="1446120"/>
            <a:chExt cx="8153640" cy="685800"/>
          </a:xfrm>
        </p:grpSpPr>
        <p:sp>
          <p:nvSpPr>
            <p:cNvPr id="130" name=""/>
            <p:cNvSpPr/>
            <p:nvPr/>
          </p:nvSpPr>
          <p:spPr>
            <a:xfrm>
              <a:off x="609480" y="144612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(9.5) Lemma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Für alle abelschen Gruppen T operiert </a:t>
              </a:r>
              <a:r>
                <a:rPr b="1" lang="de-DE" sz="2000" spc="-1" strike="noStrike">
                  <a:solidFill>
                    <a:srgbClr val="000000"/>
                  </a:solidFill>
                  <a:latin typeface="Lucida Sans Unicode"/>
                  <a:ea typeface="Lucida Sans Unicode"/>
                </a:rPr>
                <a:t>ℤ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auf T durch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441600" y="1838520"/>
                  <a:ext cx="242568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z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zv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"/>
          <p:cNvSpPr/>
          <p:nvPr/>
        </p:nvSpPr>
        <p:spPr>
          <a:xfrm>
            <a:off x="609480" y="20574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bei sind für v,w aus T und r,s aus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folgenden Regeln erfüllt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75904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r(v + w) = rv + rw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124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 + s)v = rv + s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4894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s)v = r(s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038480"/>
            <a:ext cx="815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6) Bemerkung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s kann  nv = 0  vorkommen, auch wenn n und v von 0 verschieden sind.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arakteristik eines Körpe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Die kleinste natürliche Zahl  p  ungleich 0 mit p1 = 0, falls es ein solches p gib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5334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 +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kann in P* +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* vollkommen enthalten sein, ohne dass die beiden Mengen gleich sind. Zum Beispiel, wenn P = P* 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v* = v gil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19320" y="1676520"/>
            <a:ext cx="6172200" cy="1204920"/>
            <a:chOff x="1219320" y="1676520"/>
            <a:chExt cx="6172200" cy="1204920"/>
          </a:xfrm>
        </p:grpSpPr>
        <p:sp>
          <p:nvSpPr>
            <p:cNvPr id="140" name=""/>
            <p:cNvSpPr/>
            <p:nvPr/>
          </p:nvSpPr>
          <p:spPr>
            <a:xfrm>
              <a:off x="6248520" y="1676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23479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25765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1800" y="242388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31160" y="242424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 = g(P,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0080" y="2271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0400" y="196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5200" y="18907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25765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9320" y="28051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523880" y="2652480"/>
              <a:ext cx="1067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15200" y="18907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21193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95880" y="1966680"/>
              <a:ext cx="1067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21193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67080" y="23479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572000" y="219528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19320" y="28051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19320" y="28051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24280" y="19051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6520" y="2362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09480" y="35812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diesem Grunde liefert z.B.  A =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P +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als „Ansatz für Geraden“ keine (abstrakte) affine Ebene nach §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895480" y="1981080"/>
            <a:ext cx="1219320" cy="1218960"/>
            <a:chOff x="2895480" y="1981080"/>
            <a:chExt cx="1219320" cy="1218960"/>
          </a:xfrm>
        </p:grpSpPr>
        <p:sp>
          <p:nvSpPr>
            <p:cNvPr id="163" name=""/>
            <p:cNvSpPr/>
            <p:nvPr/>
          </p:nvSpPr>
          <p:spPr>
            <a:xfrm>
              <a:off x="2895480" y="198108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971800" y="2528640"/>
              <a:ext cx="1066680" cy="596880"/>
              <a:chOff x="2971800" y="2528640"/>
              <a:chExt cx="1066680" cy="5968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2971800" y="2528640"/>
                <a:ext cx="1066680" cy="152640"/>
                <a:chOff x="2971800" y="2528640"/>
                <a:chExt cx="1066680" cy="152640"/>
              </a:xfrm>
            </p:grpSpPr>
            <p:sp>
              <p:nvSpPr>
                <p:cNvPr id="166" name=""/>
                <p:cNvSpPr/>
                <p:nvPr/>
              </p:nvSpPr>
              <p:spPr>
                <a:xfrm flipV="1">
                  <a:off x="2971800" y="2604960"/>
                  <a:ext cx="53316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3504960" y="2528640"/>
                  <a:ext cx="53352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3048120" y="275724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*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05320" y="26812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*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V="1">
              <a:off x="2971800" y="236160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0400" y="1981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19320" y="1905120"/>
            <a:ext cx="6172200" cy="990000"/>
            <a:chOff x="1219320" y="1905120"/>
            <a:chExt cx="6172200" cy="990000"/>
          </a:xfrm>
        </p:grpSpPr>
        <p:sp>
          <p:nvSpPr>
            <p:cNvPr id="173" name=""/>
            <p:cNvSpPr/>
            <p:nvPr/>
          </p:nvSpPr>
          <p:spPr>
            <a:xfrm>
              <a:off x="4267440" y="2361960"/>
              <a:ext cx="7596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43200" y="25905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971800" y="2361600"/>
              <a:ext cx="1067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30800" y="2438280"/>
              <a:ext cx="23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 = g(P,v) = g(P,2v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0440" y="228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1981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15200" y="190512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3200" y="25905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9320" y="28191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524240" y="2666880"/>
              <a:ext cx="10666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15200" y="190512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21333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096240" y="1981080"/>
              <a:ext cx="10666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91320" y="21333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7440" y="23619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572000" y="2209680"/>
              <a:ext cx="106704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19320" y="28191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28191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24640" y="19191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520" y="2376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1960" y="2474640"/>
              <a:ext cx="115920" cy="11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70520" y="2244600"/>
              <a:ext cx="115920" cy="11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43280" y="2705040"/>
              <a:ext cx="115920" cy="11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04120" y="2016000"/>
              <a:ext cx="115920" cy="11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09480" y="16002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= 2v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19112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as Beispiel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sst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eingeschränkte Division durch natürliche 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mi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8006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h. die folgende Eigenschaft: Zu jedem von 0 verschiedenen Element v aus T und jeder von 0 verschiedenen natürlichen Zahl n gibt es ein weiteres Element w mit nw = v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5715000"/>
            <a:ext cx="8153640" cy="703800"/>
            <a:chOff x="609480" y="5715000"/>
            <a:chExt cx="8153640" cy="703800"/>
          </a:xfrm>
        </p:grpSpPr>
        <p:sp>
          <p:nvSpPr>
            <p:cNvPr id="201" name=""/>
            <p:cNvSpPr/>
            <p:nvPr/>
          </p:nvSpPr>
          <p:spPr>
            <a:xfrm>
              <a:off x="609480" y="5715000"/>
              <a:ext cx="815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ses Element w ist im Falle der Existenz eindeutig bestimmt und kann mit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bezeichnet werd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1758960" y="6131160"/>
                  <a:ext cx="298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66680" y="4572000"/>
            <a:ext cx="693432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480" y="1521000"/>
            <a:ext cx="8153640" cy="1313640"/>
            <a:chOff x="609480" y="1521000"/>
            <a:chExt cx="8153640" cy="1313640"/>
          </a:xfrm>
        </p:grpSpPr>
        <p:sp>
          <p:nvSpPr>
            <p:cNvPr id="206" name=""/>
            <p:cNvSpPr/>
            <p:nvPr/>
          </p:nvSpPr>
          <p:spPr>
            <a:xfrm>
              <a:off x="609480" y="1521000"/>
              <a:ext cx="8153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5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Für abelsche Gruppen T mit uneingeschränkter Division durch natürliche Zahlen kann die in 9.3 beschriebene Operation auf die Brüche von ganzen Zahlen, also auf die rationalen Zahlen ausgedehnt werden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3392640" y="2538360"/>
                  <a:ext cx="25002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q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qv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"/>
          <p:cNvSpPr/>
          <p:nvPr/>
        </p:nvSpPr>
        <p:spPr>
          <a:xfrm>
            <a:off x="609480" y="28954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zu 9.3 analogen Regeln sollen dabei erhalten bleiben, und wir fordern sie ganz allgemein auch für einen beliebigen Kör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5812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5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ffiner 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ein Translationsraum (A,T,t) zusammen mit einem Körper K, der auf T so wirkt, dass die Regeln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9.3 erfüllt sind: Für alle v,w aus T und alle r,s aus K ist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09480" y="4729320"/>
            <a:ext cx="8153640" cy="1368720"/>
            <a:chOff x="609480" y="4729320"/>
            <a:chExt cx="8153640" cy="1368720"/>
          </a:xfrm>
        </p:grpSpPr>
        <p:sp>
          <p:nvSpPr>
            <p:cNvPr id="211" name=""/>
            <p:cNvSpPr/>
            <p:nvPr/>
          </p:nvSpPr>
          <p:spPr>
            <a:xfrm>
              <a:off x="609480" y="472932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1v = 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480" y="505152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r(v + w) = rv + rw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480" y="537516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 + s)v = rv + s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480" y="569916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s)v = r(sv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85800" y="2651040"/>
            <a:ext cx="7924680" cy="703800"/>
            <a:chOff x="685800" y="2651040"/>
            <a:chExt cx="7924680" cy="703800"/>
          </a:xfrm>
        </p:grpSpPr>
        <p:sp>
          <p:nvSpPr>
            <p:cNvPr id="217" name=""/>
            <p:cNvSpPr/>
            <p:nvPr/>
          </p:nvSpPr>
          <p:spPr>
            <a:xfrm>
              <a:off x="685800" y="295596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o dass die Axiome 9.5.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9.5.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füllt si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359160" y="2651040"/>
                  <a:ext cx="23972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 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T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r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rv ,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"/>
          <p:cNvSpPr/>
          <p:nvPr/>
        </p:nvSpPr>
        <p:spPr>
          <a:xfrm>
            <a:off x="685800" y="3718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durch ist auf T die Struktur eine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ktorraumes über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175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§2 Satz 2.3 sind wir den Vektorraumaxiomen bereits begegnet. Insbesondere ist der Standardraum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 Vektorraum über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85800" y="1521000"/>
            <a:ext cx="7924680" cy="1068840"/>
            <a:chOff x="685800" y="1521000"/>
            <a:chExt cx="7924680" cy="1068840"/>
          </a:xfrm>
        </p:grpSpPr>
        <p:sp>
          <p:nvSpPr>
            <p:cNvPr id="222" name=""/>
            <p:cNvSpPr/>
            <p:nvPr/>
          </p:nvSpPr>
          <p:spPr>
            <a:xfrm>
              <a:off x="685800" y="15210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In einem affinen Raum (A,T,t,K) hat man also auf dem Raum T 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" y="18860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ranslationen die in §7 eingeführte Addition, die T zu einer abelschen Gruppe macht und dazu noch die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kalarmultipl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53182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m affinen Raum (A,T,t,K) sind jetzt die Teilmengen der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 := P + Kv := {P + rv : r aus K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a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952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a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336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ktorra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1T19:28:46Z</dcterms:modified>
  <cp:revision>70</cp:revision>
  <dc:subject/>
  <dc:title>PowerPoint-Präsentation</dc:title>
</cp:coreProperties>
</file>