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19E0624-7F54-457D-9D18-D4DCD16C7B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83059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nichtleer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7924680" cy="1313640"/>
            <a:chOff x="685800" y="2590920"/>
            <a:chExt cx="7924680" cy="1313640"/>
          </a:xfrm>
        </p:grpSpPr>
        <p:sp>
          <p:nvSpPr>
            <p:cNvPr id="133" name=""/>
            <p:cNvSpPr/>
            <p:nvPr/>
          </p:nvSpPr>
          <p:spPr>
            <a:xfrm>
              <a:off x="685800" y="259092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857920" y="267012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42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örpe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5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4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x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die Menge der reellen Zahlenpaar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 + (v,w) := (x+v,y+w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79246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(v,w) := (xv-yw,xw+yv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x,y,v,w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91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 := (0,0) ist die Null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:= (1,0) ist das Einselemen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zu (x,y)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\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{0}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n Verknüpfungen ist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52680" y="5518080"/>
                <a:ext cx="1908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ation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:= (0,1) erfüllt die Gleichung 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1 = 0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x + iy := (x,y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übrigen sind  1, i, -1, -i  die 4-ten Einheitswurzeln (vgl. 8.7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08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 mit der Notation  x +  i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 + iy)(v + iw) = xv-yw + i(xw+y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22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 (x,y) = Re (x+iy)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(x,y)  = Im (x+iy) :=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5089680"/>
            <a:ext cx="7924680" cy="1313640"/>
            <a:chOff x="685800" y="5089680"/>
            <a:chExt cx="7924680" cy="1313640"/>
          </a:xfrm>
        </p:grpSpPr>
        <p:sp>
          <p:nvSpPr>
            <p:cNvPr id="164" name=""/>
            <p:cNvSpPr/>
            <p:nvPr/>
          </p:nvSpPr>
          <p:spPr>
            <a:xfrm>
              <a:off x="685800" y="508968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Homomorphismus                  zwischen Körpern erfüllt 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+b) = f(a) + f(b)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b) = f(a)f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a und b aus K. Insbesondere: f(0) = 0 und f(1) = 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378240" y="5156280"/>
                  <a:ext cx="104436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2767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346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971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70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79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8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 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„gleiche“ (vgl. Isomorphismus in 8.8) Grup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= {n,w} mit n+n = w+w = n und n+w = w+n = 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241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Gruppe G besitzt ein neutrales Element, ist daher nich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75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Permutationen auf M = {1,2,3, ... , n} sind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ykli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mutationen, das sind per Definition die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 = 0,1,2, ... n,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61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1, 2, ... , n-k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n-k+1, n-k+2, ... ,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=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0880" y="27432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78120" y="339408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85800" y="3184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22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lt; n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gt; n-1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ist die Komposition von Abbildungen eine Verknüpfung auf der Men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 k = 0,1,2, ... n-1} der zyklischen Permutationen von n Ele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ssoziativgesetz gilt für die Komposition,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das neutrale Element und zu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Inverse. Damit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Gruppe, und sogar eine abelsch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08480" y="2362320"/>
                <a:ext cx="192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 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37940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: Die Regel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bzw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en (in multiplikativer Schreibweise mit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vgl. 8.3.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79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65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: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erzeugt“ die Gruppe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vgl. 9.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46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t die Gleichung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, kann also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-te Wurzel der Ein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fasst werden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61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„n-ten Einheitswurzeln“ bildet eine abelsche Gruppe bezüglich der Komposition. (Es handelt sich um eine zyklische Gruppe, vgl. 9.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38480" y="533412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146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ere Realisierungen v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8954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komplexen Zahlen auf dem Einheitskr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:= exp(2πik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Drehungen 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der Ebene, die ein regelmäßiges n-Eck in sich überfüh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1938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854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 f  bijektiv ist und die Umkehrabbildung auch ein Homomorphismu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4359240"/>
            <a:ext cx="7924680" cy="703800"/>
            <a:chOff x="685800" y="4359240"/>
            <a:chExt cx="7924680" cy="703800"/>
          </a:xfrm>
        </p:grpSpPr>
        <p:sp>
          <p:nvSpPr>
            <p:cNvPr id="123" name=""/>
            <p:cNvSpPr/>
            <p:nvPr/>
          </p:nvSpPr>
          <p:spPr>
            <a:xfrm>
              <a:off x="685800" y="4359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bijektiver Homomorphismus von Gruppen, dann ist f ein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502000" y="4422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6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6:08Z</dcterms:modified>
  <cp:revision>70</cp:revision>
  <dc:subject/>
  <dc:title>PowerPoint-Präsentation</dc:title>
</cp:coreProperties>
</file>