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2EDC824F-6685-4C43-81AD-EA8095C85D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29000"/>
            <a:ext cx="830592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für alle a,b,c aus G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2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a . ( n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nichtleer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2590920"/>
            <a:ext cx="7924680" cy="1313640"/>
            <a:chOff x="685800" y="2590920"/>
            <a:chExt cx="7924680" cy="1313640"/>
          </a:xfrm>
        </p:grpSpPr>
        <p:sp>
          <p:nvSpPr>
            <p:cNvPr id="133" name=""/>
            <p:cNvSpPr/>
            <p:nvPr/>
          </p:nvSpPr>
          <p:spPr>
            <a:xfrm>
              <a:off x="685800" y="259092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857920" y="267012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42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örpe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51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4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x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die Menge der reellen Zahlenpaare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 + (v,w) := (x+v,y+w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79246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(v,w) := (xv-yw,xw+yv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x,y,v,w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1911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il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0 := (0,0) ist die Null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:= (1,0) ist das Einselemen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zu (x,y)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\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{0}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iesen Verknüpfungen ist ein Kör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52680" y="5518080"/>
                <a:ext cx="1908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ation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:= (0,1) erfüllt die Gleichung i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+ 1 = 0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x + iy := (x,y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übrigen sind  1, i, -1, -i  die 4-ten Einheitswurzeln (vgl. 8.7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108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 mit der Notation  x +  i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 + iy)(v + iw) = xv-yw + i(xw+y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422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 (x,y) = Re (x+iy) :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(x,y)  = Im (x+iy) :=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5800" y="5089680"/>
            <a:ext cx="7924680" cy="1313640"/>
            <a:chOff x="685800" y="5089680"/>
            <a:chExt cx="7924680" cy="1313640"/>
          </a:xfrm>
        </p:grpSpPr>
        <p:sp>
          <p:nvSpPr>
            <p:cNvPr id="164" name=""/>
            <p:cNvSpPr/>
            <p:nvPr/>
          </p:nvSpPr>
          <p:spPr>
            <a:xfrm>
              <a:off x="685800" y="508968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Homomorphismus                  zwischen Körpern erfüllt al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+b) = f(a) + f(b)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b) = f(a)f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alle a und b aus K. Insbesondere: f(0) = 0 und f(1) = 1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378240" y="5156280"/>
                  <a:ext cx="104436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K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2767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346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971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703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479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089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 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n = 0 und a* = -a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4705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„gleiche“ (vgl. Isomorphismus in 8.8) Grup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= {n,w} mit n+n = w+w = n und n+w = w+n = w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66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699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657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meist kurz 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241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Gruppe G besitzt ein neutrales Element, ist daher nicht l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432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33840" y="380988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r Gruppe G gilt immer:  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a  und  a*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n  für alle Gruppenelemente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81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209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870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Komposition „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als Ver-knüpfung und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752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 Permutationen auf M = {1,2,3, ... , n} sind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zyklis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ermutationen, das sind per Definition die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k = 0,1,2, ... n,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8610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1, 2, ... , n-k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n-k+1, n-k+2, ... , n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(M) mit dieser Verknüpfung nennt man die Gruppe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der Menge M = {1,2,3, ... , n} schreibt man die Elemente p von  S(M) =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990880" y="274320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78120" y="3394080"/>
                <a:ext cx="3492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85800" y="3184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622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lt; n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gt; n-1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 ist die Komposition von Abbildungen eine Verknüpfung auf der Meng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{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 k = 0,1,2, ... n-1} der zyklischen Permutationen von n Elemen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4320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Assoziativgesetz gilt für die Komposition,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st das neutrale Element und zu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-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Inverse. Damit is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Gruppe, und sogar eine abelsche Grup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08480" y="2362320"/>
                <a:ext cx="192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 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5800" y="37940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heiten: Die Regeln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bzw.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gen (in multiplikativer Schreibweise mit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1, vgl. 8.3.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479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165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: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„erzeugt“ die Gruppe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vgl. 9.3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5468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üllt die Gleichung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, kann also al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-te Wurzel der Ein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gefasst werden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4461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„n-ten Einheitswurzeln“ bildet eine abelsche Gruppe bezüglich der Komposition. (Es handelt sich um eine zyklische Gruppe, vgl. 9.3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572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38480" y="533412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146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dere Realisierungen v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8954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komplexen Zahlen auf dem Einheitskr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:= exp(2πik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657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Drehungen 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n der Ebene, die ein regelmäßiges n-Eck in sich überfüh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19384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854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276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4461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s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 f  bijektiv ist und die Umkehrabbildung auch ein Homomorphismus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4359240"/>
            <a:ext cx="7924680" cy="703800"/>
            <a:chOff x="685800" y="4359240"/>
            <a:chExt cx="7924680" cy="703800"/>
          </a:xfrm>
        </p:grpSpPr>
        <p:sp>
          <p:nvSpPr>
            <p:cNvPr id="123" name=""/>
            <p:cNvSpPr/>
            <p:nvPr/>
          </p:nvSpPr>
          <p:spPr>
            <a:xfrm>
              <a:off x="685800" y="4359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bijektiver Homomorphismus von Gruppen, dann ist f ein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502000" y="4422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26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1T19:26:08Z</dcterms:modified>
  <cp:revision>70</cp:revision>
  <dc:subject/>
  <dc:title>PowerPoint-Präsentation</dc:title>
</cp:coreProperties>
</file>