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lmu" descr=""/>
          <p:cNvPicPr/>
          <p:nvPr/>
        </p:nvPicPr>
        <p:blipFill>
          <a:blip r:embed="rId2"/>
          <a:stretch/>
        </p:blipFill>
        <p:spPr>
          <a:xfrm>
            <a:off x="3637080" y="415800"/>
            <a:ext cx="1150920" cy="843120"/>
          </a:xfrm>
          <a:prstGeom prst="rect">
            <a:avLst/>
          </a:prstGeom>
          <a:ln w="0">
            <a:noFill/>
          </a:ln>
        </p:spPr>
      </p:pic>
      <p:pic>
        <p:nvPicPr>
          <p:cNvPr id="4" name="mathblue" descr=""/>
          <p:cNvPicPr/>
          <p:nvPr/>
        </p:nvPicPr>
        <p:blipFill>
          <a:blip r:embed="rId3"/>
          <a:stretch/>
        </p:blipFill>
        <p:spPr>
          <a:xfrm>
            <a:off x="3200400" y="685800"/>
            <a:ext cx="349200" cy="309600"/>
          </a:xfrm>
          <a:prstGeom prst="rect">
            <a:avLst/>
          </a:prstGeom>
          <a:ln w="0">
            <a:noFill/>
          </a:ln>
        </p:spPr>
      </p:pic>
      <p:pic>
        <p:nvPicPr>
          <p:cNvPr id="5" name="mathinstshort" descr=""/>
          <p:cNvPicPr/>
          <p:nvPr/>
        </p:nvPicPr>
        <p:blipFill>
          <a:blip r:embed="rId4"/>
          <a:stretch/>
        </p:blipFill>
        <p:spPr>
          <a:xfrm>
            <a:off x="4888080" y="685800"/>
            <a:ext cx="3570120" cy="311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9400" y="63244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3C447388-ADE8-4B3E-8BED-E81DF91FC82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3429000"/>
            <a:ext cx="8305920" cy="1676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8 Gruppen und Körp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193840"/>
            <a:ext cx="7772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1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Grup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G ist eine Menge zusammen mit einer Verknüpfung, die jedem Paar (a,b) von Elementen aus G ein weiteres Element 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 aus G zuordnet, so dass die folgenden drei Axiome erfüllt si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4290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 = 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b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) für alle a,b,c aus G. („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soziativgesetz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“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40226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s gibt n aus G mit 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 = a . ( n heiß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neutrales Ele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3434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u jedem a aus G existiert a* aus G mit 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* = n . ( a* heiß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inverses Ele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Invers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u a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54100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Gruppe heiß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belsc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wenn außerd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 = b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für alle a,b aus 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44612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.11) Lemm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ine nichtleere Teilmenge U einer Gruppe G ist genau dann eine Untergruppe, wenn gilt: Für alle a,b aus U sind auch ab und  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e aus U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38098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m f ist Untergruppe von 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41148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Ker f ist Untergruppe von G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685800" y="2590920"/>
            <a:ext cx="7924680" cy="1313640"/>
            <a:chOff x="685800" y="2590920"/>
            <a:chExt cx="7924680" cy="1313640"/>
          </a:xfrm>
        </p:grpSpPr>
        <p:sp>
          <p:nvSpPr>
            <p:cNvPr id="133" name=""/>
            <p:cNvSpPr/>
            <p:nvPr/>
          </p:nvSpPr>
          <p:spPr>
            <a:xfrm>
              <a:off x="685800" y="2590920"/>
              <a:ext cx="79246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(8.12) Lemma: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Für einen Homomorphismus                 se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Ker f := {a : f(a) = e} = f 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(e)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Im f := {f(a): a  aus G} = f(G)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Es gilt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5857920" y="2670120"/>
                  <a:ext cx="957240" cy="24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: G </m:t>
                      </m:r>
                      <m:r>
                        <m:t xml:space="preserve">→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5" name=""/>
          <p:cNvSpPr/>
          <p:nvPr/>
        </p:nvSpPr>
        <p:spPr>
          <a:xfrm>
            <a:off x="685800" y="44197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f ist genau dann injektiv, wen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Ker f = {e} gi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01336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de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Ker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Ker f eines Homomorphismus gilt außerdem: Für alle  u  aus  Ker f  und alle  a  aus  G  ist 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a wieder eine Element von  Ker f. Ker f ist also ein Normaltei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144612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13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e Untergruppe U einer Gruppe G ist 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Nor-malteil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G, wenn für alle  u  aus  U und alle  a  aus  G 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a wieder eine Element von U i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3473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K\{0} ist eine abelsche Gruppe bezüglich der Multiplika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41148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(b+c) = ab + ac  für alle a,b,c  aus  K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85800" y="2590920"/>
            <a:ext cx="7924680" cy="1008720"/>
            <a:chOff x="685800" y="2590920"/>
            <a:chExt cx="7924680" cy="1008720"/>
          </a:xfrm>
        </p:grpSpPr>
        <p:sp>
          <p:nvSpPr>
            <p:cNvPr id="142" name=""/>
            <p:cNvSpPr/>
            <p:nvPr/>
          </p:nvSpPr>
          <p:spPr>
            <a:xfrm>
              <a:off x="685800" y="2590920"/>
              <a:ext cx="7924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(8.14) Definition: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Ein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Körper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K ist eine additive abelsche Gruppe, zu der es eine Multiplikation                   gibt mit den folgenden Eigenschafte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3" name=""/>
                <p:cNvSpPr txBox="1"/>
                <p:nvPr/>
              </p:nvSpPr>
              <p:spPr>
                <a:xfrm>
                  <a:off x="3670200" y="2975040"/>
                  <a:ext cx="1087560" cy="24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 K </m:t>
                      </m:r>
                      <m:r>
                        <m:t xml:space="preserve">→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4" name=""/>
          <p:cNvSpPr/>
          <p:nvPr/>
        </p:nvSpPr>
        <p:spPr>
          <a:xfrm>
            <a:off x="685800" y="45561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.15) Beispiel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und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ℤ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er nicht Körp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51339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+0 = 1+1 = 0, 0+1 =1+0 = 1 und 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= 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=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= 0,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= 1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54705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r Körper mit 3 Elemen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48290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ie zweielementige Gruppe aus 8.2.6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G = {0,1} m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58514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r Körper mit 4 Elemen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4461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r Körper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omplex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ahl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8288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 die Menge der reellen Zahlenpaare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1" lang="en-US" sz="2000" spc="-1" strike="noStrike" baseline="30000">
                <a:solidFill>
                  <a:srgbClr val="000000"/>
                </a:solidFill>
                <a:latin typeface="Lucida Sans Unicode"/>
                <a:ea typeface="Lucida Sans Unicod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t 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21337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ddi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x,y) + (v,w) := (x+v,y+w)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2819520"/>
            <a:ext cx="792468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ultiplik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x,y)(v,w) := (xv-yw,xw+yv)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ür x,y,v,w aus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4191120"/>
            <a:ext cx="792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s gilt in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ℂ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0 := (0,0) ist die Null in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1 := (1,0) ist das Einselement in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ℂ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e Inverse zu (x,y) aus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ℂ\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{0} i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862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t diesen Verknüpfungen ist ein Körp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352680" y="5518080"/>
                <a:ext cx="19083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44038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16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terkörper, Homomorphismus, Isomorphismus analog zu Grupp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144612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Notation in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ℂ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 := (0,1) erfüllt die Gleichung i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+ 1 = 0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x + iy := (x,y)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38098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m übrigen sind  1, i, -1, -i  die 4-ten Einheitswurzeln (vgl. 8.7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31082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ultiplikation mit der Notation  x +  iy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x + iy)(v + iw) = xv-yw + i(xw+yv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24224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 (x,y) = Re (x+iy) :=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m (x,y)  = Im (x+iy) := 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85800" y="5089680"/>
            <a:ext cx="7924680" cy="1313640"/>
            <a:chOff x="685800" y="5089680"/>
            <a:chExt cx="7924680" cy="1313640"/>
          </a:xfrm>
        </p:grpSpPr>
        <p:sp>
          <p:nvSpPr>
            <p:cNvPr id="164" name=""/>
            <p:cNvSpPr/>
            <p:nvPr/>
          </p:nvSpPr>
          <p:spPr>
            <a:xfrm>
              <a:off x="685800" y="5089680"/>
              <a:ext cx="79246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Ein Homomorphismus                  zwischen Körpern erfüllt al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f(a+b) = f(a) + f(b) u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f(ab) = f(a)f(b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für alle a und b aus K. Insbesondere: f(0) = 0 und f(1) = 1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5" name=""/>
                <p:cNvSpPr txBox="1"/>
                <p:nvPr/>
              </p:nvSpPr>
              <p:spPr>
                <a:xfrm>
                  <a:off x="3378240" y="5156280"/>
                  <a:ext cx="1044360" cy="28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:</m:t>
                      </m:r>
                      <m:r>
                        <m:t xml:space="preserve">K</m:t>
                      </m:r>
                      <m:r>
                        <m:t xml:space="preserve">→</m:t>
                      </m:r>
                      <m:r>
                        <m:t xml:space="preserve">K</m:t>
                      </m:r>
                      <m:r>
                        <m:t xml:space="preserve">´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327672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+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t der Multiplikation ist ebenfalls eine abelsche Gruppe: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 = 1 und a* =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. Ebenso: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\{0}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3464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an beachte: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ℕ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 +  ist keine Gruppe, weil es zu positiven ganzen Zahlen a keine Inverse –a in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ℕ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gib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9718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nalog zu 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ℚ</a:t>
            </a:r>
            <a:r>
              <a:rPr b="0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,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,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ℂ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 +  ist abelsche Grupp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387036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Weitere Beispiele sind alle T aus §7, also die Translationen zu einem Translationsraum (A,T,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44798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ine zweielementige Gruppe (die Gruppe zum Modell 1 in Beispiel 7.3.1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50896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 = {0,1} mit 0+0 = 1+1 = 0 und 0+1 = 1+0 = 1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4479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.2) Beispie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7524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ℤ</a:t>
            </a:r>
            <a:r>
              <a:rPr b="0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,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ie Menge der ganzen Zahlen, mit  +   anstelle von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: n = 0 und a* = -a</a:t>
            </a:r>
            <a:r>
              <a:rPr b="0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547056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„gleiche“ (vgl. Isomorphismus in 8.8) Grupp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 = {n,w} mit n+n = w+w = n und n+w = w+n = w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3623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Stat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  geschrieben. Die grundlegenden Axiome haben dann die 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6668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ab)c = a(bc) , an = na = a , a*a = aa* = n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048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neutrale Element schreibt man auch als 1 und nennt es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Einsele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 Die Inverse schreibt man auch als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569916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s Assoziativgesetz  (ab)c = a(bc) erlaubt die Definition abc := (ab)c = a(bc) unabhängig von der Klammeru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36576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 abelschen Fall schreibt man auch  a+b  anstelle von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  und man spricht von ein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belschen additiven Gruppe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3962520"/>
            <a:ext cx="792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neutrale Element  n  wird dann meist als 0 geschrieben und dann auch als Null (-element) bezeichnet, a* wird als  –a  geschrieben und  a-b als Abkürzung von  a+(-b)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4479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.3) Bemerkungen, Notation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7524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e Verknüpfung einer Gruppe heißt auch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Grupp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-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opera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oder 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Grupp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-)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ultiplika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. Sie wird meist kurz  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52419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de Gruppe G besitzt ein neutrales Element, ist daher nicht le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743200"/>
            <a:ext cx="7924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7432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+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,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)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31240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llgemeiner lassen sich endliche Summen oder Produkte mit beliebigen Gruppenelementen bild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633840" y="3809880"/>
                <a:ext cx="180324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der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685800" y="43434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 einer Gruppe G gilt immer:  n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 = a  und  a*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 = n  für alle Gruppenelemente a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518148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4) Äquivalenzsatz für Gruppe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s sei auf der nichtleeren Menge G  eine Verknüpfung gegeben, die dem Assoziativgesetz genügt: (ab)c = a(bc) . Behauptu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4479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alog hat man für 4 Elemente den klammerfreien Ausdruck abcd . Entsprechend für beliebig (aber endlich) viele Elemente (Induktion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1337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tenz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: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:= e ,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(n+1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:= a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(rekursive Definition für natürliche Zahlen n ). Und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-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:= (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)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. Dann gelten die Regel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2096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.5) Folgerunge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G sei Gruppe mit dem neutralen Element e . Dann gilt für alle a,b,c aus 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8954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Kürzungsregel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Aus ab = ac folgt b = c und aus ab = cb folgt a = c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3429000"/>
            <a:ext cx="7924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38703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e Invers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 a  ist eindeutig bestimmt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470844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6) Beispi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ei M einen Menge. Die Menge  S(M) der bijektiven Abbildungen von M nach M bildet mit der Komposition „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 als Ver-knüpfung und der Identität id als neutralem Element eine Grupp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56386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(M) ist nicht abelsch, wenn M drei verschieden Elemente enthä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3489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x = b und ya = b sind eindeutig lösb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42512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 ist eindeutig bestimm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4479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 ist genau dann eine Gruppe, wenn für alle a, b aus G die Gleichungen  ax = b  und  ya = b stets Lösungen in G hab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417528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zielle Permutationen auf M = {1,2,3, ... , n} sind di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zyklisch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Permutationen, das sind per Definition die 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k = 0,1,2, ... n, mi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486108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j) :=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j+k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ür j = 1, 2, ... , n-k, 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j) :=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j+k-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ür j = n-k+1, n-k+2, ... , n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4479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(M) mit dieser Verknüpfung nennt man die Gruppe 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mutation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on  M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205740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 Falle der Menge M = {1,2,3, ... , n} schreibt man die Elemente p von  S(M) =: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der For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990880" y="2743200"/>
                <a:ext cx="31050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778120" y="3394080"/>
                <a:ext cx="349236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685800" y="31845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562284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s gilt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+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ür k+m &lt; n, 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+m-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ür k+m &gt; n-1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447920"/>
            <a:ext cx="79246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so ist die Komposition von Abbildungen eine Verknüpfung auf der Meng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(n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:= {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: k = 0,1,2, ... n-1} der zyklischen Permutationen von n Element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743200"/>
            <a:ext cx="79246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Assoziativgesetz gilt für die Komposition, 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ist das neutrale Element und zu 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t 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-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ie Inverse. Damit ist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(n)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ine Gruppe, und sogar eine abelsche Grup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408480" y="2362320"/>
                <a:ext cx="19256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: E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685800" y="379404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onderheiten: Die Regeln  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+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, bzw.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+m-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eigen (in multiplikativer Schreibweise mit  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1, vgl. 8.3.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447984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, 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516564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so: 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„erzeugt“ die Gruppe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(n)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(vgl. 9.3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554688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Und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füllt die Gleichung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 , kann also als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n-te Wurzel der Einhei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fgefasst werden. Dah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446120"/>
            <a:ext cx="79246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7) Beispi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ie Menge 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(n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er „n-ten Einheitswurzeln“ bildet eine abelsche Gruppe bezüglich der Komposition. (Es handelt sich um eine zyklische Gruppe, vgl. 9.3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45720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8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(Homomorphismus) 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Homomorphismu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zwischen den Gruppen G und H ist eine Abbil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038480" y="5334120"/>
                <a:ext cx="97164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: G </m:t>
                    </m:r>
                    <m:r>
                      <m:t xml:space="preserve">→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685800" y="56386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t  f(ab) = f(a)f(b) für alle a,b aus G 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51460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ndere Realisierungen von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(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89548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ls die n komplexen Zahlen auf dem Einheitskre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:= exp(2πik/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365760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ls die n Drehungen  r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k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in der Ebene, die ein regelmäßiges n-Eck in sich überführ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2895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9) Lemma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Für einen Homomorphismus f von Gruppen gilt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219384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spiel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 f(a) := 2a ; g(a) := exp(a)  für  a  aus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 und g sind Isomorphismen von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nach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bzw. von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nach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+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3854520"/>
            <a:ext cx="7924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962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t die Inverse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 f(a)  für alle a aus G: [f(a)]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32767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(e) ist das neutrale Element von H, wenn e das neutrale Element von G i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44612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Homomorphismus  f  is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Isomorphismu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wenn  f  bijektiv ist und die Umkehrabbildung auch ein Homomorphismus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85800" y="4359240"/>
            <a:ext cx="7924680" cy="703800"/>
            <a:chOff x="685800" y="4359240"/>
            <a:chExt cx="7924680" cy="703800"/>
          </a:xfrm>
        </p:grpSpPr>
        <p:sp>
          <p:nvSpPr>
            <p:cNvPr id="123" name=""/>
            <p:cNvSpPr/>
            <p:nvPr/>
          </p:nvSpPr>
          <p:spPr>
            <a:xfrm>
              <a:off x="685800" y="4359240"/>
              <a:ext cx="7924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Sei                  ein bijektiver Homomorphismus von Gruppen, dann ist f ein Isomorphismu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4" name=""/>
                <p:cNvSpPr txBox="1"/>
                <p:nvPr/>
              </p:nvSpPr>
              <p:spPr>
                <a:xfrm>
                  <a:off x="2502000" y="4422960"/>
                  <a:ext cx="971280" cy="24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: G </m:t>
                      </m:r>
                      <m:r>
                        <m:t xml:space="preserve">→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5" name=""/>
          <p:cNvGrpSpPr/>
          <p:nvPr/>
        </p:nvGrpSpPr>
        <p:grpSpPr>
          <a:xfrm>
            <a:off x="685800" y="5149800"/>
            <a:ext cx="7924680" cy="1008720"/>
            <a:chOff x="685800" y="5149800"/>
            <a:chExt cx="7924680" cy="1008720"/>
          </a:xfrm>
        </p:grpSpPr>
        <p:sp>
          <p:nvSpPr>
            <p:cNvPr id="126" name=""/>
            <p:cNvSpPr/>
            <p:nvPr/>
          </p:nvSpPr>
          <p:spPr>
            <a:xfrm>
              <a:off x="685800" y="5149800"/>
              <a:ext cx="7924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(8.10) Definition: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(Untergruppen) Eine Teilmenge U einer Gruppe G ist eine Untergruppe, wenn U bezüglich der restringierten Verknüpfung                  ,  a,b aus U, eine Gruppe is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2295360" y="5842080"/>
                  <a:ext cx="120996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,b</m:t>
                      </m:r>
                      <m:r>
                        <m:t xml:space="preserve">)</m:t>
                      </m:r>
                      <m:r>
                        <m:t xml:space="preserve">↦</m:t>
                      </m:r>
                      <m:r>
                        <m:rPr>
                          <m:lit/>
                          <m:nor/>
                        </m:rPr>
                        <m:t xml:space="preserve"> ab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07:52:51Z</dcterms:created>
  <dc:creator>MSchottenloher</dc:creator>
  <dc:description/>
  <dc:language>en-US</dc:language>
  <cp:lastModifiedBy>MSchottenloher</cp:lastModifiedBy>
  <dcterms:modified xsi:type="dcterms:W3CDTF">2001-11-11T19:26:08Z</dcterms:modified>
  <cp:revision>70</cp:revision>
  <dc:subject/>
  <dc:title>PowerPoint-Präsentation</dc:title>
</cp:coreProperties>
</file>