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C83D53E0-B3F2-45E1-8C6A-35D225DA66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29000"/>
            <a:ext cx="830592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8 Gruppen und Kör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19384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 ist eine Menge zusammen mit einer Verknüpfung, die jedem Paar (a,b) von Elementen aus G ein weiteres Elemen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aus G zuordnet, so dass die folgenden drei Axiome erfüllt s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429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=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) für alle a,b,c aus G. (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oziativgeset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022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gibt n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a . ( n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eutral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jedem a aus G existiert a*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* = n . ( a*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410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ruppe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außerd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= 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für alle a,b aus 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1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nichtleere Teilmenge U einer Gruppe G ist genau dann eine Untergruppe, wenn gilt: Für alle a,b aus U sind auch ab und 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e aus U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809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f ist Untergruppe von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ist Untergruppe von G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5800" y="2590920"/>
            <a:ext cx="7924680" cy="1313640"/>
            <a:chOff x="685800" y="2590920"/>
            <a:chExt cx="7924680" cy="1313640"/>
          </a:xfrm>
        </p:grpSpPr>
        <p:sp>
          <p:nvSpPr>
            <p:cNvPr id="133" name=""/>
            <p:cNvSpPr/>
            <p:nvPr/>
          </p:nvSpPr>
          <p:spPr>
            <a:xfrm>
              <a:off x="685800" y="2590920"/>
              <a:ext cx="7924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2) Lemma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Für einen Homomorphismus                 se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r f := {a : f(a) = e} = f 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e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m f := {f(a): a  aus G} = f(G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s gil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857920" y="2670120"/>
                  <a:ext cx="9572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" name=""/>
          <p:cNvSpPr/>
          <p:nvPr/>
        </p:nvSpPr>
        <p:spPr>
          <a:xfrm>
            <a:off x="685800" y="4419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 ist genau dann injektiv, we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= {e}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0133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er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er f eines Homomorphismus gilt außerdem: Für alle  u  aus  Ker f  und alle  a  aus  G  ist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 Ker f. Ker f ist also ein Normaltei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3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Untergruppe U einer Gruppe G ist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or-maltei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G, wenn für alle  u  aus  U und alle  a  aus  G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U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3473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\{0} ist eine abelsche Gruppe bezüglich der 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(b+c) = ab + ac  für alle a,b,c  aus 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85800" y="2590920"/>
            <a:ext cx="7924680" cy="1008720"/>
            <a:chOff x="685800" y="2590920"/>
            <a:chExt cx="7924680" cy="1008720"/>
          </a:xfrm>
        </p:grpSpPr>
        <p:sp>
          <p:nvSpPr>
            <p:cNvPr id="142" name=""/>
            <p:cNvSpPr/>
            <p:nvPr/>
          </p:nvSpPr>
          <p:spPr>
            <a:xfrm>
              <a:off x="685800" y="259092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4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Ein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örper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K ist eine additive abelsche Gruppe, zu der es eine Multiplikation                   gibt mit den folgenden Eigenschaft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3670200" y="2975040"/>
                  <a:ext cx="108756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 K 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4" name=""/>
          <p:cNvSpPr/>
          <p:nvPr/>
        </p:nvSpPr>
        <p:spPr>
          <a:xfrm>
            <a:off x="685800" y="4556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5)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r nicht Körp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133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+0 = 1+1 = 0, 0+1 =1+0 = 1 und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,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470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mit 3 Elemen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829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zweielementige Gruppe aus 8.2.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G = {0,1} 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8514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mit 4 Elemen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mplex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ah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828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die Menge der reellen Zahlenpaare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 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d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x,y) + (v,w) := (x+v,y+w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819520"/>
            <a:ext cx="79246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x,y)(v,w) := (xv-yw,xw+yv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x,y,v,w aus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1911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 gilt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0 := (0,0) ist die Null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 := (1,0) ist das Einselement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Inverse zu (x,y) aus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\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{0}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6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iesen Verknüpfungen ist ein Kör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352680" y="5518080"/>
                <a:ext cx="1908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40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6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terkörper, Homomorphismus, Isomorphismus analog zu Grup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tation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:= (0,1) erfüllt die Gleichung i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+ 1 = 0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x + iy := (x,y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809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übrigen sind  1, i, -1, -i  die 4-ten Einheitswurzeln (vgl. 8.7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1082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 mit der Notation  x +  i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x + iy)(v + iw) = xv-yw + i(xw+y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422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 (x,y) = Re (x+iy) :=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(x,y)  = Im (x+iy) :=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85800" y="5089680"/>
            <a:ext cx="7924680" cy="1313640"/>
            <a:chOff x="685800" y="5089680"/>
            <a:chExt cx="7924680" cy="1313640"/>
          </a:xfrm>
        </p:grpSpPr>
        <p:sp>
          <p:nvSpPr>
            <p:cNvPr id="164" name=""/>
            <p:cNvSpPr/>
            <p:nvPr/>
          </p:nvSpPr>
          <p:spPr>
            <a:xfrm>
              <a:off x="685800" y="5089680"/>
              <a:ext cx="7924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in Homomorphismus                  zwischen Körpern erfüllt al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(a+b) = f(a) + f(b) 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(ab) = f(a)f(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alle a und b aus K. Insbesondere: f(0) = 0 und f(1) = 1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378240" y="5156280"/>
                  <a:ext cx="104436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K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  <m:r>
                        <m:t xml:space="preserve">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2767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er Multiplikation ist ebenfalls eine abelsche Gruppe: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1 und a* =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Ebenso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\{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346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an beachte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keine Gruppe, weil es zu positiven ganzen Zahlen a keine Inverse –a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971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nalog zu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ℚ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abelsch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703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itere Beispiele sind alle T aus §7, also die Translationen zu einem Translationsraum (A,T,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479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e zweielementige Gruppe (die Gruppe zum Modell 1 in Beispiel 7.3.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089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{0,1} mit 0+0 = 1+1 = 0 und 0+1 = 1+0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2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752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Menge der ganzen Zahlen, mit  +   anstelle von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: n = 0 und a* = -a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54705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„gleiche“ (vgl. Isomorphismus in 8.8) Grupp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= {n,w} mit n+n = w+w = n und n+w = w+n = w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362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geschrieben. Die grundlegenden Axiome haben dann die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666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ab)c = a(bc) , an = na = a , a*a = aa*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schreibt man auch als 1 und nennt 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s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Die Inverse schreibt man auch als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5699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s Assoziativgesetz  (ab)c = a(bc) erlaubt die Definition abc := (ab)c = a(bc) unabhängig von der Klamm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657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abelschen Fall schreibt man auch  a+b  anstelle von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und man spricht von ein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en additiven Gruppe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9625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 n  wird dann meist als 0 geschrieben und dann auch als Null (-element) bezeichnet, a* wird als  –a  geschrieben und  a-b als Abkürzung von  a+(-b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3) Bemerkungen, Notatio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752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Verknüpfung einer Gruppe heißt auch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er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der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Sie wird meist kurz 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241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 Gruppe G besitzt ein neutrales Element, ist daher nicht le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7432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743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3124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gemeiner lassen sich endliche Summen oder Produkte mit beliebigen Gruppenelementen bil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33840" y="3809880"/>
                <a:ext cx="18032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er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einer Gruppe G gilt immer:  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a  und  a*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n  für alle Gruppenelemente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1814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4) Äquivalenzsatz für Grupp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sei auf der nichtleeren Menge G  eine Verknüpfung gegeben, die dem Assoziativgesetz genügt: (ab)c = a(bc) . Behaup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og hat man für 4 Elemente den klammerfreien Ausdruck abcd . Entsprechend für beliebig (aber endlich) viele Elemente (Induktion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:= e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(n+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a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ekursive Definition für natürliche Zahlen n ). Und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(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 Dann gelten die Regel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209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5) Folger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 sei Gruppe mit dem neutralen Element e . Dann gilt für alle a,b,c aus 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895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ürzungsreg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ab = ac folgt b = c und aus ab = cb folgt a = c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4290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870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Inver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a  ist eindeutig bestimmt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7084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6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M einen Menge. Die Menge  S(M) der bijektiven Abbildungen von M nach M bildet mit der Komposition „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als Ver-knüpfung und der Identität id als neutralem Element ein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(M) ist nicht abelsch, wenn M drei verschieden Elemente enthä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489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x = b und ya = b sind eindeutig lösb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251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 ist eindeutig bestimm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 ist genau dann eine Gruppe, wenn für alle a, b aus G die Gleichungen  ax = b  und  ya = b stets Lösungen in G ha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1752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elle Permutationen auf M = {1,2,3, ... , n} sind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zyklis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Permutationen, das sind per Definition die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k = 0,1,2, ... n,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8610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j) :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j+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j = 1, 2, ... , n-k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j) :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j+k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j = n-k+1, n-k+2, ... , n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(M) mit dieser Verknüpfung nennt man die Gruppe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mutation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 M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0574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alle der Menge M = {1,2,3, ... , n} schreibt man die Elemente p von  S(M) =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990880" y="2743200"/>
                <a:ext cx="3105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78120" y="3394080"/>
                <a:ext cx="3492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85800" y="3184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56228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gil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k+m &lt; n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k+m &gt; n-1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4792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 ist die Komposition von Abbildungen eine Verknüpfung auf der Meng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{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 k = 0,1,2, ... n-1} der zyklischen Permutationen von n Elemen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4320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Assoziativgesetz gilt für die Komposition,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ist das neutrale Element und zu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-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Inverse. Damit is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e Gruppe, und sogar eine abelsche Grup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408480" y="2362320"/>
                <a:ext cx="1925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 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85800" y="37940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heiten: Die Regeln 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, bzw.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-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gen (in multiplikativer Schreibweise mit 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1, vgl. 8.3.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4798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1656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: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„erzeugt“ die Gruppe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vgl. 9.3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5468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üllt die Gleichung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, kann also al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-te Wurzel der Einh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gefasst werden.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44612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7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ie Menge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r „n-ten Einheitswurzeln“ bildet eine abelsche Gruppe bezüglich der Komposition. (Es handelt sich um eine zyklische Gruppe, vgl. 9.3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572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8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Homomorphismus)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m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zwischen den Gruppen G und H ist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38480" y="5334120"/>
                <a:ext cx="9716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: G </m:t>
                    </m:r>
                    <m:r>
                      <m:t xml:space="preserve">→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685800" y="5638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 f(ab) = f(a)f(b) für alle a,b aus G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1460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dere Realisierungen von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8954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s die n komplexen Zahlen auf dem Einheitskre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:= exp(2πik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6576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s die n Drehungen  r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n der Ebene, die ein regelmäßiges n-Eck in sich überführ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895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9) Lemma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einen Homomorphismus f von Gruppen gil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19384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 f(a) := 2a ; g(a) := exp(a)  für  a  aus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 und g sind Isomorphismen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bzw.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8545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die Inverse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f(a)  für alle a aus G: [f(a)]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276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e) ist das neutrale Element von H, wenn e das neutrale Element von G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4461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Homomorphismus  f 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s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 f  bijektiv ist und die Umkehrabbildung auch ein Homomorphismus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5800" y="4359240"/>
            <a:ext cx="7924680" cy="703800"/>
            <a:chOff x="685800" y="4359240"/>
            <a:chExt cx="7924680" cy="703800"/>
          </a:xfrm>
        </p:grpSpPr>
        <p:sp>
          <p:nvSpPr>
            <p:cNvPr id="123" name=""/>
            <p:cNvSpPr/>
            <p:nvPr/>
          </p:nvSpPr>
          <p:spPr>
            <a:xfrm>
              <a:off x="685800" y="43592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ei                  ein bijektiver Homomorphismus von Gruppen, dann ist f ein Is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2502000" y="4422960"/>
                  <a:ext cx="97128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"/>
          <p:cNvGrpSpPr/>
          <p:nvPr/>
        </p:nvGrpSpPr>
        <p:grpSpPr>
          <a:xfrm>
            <a:off x="685800" y="5149800"/>
            <a:ext cx="7924680" cy="1008720"/>
            <a:chOff x="685800" y="5149800"/>
            <a:chExt cx="7924680" cy="1008720"/>
          </a:xfrm>
        </p:grpSpPr>
        <p:sp>
          <p:nvSpPr>
            <p:cNvPr id="126" name=""/>
            <p:cNvSpPr/>
            <p:nvPr/>
          </p:nvSpPr>
          <p:spPr>
            <a:xfrm>
              <a:off x="685800" y="514980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0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Untergruppen) Eine Teilmenge U einer Gruppe G ist eine Untergruppe, wenn U bezüglich der restringierten Verknüpfung                  ,  a,b aus U, eine Gruppe is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295360" y="5842080"/>
                  <a:ext cx="12099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,b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 a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1-11T19:26:08Z</dcterms:modified>
  <cp:revision>70</cp:revision>
  <dc:subject/>
  <dc:title>PowerPoint-Präsentation</dc:title>
</cp:coreProperties>
</file>