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CDE3931E-D6F7-43F2-AB8E-0EAB793C03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768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76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für alle a,b,c aus G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2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a . ( n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270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794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013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76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n = 0 und a* = -a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66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2578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657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о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meist kurz 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7432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33840" y="380988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r Gruppe G gilt immer:  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a  und  a*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n  für alle Gruppenelemente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81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209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895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4290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70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Komposition „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“ als Ver-knüpfung und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9625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n-ten Einheitswurzeln bildet eine abelsche Gruppe bezüglich der Multiplikation: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yklisc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ruppe der Ordnung n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937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071960" y="568656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371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(M) mit dieser Verknüpfung nennt man die Gruppe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der Menge M = {1,2,3, ... , n} schreibt man die Elemente p von  S(M)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908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90880" y="266688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78120" y="3317760"/>
                <a:ext cx="34923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787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7018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854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168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84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Isomorphismus, wenn  f 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4251240"/>
            <a:ext cx="7924680" cy="703800"/>
            <a:chOff x="685800" y="4251240"/>
            <a:chExt cx="7924680" cy="703800"/>
          </a:xfrm>
        </p:grpSpPr>
        <p:sp>
          <p:nvSpPr>
            <p:cNvPr id="116" name=""/>
            <p:cNvSpPr/>
            <p:nvPr/>
          </p:nvSpPr>
          <p:spPr>
            <a:xfrm>
              <a:off x="685800" y="4251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Isomorphismus von Gruppen, dann ist die Umkehrabbildung ein Hom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502000" y="4314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39672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20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85800" y="2606760"/>
            <a:ext cx="7924680" cy="1313640"/>
            <a:chOff x="685800" y="2606760"/>
            <a:chExt cx="7924680" cy="1313640"/>
          </a:xfrm>
        </p:grpSpPr>
        <p:sp>
          <p:nvSpPr>
            <p:cNvPr id="128" name=""/>
            <p:cNvSpPr/>
            <p:nvPr/>
          </p:nvSpPr>
          <p:spPr>
            <a:xfrm>
              <a:off x="685800" y="260676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857920" y="268596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Kern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37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Körper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und daz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851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0-31T11:49:47Z</dcterms:modified>
  <cp:revision>69</cp:revision>
  <dc:subject/>
  <dc:title>PowerPoint-Präsentation</dc:title>
</cp:coreProperties>
</file>