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AF85C9F8-8E72-4132-8D86-0C35899920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8 Gruppen und Kör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768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76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 ist eine Menge zusammen mit einer Verknüpfung, die jedem Paar (a,b) von Elementen aus G ein weiteres Elemen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aus G zuordnet, so dass die folgenden drei Axiome erfüll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429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=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) für alle a,b,c aus G.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ziativgese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2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gibt n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a . ( n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eutral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jedem a aus G existiert a*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* = n . ( a*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10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uppe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außer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ür alle a,b aus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r Multiplikation ist ebenfalls eine abelsche Gruppe: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1 und a* =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Ebenso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270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an beachte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keine Gruppe, weil es zu positiven ganzen Zahlen a keine Inverse –a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alog zu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ℚ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abelsch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794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sind alle T aus §7, also die Translationen zu einem Translationsraum (A,T,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40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zweielementige Gruppe (die Gruppe zum Modell 1 in Beispiel 7.3.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013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0,1} mit 0+0 = 1+1 = 0 und 0+1 =1+0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371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676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enge der ganzen Zahlen, mit  +   anstelle von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 n = 0 und a* = -a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geschrieben. Die grundlegenden Axiome haben dann di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666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b)c = a(bc) , an = na = a , a*a = aa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schreibt man auch als 1 und nennt 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s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Die Inverse schreibt man auch als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2578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s Assoziativgesetz  (ab)c = a(bc) erlaubt die Definition abc := (ab)c = a(bc) unabhängig von der Klamm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657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elschen Fall schreibt man auch  a+b  anstelle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о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und man spricht von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additiven Grupp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 n  wird dann meist als 0 geschrieben und dann auch als Null (-element) bezeichnet, a* wird als  –a  geschrieben und  a-b als Abkürzung von  a+(-b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3) Bemerkungen, Not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Verknüpfung einer Gruppe heißt auch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er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Sie wird meist kurz 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7432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gemeiner lassen sich endliche Summen oder Produkte mit beliebigen Gruppenelementen bil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33840" y="3809880"/>
                <a:ext cx="1803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er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r Gruppe G gilt immer:  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a  und  a*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n  für alle Gruppenelemente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181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4) Äquivalenzsatz für Grupp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auf der nichtleeren Menge G  eine Verknüpfung gegeben, die dem Assoziativgesetz genügt: (ab)c = a(bc) . Behaup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hat man für 4 Elemente den klammerfreien Ausdruck abcd . Entsprechend für beliebig (aber endlich) viele Elemente (Induktio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:= e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n+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a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ekursive Definition für natürliche Zahlen n ). Und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 Dann gelten die Reg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209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5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 sei Gruppe mit dem neutralen Element e . Dann gilt für alle a,b,c aus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895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ürzungsreg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ab = ac folgt b = c und aus ab = cb folgt a = c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4290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70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a  ist eindeutig bestimm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7084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6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M einen Menge. Die Menge  S(M) der bijektiven Abbildungen von M nach M bildet mit der Komposition „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“ als Ver-knüpfung und der Identität id als neutralem Element ein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(M) ist nicht abelsch, wenn M drei verschieden Elemente enthä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x = b und ya = b sind eindeutig lös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251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ist eindeutig bestim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ist genau dann eine Gruppe, wenn für alle a, b aus G die Gleichungen  ax = b  und  ya = b stets Lösungen in G ha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9625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7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e Menge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r n-ten Einheitswurzeln bildet eine abelsche Gruppe bezüglich der Multiplikation: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yklisc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ruppe der Ordnung n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937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Homomorphismus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zwischen den Gruppen G und H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071960" y="5686560"/>
                <a:ext cx="9716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 G </m:t>
                    </m:r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8580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 f(ab) = f(a)f(b) für alle a,b aus G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371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(M) mit dieser Verknüpfung nennt man die Gruppe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der Menge M = {1,2,3, ... , n} schreibt man die Elemente p von  S(M)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908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90880" y="266688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778120" y="3317760"/>
                <a:ext cx="34923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787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9) Lemma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Homomorphismus f von Gruppen gil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0574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 f(a) := 2a ; g(a) := exp(a)  für  a  aus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und g sind Isomorphismen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bzw.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7018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854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ie Invers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f(a)  für alle a aus G: [f(a)]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168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e) ist das neutrale Element von H, wenn e das neutrale Element von 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584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Homomorphismus  f  ist Isomorphismus, wenn  f  bi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4251240"/>
            <a:ext cx="7924680" cy="703800"/>
            <a:chOff x="685800" y="4251240"/>
            <a:chExt cx="7924680" cy="703800"/>
          </a:xfrm>
        </p:grpSpPr>
        <p:sp>
          <p:nvSpPr>
            <p:cNvPr id="116" name=""/>
            <p:cNvSpPr/>
            <p:nvPr/>
          </p:nvSpPr>
          <p:spPr>
            <a:xfrm>
              <a:off x="685800" y="4251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ei                  ein Isomorphismus von Gruppen, dann ist die Umkehrabbildung ein Hom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502000" y="4314960"/>
                  <a:ext cx="9712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39672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5149800"/>
            <a:ext cx="7924680" cy="1008720"/>
            <a:chOff x="685800" y="5149800"/>
            <a:chExt cx="7924680" cy="1008720"/>
          </a:xfrm>
        </p:grpSpPr>
        <p:sp>
          <p:nvSpPr>
            <p:cNvPr id="120" name=""/>
            <p:cNvSpPr/>
            <p:nvPr/>
          </p:nvSpPr>
          <p:spPr>
            <a:xfrm>
              <a:off x="685800" y="5149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0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Untergruppen) Eine Teilmenge U einer Gruppe G ist eine Untergruppe, wenn U bezüglich der restringierten Verknüpfung                  ,  a,b aus U, eine Gruppe i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295360" y="5842080"/>
                  <a:ext cx="1209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,b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 a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1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Teilmenge U einer Gruppe G ist genau dann eine Untergruppe, wenn gilt: Für alle a,b aus U sind auch ab und 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e aus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f ist Untergruppe von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ist Untergruppe von G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85800" y="2606760"/>
            <a:ext cx="7924680" cy="1313640"/>
            <a:chOff x="685800" y="2606760"/>
            <a:chExt cx="7924680" cy="1313640"/>
          </a:xfrm>
        </p:grpSpPr>
        <p:sp>
          <p:nvSpPr>
            <p:cNvPr id="128" name=""/>
            <p:cNvSpPr/>
            <p:nvPr/>
          </p:nvSpPr>
          <p:spPr>
            <a:xfrm>
              <a:off x="685800" y="260676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2) Lemma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Für einen Homomorphismus                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r f := {a : f(a) = e} = f 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e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m f := {f(a): a  aus G} = f(G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s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857920" y="2685960"/>
                  <a:ext cx="9572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ist genau dann injektiv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= {e}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013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Kern Ker f eines Homomorphismus gilt außerdem: Für alle  u  aus  Ker f  und alle  a  aus  G  ist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 Ker f. Ker f ist also ein Normaltei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523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Untergruppe U einer Gruppe G ist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-maltei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G, wenn für alle  u  aus  U und alle  a  aus  G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U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\{0} ist eine abelsche Gruppe bezüglich der 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(b+c) = ab + ac  für alle a,b,c  aus 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85800" y="2590920"/>
            <a:ext cx="7924680" cy="1008720"/>
            <a:chOff x="685800" y="2590920"/>
            <a:chExt cx="7924680" cy="1008720"/>
          </a:xfrm>
        </p:grpSpPr>
        <p:sp>
          <p:nvSpPr>
            <p:cNvPr id="137" name=""/>
            <p:cNvSpPr/>
            <p:nvPr/>
          </p:nvSpPr>
          <p:spPr>
            <a:xfrm>
              <a:off x="685800" y="259092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4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Körper K ist eine additive abelsche Gruppe, zu der es eine Multiplikation                   gibt mit den folgenden Eigenschaf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3670200" y="2975040"/>
                  <a:ext cx="10875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 K 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und daz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nicht Kör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851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körper, Homomorphismus, Isomorphismus analog zu Gru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13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+0 = 1+1 = 0, 0+1 =1+0 = 1 und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,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3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829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zweielementige Gruppe aus 8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G = {0,1}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0-31T11:49:47Z</dcterms:modified>
  <cp:revision>69</cp:revision>
  <dc:subject/>
  <dc:title>PowerPoint-Präsentation</dc:title>
</cp:coreProperties>
</file>