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818457E-962D-48B0-8919-9ED69E5E4B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7 Produkte und Quotienten von Vektorräu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) Satz-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und V seien K-Vektorräume. Das mengentheoretische Produ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724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2) Bemerk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124080" y="2768760"/>
                <a:ext cx="285444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u</m:t>
                        </m:r>
                        <m:r>
                          <m:t xml:space="preserve">∈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62120" y="3718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u,v) + (x,y) := (u+x,v+y)  und  t(u,v) := (tu,t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62120" y="3032280"/>
            <a:ext cx="7772400" cy="703800"/>
            <a:chOff x="762120" y="3032280"/>
            <a:chExt cx="7772400" cy="703800"/>
          </a:xfrm>
        </p:grpSpPr>
        <p:sp>
          <p:nvSpPr>
            <p:cNvPr id="50" name=""/>
            <p:cNvSpPr/>
            <p:nvPr/>
          </p:nvSpPr>
          <p:spPr>
            <a:xfrm>
              <a:off x="762120" y="303228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sitzt in natürlicher Weise eine K-Vektorraumstruktur durch: Für alle (u,v), (x,y) aus            und t aus K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3067200" y="3429000"/>
                  <a:ext cx="59040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" name=""/>
          <p:cNvGrpSpPr/>
          <p:nvPr/>
        </p:nvGrpSpPr>
        <p:grpSpPr>
          <a:xfrm>
            <a:off x="685800" y="5029200"/>
            <a:ext cx="8001000" cy="398880"/>
            <a:chOff x="685800" y="5029200"/>
            <a:chExt cx="8001000" cy="398880"/>
          </a:xfrm>
        </p:grpSpPr>
        <p:sp>
          <p:nvSpPr>
            <p:cNvPr id="53" name=""/>
            <p:cNvSpPr/>
            <p:nvPr/>
          </p:nvSpPr>
          <p:spPr>
            <a:xfrm>
              <a:off x="685800" y="502920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t uns bekannt und isomorph zu 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070000" y="5098680"/>
                  <a:ext cx="577800" cy="2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" name=""/>
          <p:cNvGrpSpPr/>
          <p:nvPr/>
        </p:nvGrpSpPr>
        <p:grpSpPr>
          <a:xfrm>
            <a:off x="685800" y="5334120"/>
            <a:ext cx="8001000" cy="398880"/>
            <a:chOff x="685800" y="5334120"/>
            <a:chExt cx="8001000" cy="398880"/>
          </a:xfrm>
        </p:grpSpPr>
        <p:sp>
          <p:nvSpPr>
            <p:cNvPr id="56" name=""/>
            <p:cNvSpPr/>
            <p:nvPr/>
          </p:nvSpPr>
          <p:spPr>
            <a:xfrm>
              <a:off x="685800" y="53341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benso             , isomorph zu 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+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009960" y="5364000"/>
                  <a:ext cx="7747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×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"/>
          <p:cNvGrpSpPr/>
          <p:nvPr/>
        </p:nvGrpSpPr>
        <p:grpSpPr>
          <a:xfrm>
            <a:off x="685800" y="5638680"/>
            <a:ext cx="8001000" cy="703800"/>
            <a:chOff x="685800" y="5638680"/>
            <a:chExt cx="8001000" cy="703800"/>
          </a:xfrm>
        </p:grpSpPr>
        <p:sp>
          <p:nvSpPr>
            <p:cNvPr id="59" name=""/>
            <p:cNvSpPr/>
            <p:nvPr/>
          </p:nvSpPr>
          <p:spPr>
            <a:xfrm>
              <a:off x="685800" y="56386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In                    hat man die Untervektorräume                        und                        mit den bemerkenswerten Eigenschaften: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2362320" y="5715000"/>
                  <a:ext cx="115560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320840" y="6002280"/>
                  <a:ext cx="13780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7140600" y="5689440"/>
                  <a:ext cx="132696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4038480"/>
            <a:ext cx="7772400" cy="703800"/>
            <a:chOff x="685800" y="4038480"/>
            <a:chExt cx="7772400" cy="70380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787320" y="4140360"/>
                  <a:ext cx="11559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685800" y="403848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t dieser Struktur heißt das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ektorrau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)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roduk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r Vektorräume u und 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5638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einem Vektor x aus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\{0}  und U = Kx ist W = Ky genau dann Komplement, wenn {x,y} linear unabhängi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09480" y="1446120"/>
            <a:ext cx="8001000" cy="440640"/>
            <a:chOff x="609480" y="1446120"/>
            <a:chExt cx="8001000" cy="440640"/>
          </a:xfrm>
        </p:grpSpPr>
        <p:sp>
          <p:nvSpPr>
            <p:cNvPr id="69" name=""/>
            <p:cNvSpPr/>
            <p:nvPr/>
          </p:nvSpPr>
          <p:spPr>
            <a:xfrm>
              <a:off x="609480" y="14461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. W =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und                         u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3886200" y="1519200"/>
                  <a:ext cx="152532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" name=""/>
          <p:cNvSpPr/>
          <p:nvPr/>
        </p:nvSpPr>
        <p:spPr>
          <a:xfrm>
            <a:off x="609480" y="2362320"/>
            <a:ext cx="8001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definiert man das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-Vektor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rodu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endlich vielen K-Vektorräumen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auch von beliebig vielen K-Vektorräum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75248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jeder Vektor  w  aus  W  hat die eindeutige Darstell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t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318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4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3352680"/>
            <a:ext cx="8001000" cy="1092240"/>
            <a:chOff x="609480" y="3352680"/>
            <a:chExt cx="8001000" cy="1092240"/>
          </a:xfrm>
        </p:grpSpPr>
        <p:sp>
          <p:nvSpPr>
            <p:cNvPr id="75" name=""/>
            <p:cNvSpPr/>
            <p:nvPr/>
          </p:nvSpPr>
          <p:spPr>
            <a:xfrm>
              <a:off x="609480" y="3352680"/>
              <a:ext cx="80010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3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Sei  V  ein K-Vektorraum mit Untervektorräumen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nd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. V heißt dann di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irekte Sum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r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nd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, wen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 =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und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2673360" y="4025880"/>
                  <a:ext cx="136512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"/>
          <p:cNvSpPr/>
          <p:nvPr/>
        </p:nvSpPr>
        <p:spPr>
          <a:xfrm>
            <a:off x="609480" y="42670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U Untervektorraum von V ist, so heißt ein weiterer Untervek-torraum W von V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mp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U (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mplementär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wenn V die direkte Summe von U und W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9528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ist die direkte Summe v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657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4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 Untervektorraum U eines Vektorraums V besitzt stets ein Komplement (das allerdings nicht eindeutig bestimmt is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34340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5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ür Untervektorräum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V mit 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nd die folgenden Aussagen äquival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27672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ist W := Span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ein Komplement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0} ist immer Komplement von V in V und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362320"/>
            <a:ext cx="8001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 sei Untervektorraum eines endlichdimensionalen Vektorraums V. Sei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Basis von U, und seien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weitere Vektoren in V, so dass 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Basis von 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1752480"/>
            <a:ext cx="8001000" cy="1008720"/>
            <a:chOff x="609480" y="1752480"/>
            <a:chExt cx="8001000" cy="1008720"/>
          </a:xfrm>
        </p:grpSpPr>
        <p:sp>
          <p:nvSpPr>
            <p:cNvPr id="86" name=""/>
            <p:cNvSpPr/>
            <p:nvPr/>
          </p:nvSpPr>
          <p:spPr>
            <a:xfrm>
              <a:off x="609480" y="1752480"/>
              <a:ext cx="8001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Das Produkt                   ist die direkte Summe von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d                       (vgl. 17.2.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3465360" y="1841400"/>
                  <a:ext cx="11066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2813040" y="2143080"/>
                  <a:ext cx="13780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762120" y="2143080"/>
                  <a:ext cx="132696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" name=""/>
          <p:cNvSpPr/>
          <p:nvPr/>
        </p:nvSpPr>
        <p:spPr>
          <a:xfrm>
            <a:off x="609480" y="524196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r Vektor  v  aus  V  hat die eindeutige Darstell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t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85144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gt au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stet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u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227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~ v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flex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0574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6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sei Untervektorraum von V . Dann gilt für Vektoren v uns w aus V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8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wed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+ U = w + U  oder v + U und w + U haben keine gemeinsamen Ele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480" y="3262320"/>
            <a:ext cx="8001000" cy="398880"/>
            <a:chOff x="609480" y="3262320"/>
            <a:chExt cx="8001000" cy="398880"/>
          </a:xfrm>
        </p:grpSpPr>
        <p:sp>
          <p:nvSpPr>
            <p:cNvPr id="97" name=""/>
            <p:cNvSpPr/>
            <p:nvPr/>
          </p:nvSpPr>
          <p:spPr>
            <a:xfrm>
              <a:off x="609480" y="32623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 + U = w + U ist gleichbedeutend mit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6273720" y="3328560"/>
                  <a:ext cx="101124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t xml:space="preserve">w</m:t>
                      </m:r>
                      <m:r>
                        <m:t xml:space="preserve">∈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"/>
          <p:cNvGrpSpPr/>
          <p:nvPr/>
        </p:nvGrpSpPr>
        <p:grpSpPr>
          <a:xfrm>
            <a:off x="609480" y="3618000"/>
            <a:ext cx="8001000" cy="703800"/>
            <a:chOff x="609480" y="3618000"/>
            <a:chExt cx="8001000" cy="703800"/>
          </a:xfrm>
        </p:grpSpPr>
        <p:sp>
          <p:nvSpPr>
            <p:cNvPr id="100" name=""/>
            <p:cNvSpPr/>
            <p:nvPr/>
          </p:nvSpPr>
          <p:spPr>
            <a:xfrm>
              <a:off x="609480" y="361800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7) Bemerkung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urch                                       für v und w aus V wird auf V eine Äquivalenzrelation definiert, d.h. für v,w,z aus V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3733920" y="3710160"/>
                  <a:ext cx="245412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⇔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609480" y="4532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 v ~ w folgt w ~ v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mmetris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836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 v ~ w und w ~ z folgt v ~ z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it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105000" y="5564160"/>
                <a:ext cx="2389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: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09480" y="5157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Äquivalenzklassen von ~ sind die Mengen  v + U , v aus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446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Untersuchung von Quotienten brauchen wir die durch einen Unterraum gegebene Äquivalenzre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791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Äquivalenzklassen v + U lassen sich auch verstehen als die affinen Räume in V mit U als Translations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9480" y="1447920"/>
            <a:ext cx="8001000" cy="1008720"/>
            <a:chOff x="609480" y="1447920"/>
            <a:chExt cx="8001000" cy="1008720"/>
          </a:xfrm>
        </p:grpSpPr>
        <p:sp>
          <p:nvSpPr>
            <p:cNvPr id="110" name=""/>
            <p:cNvSpPr/>
            <p:nvPr/>
          </p:nvSpPr>
          <p:spPr>
            <a:xfrm>
              <a:off x="609480" y="1447920"/>
              <a:ext cx="8001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8) Satz-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 sei Untervektorraum von V. Auf der Menge der Äquivalenzklassen                                  gibt es eine natürliche Struktur eines K-Vektorraum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352680" y="1854360"/>
                  <a:ext cx="213048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r>
                            <m:t xml:space="preserve">U</m:t>
                          </m:r>
                          <m:r>
                            <m:t xml:space="preserve">:</m:t>
                          </m:r>
                          <m:r>
                            <m:t xml:space="preserve">v</m:t>
                          </m:r>
                          <m:r>
                            <m:t xml:space="preserve">∈</m:t>
                          </m:r>
                          <m:r>
                            <m:t xml:space="preserve">V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609480" y="20574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v,w aus V und t aus K s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 + U) + (w + U) := (v + w) + U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(v + U) := (tv) + U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971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ieser Struktur heißt  V/~ 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otienten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ktor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ot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on V in Bezug auf U und wird mit V/U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09480" y="3641760"/>
            <a:ext cx="8001000" cy="703800"/>
            <a:chOff x="609480" y="3641760"/>
            <a:chExt cx="8001000" cy="703800"/>
          </a:xfrm>
        </p:grpSpPr>
        <p:sp>
          <p:nvSpPr>
            <p:cNvPr id="115" name=""/>
            <p:cNvSpPr/>
            <p:nvPr/>
          </p:nvSpPr>
          <p:spPr>
            <a:xfrm>
              <a:off x="609480" y="36417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17.9) Satz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Die Abbildung                                         heißt die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anonische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Projektion.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 ist linear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d surjektiv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809880" y="3726000"/>
                  <a:ext cx="26244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:</m:t>
                      </m:r>
                      <m:r>
                        <m:t xml:space="preserve">V</m:t>
                      </m:r>
                      <m:r>
                        <m:t xml:space="preserve">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↦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"/>
          <p:cNvSpPr/>
          <p:nvPr/>
        </p:nvSpPr>
        <p:spPr>
          <a:xfrm>
            <a:off x="609480" y="58514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7.12) Kanonische Faktorisierun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ei f eine lineare Abbildung von V nach 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6156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ist die natürlich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267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0) Folgeru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Untervektorraum U von V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201840" y="4645080"/>
                <a:ext cx="27417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609480" y="48769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7.11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V sei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Vektorraum der rationalen Cauchyfol-gen (V ist Untervektorraum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und U sei der Untervektorraum der rationalen Nullfolgen. Dann ist V/U isomorp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048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 das folgende Diagramm wird diese Aussage illustrie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800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2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532320" y="3414600"/>
                <a:ext cx="191448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  <m:e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↓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↑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e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  <m:e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609480" y="2117880"/>
            <a:ext cx="8001000" cy="398880"/>
            <a:chOff x="609480" y="2117880"/>
            <a:chExt cx="8001000" cy="398880"/>
          </a:xfrm>
        </p:grpSpPr>
        <p:sp>
          <p:nvSpPr>
            <p:cNvPr id="127" name=""/>
            <p:cNvSpPr/>
            <p:nvPr/>
          </p:nvSpPr>
          <p:spPr>
            <a:xfrm>
              <a:off x="609480" y="211788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t der Inklusionsabbildung                                     gil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3908520" y="2201760"/>
                  <a:ext cx="23400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:Im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  <m:r>
                        <m:t xml:space="preserve">↦</m:t>
                      </m:r>
                      <m:r>
                        <m:t xml:space="preserve">w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98800" y="2625840"/>
                <a:ext cx="1343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∘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∘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" name=""/>
          <p:cNvGrpSpPr/>
          <p:nvPr/>
        </p:nvGrpSpPr>
        <p:grpSpPr>
          <a:xfrm>
            <a:off x="609480" y="5089680"/>
            <a:ext cx="8001000" cy="703800"/>
            <a:chOff x="609480" y="5089680"/>
            <a:chExt cx="8001000" cy="703800"/>
          </a:xfrm>
        </p:grpSpPr>
        <p:sp>
          <p:nvSpPr>
            <p:cNvPr id="131" name=""/>
            <p:cNvSpPr/>
            <p:nvPr/>
          </p:nvSpPr>
          <p:spPr>
            <a:xfrm>
              <a:off x="609480" y="50896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Epimorphismus f ist bis auf Isomorphie eine kano-nische Projektion:                                                 ist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2795760" y="5410080"/>
                  <a:ext cx="317340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609480" y="5699160"/>
            <a:ext cx="8001000" cy="703800"/>
            <a:chOff x="609480" y="5699160"/>
            <a:chExt cx="8001000" cy="703800"/>
          </a:xfrm>
        </p:grpSpPr>
        <p:sp>
          <p:nvSpPr>
            <p:cNvPr id="134" name=""/>
            <p:cNvSpPr/>
            <p:nvPr/>
          </p:nvSpPr>
          <p:spPr>
            <a:xfrm>
              <a:off x="609480" y="56991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 Monomorphismus ist bis auf Isomorphie eine Inklusion:                                                   ist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905120" y="6032520"/>
                  <a:ext cx="332100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46360" y="1446120"/>
                <a:ext cx="38307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: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e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er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↦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1812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wohldefinierter Isomorphismus von Vektorrä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2-12T09:38:26Z</dcterms:modified>
  <cp:revision>72</cp:revision>
  <dc:subject/>
  <dc:title>PowerPoint-Präsentation</dc:title>
</cp:coreProperties>
</file>