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511F150C-1FD9-42E7-B833-8812E9A46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133720" y="3987720"/>
            <a:ext cx="403848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pitel III. Elementare Theor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r Vektorrä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3581280"/>
            <a:ext cx="56386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grundlegenden Begriff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e Unabhängigkei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(*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zeugendensystem“ u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s“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rden eingeführt und studier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53942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sen Begriffen liegt der Begriff der „Linearkombination“ zugrun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578952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(*)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„Lineare Unabhängigkeit“ begriffen hat, der hat die Lineare Algebra verstand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4461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3.4) Bemerkungen, Beispiel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i V ein K-Vektorrau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8288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leere Menge ist linear unabhängi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85800" y="2209680"/>
            <a:ext cx="7924680" cy="398880"/>
            <a:chOff x="685800" y="2209680"/>
            <a:chExt cx="7924680" cy="398880"/>
          </a:xfrm>
        </p:grpSpPr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3268800" y="2273400"/>
                  <a:ext cx="1226880" cy="32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δ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:</m:t>
                          </m:r>
                          <m:r>
                            <m:t xml:space="preserve">a</m:t>
                          </m:r>
                          <m:r>
                            <m:t xml:space="preserve">∈</m:t>
                          </m:r>
                          <m:r>
                            <m:t xml:space="preserve">M</m:t>
                          </m:r>
                          <m:r>
                            <m:t xml:space="preserve"> 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57" name=""/>
            <p:cNvSpPr/>
            <p:nvPr/>
          </p:nvSpPr>
          <p:spPr>
            <a:xfrm>
              <a:off x="685800" y="220968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Die Menge                    ist linear unabhängig in  K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(M)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85800" y="25909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benso: {T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k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k au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 ist linear unabhängig in  K[T]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3048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3.5) Fundamentallemm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sei Körper. Ein homogenes lineares Gleichungs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547056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13.6) Schrankenlemma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t der K-Vektorraum V ein Erzeugen-densystem mit n Elementen (n au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, so sind je n+1 Vektoren aus V stets linear abhängi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487680" y="3733920"/>
                <a:ext cx="221472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</m:sSub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 ,    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685800" y="4403880"/>
            <a:ext cx="79246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n Gleichungen und mit den m Unbestimmten 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hat im Fall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 &gt; n  stets eine nichttriviale Lösung; dh. x aus K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\{0} mit den Komponenten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, so dass das Gleichungssystem erfüllt i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6251400" y="3852720"/>
                <a:ext cx="2610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,2,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,n 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K ,    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44612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wei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i {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Erzeugendensystem von 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75248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d seien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liebige Vektoren aus 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057400"/>
            <a:ext cx="7924680" cy="398880"/>
            <a:chOff x="685800" y="2057400"/>
            <a:chExt cx="7924680" cy="398880"/>
          </a:xfrm>
        </p:grpSpPr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2298600" y="2079720"/>
                  <a:ext cx="1289160" cy="34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  <m:sup>
                          <m:r>
                            <m:t xml:space="preserve">μ</m:t>
                          </m:r>
                        </m:sup>
                      </m:sSubSup>
                      <m:r>
                        <m:t xml:space="preserve">∈</m:t>
                      </m:r>
                      <m:r>
                        <m:rPr>
                          <m:lit/>
                          <m:nor/>
                        </m:rPr>
                        <m:t xml:space="preserve">K  mit 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9" name=""/>
            <p:cNvSpPr/>
            <p:nvPr/>
          </p:nvSpPr>
          <p:spPr>
            <a:xfrm>
              <a:off x="685800" y="205740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s gibt dan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685800" y="303228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ucht werden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K , nicht alle 0, 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556000" y="2494080"/>
                <a:ext cx="40734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μ</m:t>
                            </m:r>
                          </m:sup>
                        </m:sSub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2,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,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609480" y="464832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Behauptung folgt jetzt aus dem Fundamentallemma 13.5, den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722760" y="3483000"/>
                <a:ext cx="17636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338560" y="4038480"/>
                <a:ext cx="45194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μ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μ</m:t>
                            </m:r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μ</m:t>
                                </m:r>
                              </m:sup>
                            </m:sSubSup>
                          </m:e>
                        </m:nary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μ</m:t>
                                </m:r>
                              </m:sup>
                            </m:sSubSup>
                          </m:e>
                        </m:nary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</m:nary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768840" y="5083200"/>
                <a:ext cx="16412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μ</m:t>
                            </m:r>
                          </m:sup>
                        </m:sSubSup>
                      </m:e>
                    </m:nary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    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609480" y="563868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t eine nichttriviale Lösung (n Gleichungen, n+1 Unbestimmt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§14 Basis und Dimen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21938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4.1) Defini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 sei wieder ein K-Vektorrau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5146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e Menge B von Vektoren aus V heiß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is v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, wenn gi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28195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ist Erzeugendensystem von V , 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124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ist linear unabhängi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34290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4.2) Beispie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733920"/>
            <a:ext cx="79250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 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aus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 Basis von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Nach 12.3.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rzeugendensystem, nach 13.2.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inear unabhängi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5842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benso: {T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k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k au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 ist Basis von  K[T]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838080" y="5514840"/>
            <a:ext cx="7924680" cy="398880"/>
            <a:chOff x="838080" y="5514840"/>
            <a:chExt cx="7924680" cy="398880"/>
          </a:xfrm>
        </p:grpSpPr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3421080" y="5578560"/>
                  <a:ext cx="1226880" cy="32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δ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:</m:t>
                          </m:r>
                          <m:r>
                            <m:t xml:space="preserve">a</m:t>
                          </m:r>
                          <m:r>
                            <m:t xml:space="preserve">∈</m:t>
                          </m:r>
                          <m:r>
                            <m:t xml:space="preserve">M</m:t>
                          </m:r>
                          <m:r>
                            <m:t xml:space="preserve"> 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88" name=""/>
            <p:cNvSpPr/>
            <p:nvPr/>
          </p:nvSpPr>
          <p:spPr>
            <a:xfrm>
              <a:off x="838080" y="551484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Die Menge                    ist Basis von K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(M)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838080" y="4327560"/>
            <a:ext cx="8001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ch {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.. 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ist eine Basis von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enn in K die Gleichung 2x = 0 nur die Lösung x = 0 hat, z.B. K aus {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4921200"/>
            <a:ext cx="8001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er für x aus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 {x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 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keine Basis von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gl. 13.2.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61563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leere Menge ist Basis von {0}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1447920"/>
            <a:ext cx="990360" cy="276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03.12.01</a:t>
            </a:r>
            <a:r>
              <a:rPr b="0" lang="en-US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47242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e grundlegenden Fragestellungen zum Basisbegrif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333684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B und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K\{0}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20574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 ist Basis von 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364176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i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nima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rzeugenden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.h. B erzeugt V und für jede echte Teilmenge A von B ist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ich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rzeugendensystem von V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23623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der Vektor x aus K hat eine eindeutige Darstellung als Linearkombination (bis auf die Reihenfolge der Summ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297180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 =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+ ... +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5181480"/>
            <a:ext cx="79246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Hat jeder K-Vektorraum eine Basi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14479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4.3) Lemm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 sei ein Erzeugendensystem des K-Vektorraums 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752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folgenden Aussagen sind dann äquivalen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5689440"/>
            <a:ext cx="79246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ht die Anzahl der Basiselemente (im Falle der Existenz) fe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1446120"/>
            <a:ext cx="80010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 kann die Gesamtheit der Basen (im Falle der Existenz) beschrieben werden?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45720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 besitzt eine endliche Ba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25909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4.4) Satz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 sei ein endlich erzeugter K-Vektorraum. Dan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28972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 zwei Basen haben gleichviel Elemen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36576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4.5) Basissatz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ür endlich erzeugte Vektorräume): V sei ein endlich erzeugter K-Vektorraum mit einem Erzeugendensystem E. Dann gi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22860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r Frag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33526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r Frag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0120" y="2158920"/>
            <a:ext cx="990360" cy="276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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8.11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4876920"/>
            <a:ext cx="800100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{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aus V sei linear unabhängig. Dann ist {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eine Basis von V, oder man findet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+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+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n E, so dass {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+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eine Basis von V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57913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Basis B nach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ann als Teilmenge von E gewähl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144612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14.6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ie nach 14.4 eindeutig bestimmte und nach 14.5 existierende Zahl n au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s endlich erzeugten Vektorraumes V heißt di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Dimens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V. Notation:  dim V = n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2422440"/>
            <a:ext cx="8001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llständige Notation, wenn klargestellt werden soll, dass die Dimension sich auf den Körper K bezieht:   dim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 = n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34290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dim K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n , auch für n = 0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49356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sei endlich erzeugt. Dann gi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37940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m {(x,y,0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K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 x,y aus K} = 2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3124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4.7) Beispie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4159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m {(x+y,0,x-y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 x,y au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= 2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524196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m V = min{n aus N : je n+1 Elemente aus V sind linear abhängig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4554360"/>
            <a:ext cx="800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m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1, aber dim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562284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letzte Formel hat ihre Gültigkeit insbesondere auch für V = 0. Sie gibt auch Sinn für Vektorräume, die nicht endlich erzeugt si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2575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4.9) Dimensionssatz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ür einen K-Vektorraum V gi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287964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entweder hat V die endliche Dimension n au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; und das bedeutet: V besitzt n linear unabhängige Vektoren und je n+1 sind linear abhängi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379404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er V ist unendlichdimensional; und das bedeutet, dass  es zu jedem n au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ndestens n linear unabhängige Vektoren gib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609480" y="1446120"/>
            <a:ext cx="8001000" cy="703800"/>
            <a:chOff x="609480" y="1446120"/>
            <a:chExt cx="8001000" cy="703800"/>
          </a:xfrm>
        </p:grpSpPr>
        <p:sp>
          <p:nvSpPr>
            <p:cNvPr id="231" name=""/>
            <p:cNvSpPr/>
            <p:nvPr/>
          </p:nvSpPr>
          <p:spPr>
            <a:xfrm>
              <a:off x="609480" y="1446120"/>
              <a:ext cx="8001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14.8) Definition: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Di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Dimensio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eines nicht endlich erzeugten Vektorraumes wird als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unendlich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definier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2" name=""/>
                <p:cNvSpPr txBox="1"/>
                <p:nvPr/>
              </p:nvSpPr>
              <p:spPr>
                <a:xfrm>
                  <a:off x="5554800" y="1816200"/>
                  <a:ext cx="167616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im V </m:t>
                      </m:r>
                      <m:r>
                        <m:t xml:space="preserve">=</m:t>
                      </m:r>
                      <m:r>
                        <m:t xml:space="preserve">∞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      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3" name=""/>
          <p:cNvSpPr/>
          <p:nvPr/>
        </p:nvSpPr>
        <p:spPr>
          <a:xfrm>
            <a:off x="609480" y="21938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sammenfassend haben wir damit d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48610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Jeder Untervektorraum U eines endlichdimensionalen Vektorraumes V ist endlichdimens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45543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4.10) Beispie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547056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[T]  ist unendlichdimensional, ebenso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d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(M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für unendliche Mengen 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1446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ch die Folgenräume in 10.6 sind unendlichdimension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274320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4.11) Satz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uch jeder unendlichdimensionale Vektorraum hat eine Ba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33526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s ist für K[T] und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(M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vident, weil wir eine Basis direkt angeben könn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58514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ispi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Fü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s Vektorraum üb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t keine Basis bekan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22701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hne Beweis zitieren wi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609480" y="1812960"/>
            <a:ext cx="8001000" cy="398880"/>
            <a:chOff x="609480" y="1812960"/>
            <a:chExt cx="8001000" cy="398880"/>
          </a:xfrm>
        </p:grpSpPr>
        <p:sp>
          <p:nvSpPr>
            <p:cNvPr id="244" name=""/>
            <p:cNvSpPr/>
            <p:nvPr/>
          </p:nvSpPr>
          <p:spPr>
            <a:xfrm>
              <a:off x="609480" y="181296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1963800" y="1873080"/>
                  <a:ext cx="3128760" cy="33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im</m:t>
                          </m:r>
                        </m:e>
                        <m:sub>
                          <m:r>
                            <m:t xml:space="preserve">Q</m:t>
                          </m:r>
                        </m:sub>
                      </m:sSub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t xml:space="preserve">∞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, dim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      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6" name=""/>
          <p:cNvSpPr/>
          <p:nvPr/>
        </p:nvSpPr>
        <p:spPr>
          <a:xfrm>
            <a:off x="609480" y="40989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 allgemeinen beruht der Satz auf dem „Wohlordnungsaxiom“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44197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ses Axiom der Mengenlehre gehört nicht für jeden Mathematiker zu den grundsätzlich notwendigen und evidenten Axio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502920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s Wohlordnungsaxiom ist äquivalent zu dem „Lemma von Zorn“ ; der Beweis der Existenz einer Basis ist nicht konstruktiv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§15 Lineare Abbildun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219384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15.1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 Abbildung f zwischen K-Vektorräumen V und W is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oder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Vektorraumhomomorphismu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, wen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2803680"/>
            <a:ext cx="8001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alle Vektoren x,y aus V und alle Skalare s,t aus dem Körper K gi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(sx + ty) = sf(x) + tf(y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4038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.2) Beispie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685800" y="4324320"/>
            <a:ext cx="8001000" cy="568440"/>
            <a:chOff x="685800" y="4324320"/>
            <a:chExt cx="8001000" cy="568440"/>
          </a:xfrm>
        </p:grpSpPr>
        <p:sp>
          <p:nvSpPr>
            <p:cNvPr id="255" name=""/>
            <p:cNvSpPr/>
            <p:nvPr/>
          </p:nvSpPr>
          <p:spPr>
            <a:xfrm>
              <a:off x="685800" y="438480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in spezielles Beispiel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4648320" y="4324320"/>
                  <a:ext cx="2876400" cy="56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f:K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→</m:t>
                      </m:r>
                      <m:r>
                        <m:rPr>
                          <m:lit/>
                          <m:nor/>
                        </m:rPr>
                        <m:t xml:space="preserve">K , f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y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: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x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5y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7" name=""/>
          <p:cNvGrpSpPr/>
          <p:nvPr/>
        </p:nvGrpSpPr>
        <p:grpSpPr>
          <a:xfrm>
            <a:off x="685800" y="5410080"/>
            <a:ext cx="8001000" cy="398880"/>
            <a:chOff x="685800" y="5410080"/>
            <a:chExt cx="8001000" cy="398880"/>
          </a:xfrm>
        </p:grpSpPr>
        <p:sp>
          <p:nvSpPr>
            <p:cNvPr id="258" name=""/>
            <p:cNvSpPr/>
            <p:nvPr/>
          </p:nvSpPr>
          <p:spPr>
            <a:xfrm>
              <a:off x="685800" y="541008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e Ableitung                                           ist linea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9" name=""/>
                <p:cNvSpPr txBox="1"/>
                <p:nvPr/>
              </p:nvSpPr>
              <p:spPr>
                <a:xfrm>
                  <a:off x="3646440" y="5422680"/>
                  <a:ext cx="267804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D:C</m:t>
                          </m:r>
                        </m:e>
                        <m:sup>
                          <m:r>
                            <m:t xml:space="preserve">1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r>
                        <m:t xml:space="preserve">→</m:t>
                      </m:r>
                      <m:r>
                        <m:t xml:space="preserve">C</m:t>
                      </m:r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↦</m:t>
                      </m:r>
                      <m:sSup>
                        <m:e>
                          <m:r>
                            <m:t xml:space="preserve">f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0" name=""/>
          <p:cNvGrpSpPr/>
          <p:nvPr/>
        </p:nvGrpSpPr>
        <p:grpSpPr>
          <a:xfrm>
            <a:off x="685800" y="4816440"/>
            <a:ext cx="8001000" cy="745560"/>
            <a:chOff x="685800" y="4816440"/>
            <a:chExt cx="8001000" cy="745560"/>
          </a:xfrm>
        </p:grpSpPr>
        <p:sp>
          <p:nvSpPr>
            <p:cNvPr id="261" name=""/>
            <p:cNvSpPr/>
            <p:nvPr/>
          </p:nvSpPr>
          <p:spPr>
            <a:xfrm>
              <a:off x="685800" y="4816440"/>
              <a:ext cx="800100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  (vgl. 10.6.3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de-DE" sz="20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:= {x aus 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de-DE" sz="2000" spc="-1" strike="noStrike" baseline="30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: x ist konvergent}) ist linea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2" name=""/>
                <p:cNvSpPr txBox="1"/>
                <p:nvPr/>
              </p:nvSpPr>
              <p:spPr>
                <a:xfrm>
                  <a:off x="2070000" y="4892760"/>
                  <a:ext cx="413244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im</m:t>
                      </m:r>
                      <m:r>
                        <m:t xml:space="preserve">: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→</m:t>
                      </m:r>
                      <m:r>
                        <m:t xml:space="preserve">R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↦</m:t>
                      </m:r>
                      <m:r>
                        <m:rPr>
                          <m:lit/>
                          <m:nor/>
                        </m:rPr>
                        <m:t xml:space="preserve">Lim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: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lim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3" name=""/>
          <p:cNvSpPr/>
          <p:nvPr/>
        </p:nvSpPr>
        <p:spPr>
          <a:xfrm>
            <a:off x="685800" y="35812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nauer: „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K-linea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 od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„K-Vektorraumhomomorphismus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685800" y="5775480"/>
            <a:ext cx="8001000" cy="703800"/>
            <a:chOff x="685800" y="5775480"/>
            <a:chExt cx="8001000" cy="703800"/>
          </a:xfrm>
        </p:grpSpPr>
        <p:sp>
          <p:nvSpPr>
            <p:cNvPr id="265" name=""/>
            <p:cNvSpPr/>
            <p:nvPr/>
          </p:nvSpPr>
          <p:spPr>
            <a:xfrm>
              <a:off x="685800" y="5775480"/>
              <a:ext cx="8001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Di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formal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Ableitun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   ist ebenfalls linear.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4572000" y="5791320"/>
                  <a:ext cx="38862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:</m:t>
                      </m:r>
                      <m:r>
                        <m:t xml:space="preserve">K</m:t>
                      </m:r>
                      <m:r>
                        <m:t xml:space="preserve">[</m:t>
                      </m:r>
                      <m:r>
                        <m:t xml:space="preserve">T</m:t>
                      </m:r>
                      <m:r>
                        <m:t xml:space="preserve">]</m:t>
                      </m:r>
                      <m:r>
                        <m:t xml:space="preserve">→</m:t>
                      </m:r>
                      <m:r>
                        <m:t xml:space="preserve">K</m:t>
                      </m:r>
                      <m:r>
                        <m:t xml:space="preserve">[</m:t>
                      </m:r>
                      <m:r>
                        <m:t xml:space="preserve">T</m:t>
                      </m:r>
                      <m:r>
                        <m:t xml:space="preserve">]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j</m:t>
                              </m:r>
                            </m:sup>
                          </m:sSup>
                          <m:r>
                            <m:t xml:space="preserve">↦</m:t>
                          </m:r>
                          <m:nary>
                            <m:naryPr>
                              <m:chr m:val="∑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T</m:t>
                                  </m:r>
                                </m:e>
                                <m:sup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</m:e>
                          </m:nary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7" name=""/>
          <p:cNvSpPr/>
          <p:nvPr/>
        </p:nvSpPr>
        <p:spPr>
          <a:xfrm>
            <a:off x="7620120" y="1697040"/>
            <a:ext cx="990360" cy="276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05.12.01 </a:t>
            </a:r>
            <a:r>
              <a:rPr b="0" lang="en-US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21337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.3) Bemerkung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37339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e Komposition linearer Abbildungen ist line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685800" y="3413160"/>
            <a:ext cx="8001000" cy="398880"/>
            <a:chOff x="685800" y="3413160"/>
            <a:chExt cx="8001000" cy="398880"/>
          </a:xfrm>
        </p:grpSpPr>
        <p:sp>
          <p:nvSpPr>
            <p:cNvPr id="272" name=""/>
            <p:cNvSpPr/>
            <p:nvPr/>
          </p:nvSpPr>
          <p:spPr>
            <a:xfrm>
              <a:off x="685800" y="341316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i f linear. Dann gilt f(0) = 0 un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5791320" y="3459240"/>
                  <a:ext cx="2243160" cy="30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nary>
                        </m:e>
                      </m:nary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4" name=""/>
          <p:cNvSpPr/>
          <p:nvPr/>
        </p:nvSpPr>
        <p:spPr>
          <a:xfrm>
            <a:off x="685800" y="405432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ie Menge der linearen Abbildungen Hom(V,W) von V nach W ist bezüglich der punktweisen Addition und Skalarmultipli-kation ein K-Vektorraum, und zwar ein Untervektorraum von W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85800" y="1446120"/>
            <a:ext cx="8001000" cy="703800"/>
            <a:chOff x="685800" y="1446120"/>
            <a:chExt cx="8001000" cy="703800"/>
          </a:xfrm>
        </p:grpSpPr>
        <p:sp>
          <p:nvSpPr>
            <p:cNvPr id="276" name=""/>
            <p:cNvSpPr/>
            <p:nvPr/>
          </p:nvSpPr>
          <p:spPr>
            <a:xfrm>
              <a:off x="685800" y="1446120"/>
              <a:ext cx="8001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Sei M eine Menge und a ein Element aus M. Die „Auswertung“                                    ist linea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7" name=""/>
                <p:cNvSpPr txBox="1"/>
                <p:nvPr/>
              </p:nvSpPr>
              <p:spPr>
                <a:xfrm>
                  <a:off x="2438280" y="1779480"/>
                  <a:ext cx="224496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:</m:t>
                      </m:r>
                      <m:sSup>
                        <m:e>
                          <m:r>
                            <m:t xml:space="preserve">K</m:t>
                          </m:r>
                        </m:e>
                        <m:sup>
                          <m:r>
                            <m:t xml:space="preserve">M</m:t>
                          </m:r>
                        </m:sup>
                      </m:sSup>
                      <m:r>
                        <m:t xml:space="preserve">→</m:t>
                      </m:r>
                      <m:r>
                        <m:t xml:space="preserve">K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↦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8" name=""/>
          <p:cNvSpPr/>
          <p:nvPr/>
        </p:nvSpPr>
        <p:spPr>
          <a:xfrm>
            <a:off x="685800" y="243828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 lineare Abbildung f ist insbesondere ein Gruppen-homomorphismus, sie „respektiert“ neben der Addition zusätzlich noch die Skalarmultiplikation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557856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t(V) := {f aus Hom(V,V) : f bijektiv} ist eine Gruppe bezüglich der Komposition von Abbildungen, und zwar eine Untergruppe der Permutationsgruppe S(V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49687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ei f linear und bijektiv. Dann ist die Umkehrabbildung f 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–1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benfalls line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0120" y="1981080"/>
            <a:ext cx="990360" cy="276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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03.12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§12 Linearkombination und Erzeugenden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0574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 folgenden ist K stets ein Körper und V, W, ... sind Vektorräume über K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40384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 ein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omogenen linearen Differentialgleichung n-ter Ordnung mit konstanten Koeffizient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ersteht m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5181480"/>
            <a:ext cx="77724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bei sind die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Koeffizienten au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also konstante reelle Zahlen, und die  f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(k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 die k-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ach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bleitungen, al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6668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r Motivation des Begriffes Linearkombination noch ein Beispi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312408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12.1) Beispi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s sei C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) der in 10.11 eingeführt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Vektorraum der n-mal stetig differenzierbaren reellwertigen Funktionen auf dem Intervall 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276720" y="5904000"/>
                <a:ext cx="25905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f  und  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" name=""/>
          <p:cNvGrpSpPr/>
          <p:nvPr/>
        </p:nvGrpSpPr>
        <p:grpSpPr>
          <a:xfrm>
            <a:off x="1676520" y="4784760"/>
            <a:ext cx="6019560" cy="398880"/>
            <a:chOff x="1676520" y="4784760"/>
            <a:chExt cx="6019560" cy="398880"/>
          </a:xfrm>
        </p:grpSpPr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2895480" y="4813200"/>
                  <a:ext cx="330696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f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</m:sSub>
                      <m:sSup>
                        <m:e>
                          <m:r>
                            <m:t xml:space="preserve">f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p>
                        <m:e>
                          <m:r>
                            <m:t xml:space="preserve">f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f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0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8" name=""/>
            <p:cNvSpPr/>
            <p:nvPr/>
          </p:nvSpPr>
          <p:spPr>
            <a:xfrm>
              <a:off x="1676520" y="4784760"/>
              <a:ext cx="60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472428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(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+ ... +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:=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+ ... +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14461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.4) Defini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i f eine lineare Abbildung zwischen den  K-Vektorräumen V und W. f heiß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4038480"/>
            <a:ext cx="7772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15.5) Lemma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{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sei eine Basis von V . Dann wird für jedes n-Tupel (w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w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von Vektoren aus W dur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5442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de lineare Abbildung von V nach W hat diese Fo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85800" y="50450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e lineare Abbildung definie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20574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somorphismu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enn f bijektiv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28036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Monomorphismu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enn f injektiv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31845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Endomorphismu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enn V = W gi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35654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utomorphismi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enn V = W gilt, und f bijektiv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24224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Epimorphismu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enn f surjektiv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" y="5883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e analoge Aussage gilt für unendlichdimensionale Vektorräume 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" y="14461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.6) Defini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i f eine lineare Abbildung zwischen den  K-Vektorräumen V und W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" y="27432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.7) Lemm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i f linear, A Teilmenge aus V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20574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Ker f := f 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–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0)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Kern von f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5800" y="23623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m f := f(V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ld von f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562284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.8) Satz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wei endlichdimensionale K-Vektorräume sind genau dann isomorph, wenn sie gleichdimensional sind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30322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Ker f  und  Im f  sind Untervektorräume von V bzw. W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36417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f(Span(A)) = Span(f(A))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" y="39466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Wenn E Erzeugendensystem von V ist, so ist f(E) Erzeugendensystem von  Im f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45561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  ist linear unabhängig, wenn das für f(A) gi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33368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f  ist injektiv, genau dann wenn Ker f = {0}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5800" y="48610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f(A) ist linear unabhängig, wenn das für A gilt und wenn f injektiv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20120" y="6019920"/>
            <a:ext cx="990360" cy="276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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05.12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20120" y="5257800"/>
            <a:ext cx="990360" cy="276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0.12.01 </a:t>
            </a:r>
            <a:r>
              <a:rPr b="0" lang="en-US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" y="28036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15.10) Äquivalenzsatz für lineare Abbildunge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gleichdimen-sionale K-Vektorräume V und W endlicher Dimension sind die folgen-den Aussagen für lineare Abbildungen f von V nach W äquival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4461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Jeder endlichdimensionale K-Vektorraum V ist zu einem K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omorph mit  n = dim V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53341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.11) Satz (Dimensionsformel)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eine lineare Abbildung  f  von  V  nach  W  gi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37339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f  ist injekti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85800" y="43434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f  ist bijekti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" y="40384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f  ist surjekti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" y="21337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.9) Bemerku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der K-Vektorraum ist isomorph zu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wobei B eine Basis von V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5800" y="470844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hr Information liegt in der Dimensionsformel, die auch für unendlichdimensionale Vektorräume gültig i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133720" y="6019920"/>
            <a:ext cx="48006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m Ker f + dim Im f = dim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295280" y="3746520"/>
            <a:ext cx="2590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§16 Rang und lineare Gleichungssyste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" y="20574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6.1) Defini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 sei wieder ein K-Vektorraum. 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a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iner Teilmenge A aus V ist die Dimension der linearen Hülle Span(A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26668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g A := dim Span(A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" y="29718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Ra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r linearen Abbildung f aus Hom(V,W) ist der Rang von Im f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g f := dim Im f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3962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6.2) Beispiel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" y="4267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 aus V sei Erzeugendensystem. Dann rg A = dim V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48769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rg A = 0 bedeutet A = {0}  oder A ist le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4572000"/>
            <a:ext cx="800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 = {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hat den Rang 2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n &gt;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85800" y="5181480"/>
            <a:ext cx="8001000" cy="385920"/>
            <a:chOff x="685800" y="5181480"/>
            <a:chExt cx="8001000" cy="385920"/>
          </a:xfrm>
        </p:grpSpPr>
        <p:sp>
          <p:nvSpPr>
            <p:cNvPr id="329" name=""/>
            <p:cNvSpPr/>
            <p:nvPr/>
          </p:nvSpPr>
          <p:spPr>
            <a:xfrm>
              <a:off x="685800" y="5181480"/>
              <a:ext cx="80010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Für Teilmengen A und B aus V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5613480" y="5270400"/>
                  <a:ext cx="289548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it</m:t>
                      </m:r>
                      <m:r>
                        <m:t xml:space="preserve"> </m:t>
                      </m:r>
                      <m:r>
                        <m:t xml:space="preserve">A</m:t>
                      </m:r>
                      <m:r>
                        <m:t xml:space="preserve">⊂</m:t>
                      </m:r>
                      <m:r>
                        <m:rPr>
                          <m:lit/>
                          <m:nor/>
                        </m:rPr>
                        <m:t xml:space="preserve">B  gilt  </m:t>
                      </m:r>
                      <m:r>
                        <m:rPr>
                          <m:lit/>
                          <m:nor/>
                        </m:rPr>
                        <m:t xml:space="preserve">rg</m:t>
                      </m:r>
                      <m:r>
                        <m:t xml:space="preserve"> </m:t>
                      </m:r>
                      <m:r>
                        <m:t xml:space="preserve">A</m:t>
                      </m:r>
                      <m:r>
                        <m:t xml:space="preserve">≤</m:t>
                      </m:r>
                      <m:r>
                        <m:rPr>
                          <m:lit/>
                          <m:nor/>
                        </m:rPr>
                        <m:t xml:space="preserve">rg</m:t>
                      </m:r>
                      <m:r>
                        <m:t xml:space="preserve"> </m:t>
                      </m:r>
                      <m:r>
                        <m:t xml:space="preserve">B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1" name=""/>
          <p:cNvSpPr/>
          <p:nvPr/>
        </p:nvSpPr>
        <p:spPr>
          <a:xfrm>
            <a:off x="685800" y="556272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16.3) Rangsatz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eine Teilmenge A aus V gilt  r = rg A  für r au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genau dann, wenn es r linear unabhängige Elemente in A gibt und je r+1 Elemente aus A linear abhängig si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20120" y="6324480"/>
            <a:ext cx="99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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0.12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618320" y="3886200"/>
            <a:ext cx="9907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2.12.01 </a:t>
            </a:r>
            <a:r>
              <a:rPr b="0" lang="en-US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" y="243828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neare Gleichungssysteme haben wir bereits in §3 kennengelernt. Damals üb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; jetzt interessieren wir uns für lineare Gleichungs-systeme über einen beliebigen Körper 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5800" y="1446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6.4) Lemm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i A eine Teilmenge von V mit endlichem Rang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85800" y="1752480"/>
            <a:ext cx="8001000" cy="703800"/>
            <a:chOff x="685800" y="1752480"/>
            <a:chExt cx="8001000" cy="703800"/>
          </a:xfrm>
        </p:grpSpPr>
        <p:sp>
          <p:nvSpPr>
            <p:cNvPr id="338" name=""/>
            <p:cNvSpPr/>
            <p:nvPr/>
          </p:nvSpPr>
          <p:spPr>
            <a:xfrm>
              <a:off x="685800" y="1752480"/>
              <a:ext cx="8001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Ein Vektor b aus V gehört genau dann zur linearen Hülle Span A, wenn rg A = rg              gilt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9" name=""/>
                <p:cNvSpPr txBox="1"/>
                <p:nvPr/>
              </p:nvSpPr>
              <p:spPr>
                <a:xfrm>
                  <a:off x="2481120" y="2127240"/>
                  <a:ext cx="88272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b</m:t>
                          </m:r>
                        </m:e>
                      </m:d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0" name=""/>
          <p:cNvGrpSpPr/>
          <p:nvPr/>
        </p:nvGrpSpPr>
        <p:grpSpPr>
          <a:xfrm>
            <a:off x="685800" y="5338800"/>
            <a:ext cx="7772400" cy="1595160"/>
            <a:chOff x="685800" y="5338800"/>
            <a:chExt cx="7772400" cy="1595160"/>
          </a:xfrm>
        </p:grpSpPr>
        <p:sp>
          <p:nvSpPr>
            <p:cNvPr id="341" name=""/>
            <p:cNvSpPr/>
            <p:nvPr/>
          </p:nvSpPr>
          <p:spPr>
            <a:xfrm>
              <a:off x="685800" y="5796000"/>
              <a:ext cx="77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tze                                                                     .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2946240" y="5338800"/>
                  <a:ext cx="3235320" cy="159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t xml:space="preserve">: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m>
                                <m:mr>
                                  <m:e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bSup>
                                  </m:e>
                                </m:mr>
                                <m:mr>
                                  <m:e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bSup>
                                  </m:e>
                                </m:mr>
                                <m:mr>
                                  <m:e>
                                    <m:r>
                                      <m:t xml:space="preserve">⋮</m:t>
                                    </m:r>
                                  </m:e>
                                </m:mr>
                                <m:mr>
                                  <m:e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bSup>
                                  </m:e>
                                </m:mr>
                              </m:m>
                            </m:e>
                          </m:d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und</m:t>
                          </m:r>
                          <m:r>
                            <m:t xml:space="preserve"> </m:t>
                          </m:r>
                          <m:r>
                            <m:t xml:space="preserve">b</m:t>
                          </m:r>
                          <m:r>
                            <m:t xml:space="preserve">: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r>
                                      <m:t xml:space="preserve">⋮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3" name=""/>
          <p:cNvGrpSpPr/>
          <p:nvPr/>
        </p:nvGrpSpPr>
        <p:grpSpPr>
          <a:xfrm>
            <a:off x="685800" y="3429000"/>
            <a:ext cx="7772400" cy="1752480"/>
            <a:chOff x="685800" y="3429000"/>
            <a:chExt cx="7772400" cy="1752480"/>
          </a:xfrm>
        </p:grpSpPr>
        <p:sp>
          <p:nvSpPr>
            <p:cNvPr id="344" name=""/>
            <p:cNvSpPr/>
            <p:nvPr/>
          </p:nvSpPr>
          <p:spPr>
            <a:xfrm>
              <a:off x="2438280" y="3429000"/>
              <a:ext cx="4191120" cy="1752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685800" y="3581280"/>
              <a:ext cx="7772400" cy="1395360"/>
              <a:chOff x="685800" y="3581280"/>
              <a:chExt cx="7772400" cy="1395360"/>
            </a:xfrm>
          </p:grpSpPr>
          <mc:AlternateContent>
            <mc:Choice xmlns:a14="http://schemas.microsoft.com/office/drawing/2010/main" Requires="a14">
              <p:sp>
                <p:nvSpPr>
                  <p:cNvPr id="346" name=""/>
                  <p:cNvSpPr txBox="1"/>
                  <p:nvPr/>
                </p:nvSpPr>
                <p:spPr>
                  <a:xfrm>
                    <a:off x="2833560" y="3581280"/>
                    <a:ext cx="3490920" cy="1395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m>
                              <m:mr>
                                <m:e/>
                                <m:e/>
                              </m:mr>
                            </m:m>
                            <m:r>
                              <m:t xml:space="preserve">⋮</m:t>
                            </m:r>
                            <m:m>
                              <m:mr>
                                <m:e>
                                  <m:m>
                                    <m:mr>
                                      <m:e/>
                                      <m:e/>
                                    </m:mr>
                                  </m:m>
                                </m:e>
                                <m:e/>
                                <m:e>
                                  <m:r>
                                    <m:t xml:space="preserve"> </m:t>
                                  </m:r>
                                </m:e>
                              </m:mr>
                            </m:m>
                            <m:r>
                              <m:t xml:space="preserve">⋮</m:t>
                            </m:r>
                          </m:e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47" name=""/>
              <p:cNvSpPr/>
              <p:nvPr/>
            </p:nvSpPr>
            <p:spPr>
              <a:xfrm>
                <a:off x="685800" y="4089240"/>
                <a:ext cx="777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#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09480" y="1446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 dieser Notation ist # äquivalent z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09480" y="38862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6.5) Satz 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e folgenden Aussagen sind äquivalent: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480" y="4191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x) = b hat eine Lösung x aus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.h. # hat Lösung x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9480" y="44956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liegt in  Span {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 , 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= Im f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1812960"/>
            <a:ext cx="800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+ ... +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b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9480" y="28796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 haben jetzt vier Sätze zu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ösungstheor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9480" y="2133720"/>
            <a:ext cx="8001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d das bedeutet: b ist Linearkombination der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it den Skalaren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K, die sich zu einem Lösungsvektor x aus K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usammensetz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9480" y="48099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g {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= rg {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b}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9480" y="51814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6.6) Satz B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e folgenden Aussagen sind äquivalent: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3200400"/>
            <a:ext cx="8001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 seien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b aus K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 f(x) :=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+ ... +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,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 K , definiert dann eine lineare Abbildung f aus Hom(K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K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9480" y="54608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g {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 = m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9480" y="57657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x) = b hat für alle b aus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ine Lösung x aus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9480" y="60800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 ist surjektiv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09480" y="3733920"/>
            <a:ext cx="800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16.7) Satz D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+ ... +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b  habe eine Lösu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1752480"/>
            <a:ext cx="8001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{x aus K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+ ... +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0} ist ein Untervektorraum, nämlich Ker f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23623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m Ker f + rg {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= n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9480" y="267660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uperposition) Sei y aus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ine spezielle Lösung, also f(y) = b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480" y="1446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6.7) Satz C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gil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09480" y="40543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Lösung ist eindeutig genau dann, wenn für b = 0 die homogene Gleichung f(x) = 0 nur die triviale Lösung ha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9480" y="533412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 Falle m = n : Die Lösung ist eindeutig genau dann, wenn für b = 0 die homogene Gleichung f(x) = 0 nur die triviale Lösung ha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466416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ist genau dann der Fall, wenn {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in K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linear unabhängig (d.h. f  injektiv) i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9480" y="59436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ist genau dann der Fall, wenn f bijektiv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09480" y="297180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n erhält man alle Lösungen von f(x) = b als  x = y + z  mit f(z) = 0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1680" y="32767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Lösungsgesamtheit ist also:  y + Ker f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§17 Produkte und Quotienten von Vektorräum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85800" y="20574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7.1) Satz-Defini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 und V seien K-Vektorräume. Das mengentheoretische Produk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" y="4724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7.2) Bemerkunge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3124080" y="2768760"/>
                <a:ext cx="285444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×</m:t>
                    </m:r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u</m:t>
                        </m:r>
                        <m:r>
                          <m:t xml:space="preserve">∈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762120" y="37180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u,v) + (x,y) := (u+x,v+y)  und  t(u,v) := (tu,tv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762120" y="3032280"/>
            <a:ext cx="7772400" cy="703800"/>
            <a:chOff x="762120" y="3032280"/>
            <a:chExt cx="7772400" cy="703800"/>
          </a:xfrm>
        </p:grpSpPr>
        <p:sp>
          <p:nvSpPr>
            <p:cNvPr id="381" name=""/>
            <p:cNvSpPr/>
            <p:nvPr/>
          </p:nvSpPr>
          <p:spPr>
            <a:xfrm>
              <a:off x="762120" y="3032280"/>
              <a:ext cx="7772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esitzt in natürlicher Weise eine K-Vektorraumstruktur durch: Für alle (u,v), (x,y) aus            und t aus K se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2" name=""/>
                <p:cNvSpPr txBox="1"/>
                <p:nvPr/>
              </p:nvSpPr>
              <p:spPr>
                <a:xfrm>
                  <a:off x="3067200" y="3429000"/>
                  <a:ext cx="590400" cy="24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×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3" name=""/>
          <p:cNvGrpSpPr/>
          <p:nvPr/>
        </p:nvGrpSpPr>
        <p:grpSpPr>
          <a:xfrm>
            <a:off x="685800" y="5029200"/>
            <a:ext cx="8001000" cy="398880"/>
            <a:chOff x="685800" y="5029200"/>
            <a:chExt cx="8001000" cy="398880"/>
          </a:xfrm>
        </p:grpSpPr>
        <p:sp>
          <p:nvSpPr>
            <p:cNvPr id="384" name=""/>
            <p:cNvSpPr/>
            <p:nvPr/>
          </p:nvSpPr>
          <p:spPr>
            <a:xfrm>
              <a:off x="685800" y="502920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st uns bekannt und isomorph zu K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2070000" y="5098680"/>
                  <a:ext cx="577800" cy="23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×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6" name=""/>
          <p:cNvGrpSpPr/>
          <p:nvPr/>
        </p:nvGrpSpPr>
        <p:grpSpPr>
          <a:xfrm>
            <a:off x="685800" y="5334120"/>
            <a:ext cx="8001000" cy="398880"/>
            <a:chOff x="685800" y="5334120"/>
            <a:chExt cx="8001000" cy="398880"/>
          </a:xfrm>
        </p:grpSpPr>
        <p:sp>
          <p:nvSpPr>
            <p:cNvPr id="387" name=""/>
            <p:cNvSpPr/>
            <p:nvPr/>
          </p:nvSpPr>
          <p:spPr>
            <a:xfrm>
              <a:off x="685800" y="533412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benso             , isomorph zu K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n+m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8" name=""/>
                <p:cNvSpPr txBox="1"/>
                <p:nvPr/>
              </p:nvSpPr>
              <p:spPr>
                <a:xfrm>
                  <a:off x="3009960" y="5364000"/>
                  <a:ext cx="774720" cy="28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K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×</m:t>
                      </m:r>
                      <m:sSup>
                        <m:e>
                          <m:r>
                            <m:t xml:space="preserve">K</m:t>
                          </m:r>
                        </m:e>
                        <m:sup>
                          <m:r>
                            <m:t xml:space="preserve">m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9" name=""/>
          <p:cNvGrpSpPr/>
          <p:nvPr/>
        </p:nvGrpSpPr>
        <p:grpSpPr>
          <a:xfrm>
            <a:off x="685800" y="5638680"/>
            <a:ext cx="8001000" cy="703800"/>
            <a:chOff x="685800" y="5638680"/>
            <a:chExt cx="8001000" cy="703800"/>
          </a:xfrm>
        </p:grpSpPr>
        <p:sp>
          <p:nvSpPr>
            <p:cNvPr id="390" name=""/>
            <p:cNvSpPr/>
            <p:nvPr/>
          </p:nvSpPr>
          <p:spPr>
            <a:xfrm>
              <a:off x="685800" y="5638680"/>
              <a:ext cx="8001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In                    hat man die Untervektorräume                        und                        mit den bemerkenswerten Eigenschaften: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1" name=""/>
                <p:cNvSpPr txBox="1"/>
                <p:nvPr/>
              </p:nvSpPr>
              <p:spPr>
                <a:xfrm>
                  <a:off x="2362320" y="5715000"/>
                  <a:ext cx="1155600" cy="24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:</m:t>
                      </m:r>
                      <m:r>
                        <m:t xml:space="preserve">=</m:t>
                      </m:r>
                      <m:r>
                        <m:t xml:space="preserve">U</m:t>
                      </m:r>
                      <m:r>
                        <m:t xml:space="preserve">×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2" name=""/>
                <p:cNvSpPr txBox="1"/>
                <p:nvPr/>
              </p:nvSpPr>
              <p:spPr>
                <a:xfrm>
                  <a:off x="1320840" y="6002280"/>
                  <a:ext cx="1378080" cy="30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: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</m:t>
                          </m:r>
                        </m:e>
                      </m:d>
                      <m:r>
                        <m:t xml:space="preserve">×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3" name=""/>
                <p:cNvSpPr txBox="1"/>
                <p:nvPr/>
              </p:nvSpPr>
              <p:spPr>
                <a:xfrm>
                  <a:off x="7140600" y="5689440"/>
                  <a:ext cx="1326960" cy="30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:</m:t>
                      </m:r>
                      <m:r>
                        <m:t xml:space="preserve">=</m:t>
                      </m:r>
                      <m:r>
                        <m:t xml:space="preserve">U</m:t>
                      </m:r>
                      <m:r>
                        <m:t xml:space="preserve">×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4" name=""/>
          <p:cNvGrpSpPr/>
          <p:nvPr/>
        </p:nvGrpSpPr>
        <p:grpSpPr>
          <a:xfrm>
            <a:off x="685800" y="4038480"/>
            <a:ext cx="7772400" cy="703800"/>
            <a:chOff x="685800" y="4038480"/>
            <a:chExt cx="7772400" cy="703800"/>
          </a:xfrm>
        </p:grpSpPr>
        <mc:AlternateContent>
          <mc:Choice xmlns:a14="http://schemas.microsoft.com/office/drawing/2010/main" Requires="a14">
            <p:sp>
              <p:nvSpPr>
                <p:cNvPr id="395" name=""/>
                <p:cNvSpPr txBox="1"/>
                <p:nvPr/>
              </p:nvSpPr>
              <p:spPr>
                <a:xfrm>
                  <a:off x="787320" y="4140360"/>
                  <a:ext cx="1155960" cy="24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:</m:t>
                      </m:r>
                      <m:r>
                        <m:t xml:space="preserve">=</m:t>
                      </m:r>
                      <m:r>
                        <m:t xml:space="preserve">U</m:t>
                      </m:r>
                      <m:r>
                        <m:t xml:space="preserve">×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96" name=""/>
            <p:cNvSpPr/>
            <p:nvPr/>
          </p:nvSpPr>
          <p:spPr>
            <a:xfrm>
              <a:off x="685800" y="4038480"/>
              <a:ext cx="7772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it dieser Struktur heißt das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Vektorraum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)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roduk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der Vektorräume u und V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9480" y="56386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einem Vektor x aus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 = K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\{0}  und U = Kx ist W = Ky genau dann Komplement, wenn {x,y} linear unabhängig i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609480" y="1446120"/>
            <a:ext cx="8001000" cy="440640"/>
            <a:chOff x="609480" y="1446120"/>
            <a:chExt cx="8001000" cy="440640"/>
          </a:xfrm>
        </p:grpSpPr>
        <p:sp>
          <p:nvSpPr>
            <p:cNvPr id="400" name=""/>
            <p:cNvSpPr/>
            <p:nvPr/>
          </p:nvSpPr>
          <p:spPr>
            <a:xfrm>
              <a:off x="609480" y="1446120"/>
              <a:ext cx="800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. W = W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+ W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und                         un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1" name=""/>
                <p:cNvSpPr txBox="1"/>
                <p:nvPr/>
              </p:nvSpPr>
              <p:spPr>
                <a:xfrm>
                  <a:off x="3886200" y="1519200"/>
                  <a:ext cx="1525320" cy="30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∩</m:t>
                      </m:r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2" name=""/>
          <p:cNvSpPr/>
          <p:nvPr/>
        </p:nvSpPr>
        <p:spPr>
          <a:xfrm>
            <a:off x="609480" y="2362320"/>
            <a:ext cx="8001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alog definiert man das 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K-Vektorrau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)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roduk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endlich vielen K-Vektorräumen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oder auch von beliebig vielen K-Vektorräum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9480" y="1752480"/>
            <a:ext cx="8001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. jeder Vektor  w  aus  W  hat die eindeutige Darstellun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=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mit 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us 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und 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us 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09480" y="53182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7.4) Beispie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609480" y="3352680"/>
            <a:ext cx="8001000" cy="1092240"/>
            <a:chOff x="609480" y="3352680"/>
            <a:chExt cx="8001000" cy="1092240"/>
          </a:xfrm>
        </p:grpSpPr>
        <p:sp>
          <p:nvSpPr>
            <p:cNvPr id="406" name=""/>
            <p:cNvSpPr/>
            <p:nvPr/>
          </p:nvSpPr>
          <p:spPr>
            <a:xfrm>
              <a:off x="609480" y="3352680"/>
              <a:ext cx="800100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17.3) Definition: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Sei  V  ein K-Vektorraum mit Untervektorräumen 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und 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. V heißt dann di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direkte Summ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der 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und 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, wen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 = 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+ 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und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7" name=""/>
                <p:cNvSpPr txBox="1"/>
                <p:nvPr/>
              </p:nvSpPr>
              <p:spPr>
                <a:xfrm>
                  <a:off x="2673360" y="4025880"/>
                  <a:ext cx="136512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∩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8" name=""/>
          <p:cNvSpPr/>
          <p:nvPr/>
        </p:nvSpPr>
        <p:spPr>
          <a:xfrm>
            <a:off x="609480" y="426708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U Untervektorraum von V ist, so heißt ein weiterer Untervek-torraum W von V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Komple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U (od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Komplementärrau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, wenn V die direkte Summe von U und W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09480" y="4952880"/>
            <a:ext cx="800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ist die direkte Summe von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d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480" y="365760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7.4) Lemm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in Untervektorraum U eines Vektorraums V besitzt stets ein Komplement (das allerdings nicht eindeutig bestimmt ist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9480" y="4343400"/>
            <a:ext cx="8001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7.5) Satz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Für Untervektorräum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on V mit V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nd die folgenden Aussagen äquival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09480" y="3276720"/>
            <a:ext cx="800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nn ist W := Span {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+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ein Komplement von 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1446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{0} ist immer Komplement von V in V und vice ver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9480" y="2362320"/>
            <a:ext cx="80010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 sei Untervektorraum eines endlichdimensionalen Vektorraums V. Sei {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Basis von U, und seien {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+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weitere Vektoren in V, so dass  {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Basis von V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609480" y="1752480"/>
            <a:ext cx="8001000" cy="1008720"/>
            <a:chOff x="609480" y="1752480"/>
            <a:chExt cx="8001000" cy="1008720"/>
          </a:xfrm>
        </p:grpSpPr>
        <p:sp>
          <p:nvSpPr>
            <p:cNvPr id="417" name=""/>
            <p:cNvSpPr/>
            <p:nvPr/>
          </p:nvSpPr>
          <p:spPr>
            <a:xfrm>
              <a:off x="609480" y="1752480"/>
              <a:ext cx="8001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Das Produkt                   ist die direkte Summe von              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und                       (vgl. 17.2.3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8" name=""/>
                <p:cNvSpPr txBox="1"/>
                <p:nvPr/>
              </p:nvSpPr>
              <p:spPr>
                <a:xfrm>
                  <a:off x="3465360" y="1841400"/>
                  <a:ext cx="1106640" cy="24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=</m:t>
                      </m:r>
                      <m:r>
                        <m:t xml:space="preserve">U</m:t>
                      </m:r>
                      <m:r>
                        <m:t xml:space="preserve">×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9" name=""/>
                <p:cNvSpPr txBox="1"/>
                <p:nvPr/>
              </p:nvSpPr>
              <p:spPr>
                <a:xfrm>
                  <a:off x="2813040" y="2143080"/>
                  <a:ext cx="1378080" cy="30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: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</m:t>
                          </m:r>
                        </m:e>
                      </m:d>
                      <m:r>
                        <m:t xml:space="preserve">×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0" name=""/>
                <p:cNvSpPr txBox="1"/>
                <p:nvPr/>
              </p:nvSpPr>
              <p:spPr>
                <a:xfrm>
                  <a:off x="762120" y="2143080"/>
                  <a:ext cx="1326960" cy="30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:</m:t>
                      </m:r>
                      <m:r>
                        <m:t xml:space="preserve">=</m:t>
                      </m:r>
                      <m:r>
                        <m:t xml:space="preserve">U</m:t>
                      </m:r>
                      <m:r>
                        <m:t xml:space="preserve">×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21" name=""/>
          <p:cNvSpPr/>
          <p:nvPr/>
        </p:nvSpPr>
        <p:spPr>
          <a:xfrm>
            <a:off x="609480" y="5241960"/>
            <a:ext cx="8001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der Vektor  v  aus  V  hat die eindeutige Darstellun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mit 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us 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und 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us 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9480" y="5851440"/>
            <a:ext cx="8001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all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us 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und 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us 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lgt aus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 stets 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 und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14600" y="3200400"/>
            <a:ext cx="396252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446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 ein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Lös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Differentialgleichung versteht man eine Funktion f aus C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) , die die Gleichung # in jedem Punkt aus I erfül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1337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wesentliche Aussage, die hier vorgestellt werden soll, i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3657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enfalls eine Lösu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48610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Eigensch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49876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nd 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, 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Lösungen der Differentialgleichung und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reelle Zahlen, so ist die „Linearkombination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697120" y="3276720"/>
                <a:ext cx="37036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7" name=""/>
          <p:cNvGrpSpPr/>
          <p:nvPr/>
        </p:nvGrpSpPr>
        <p:grpSpPr>
          <a:xfrm>
            <a:off x="685800" y="4022640"/>
            <a:ext cx="7924680" cy="398880"/>
            <a:chOff x="685800" y="4022640"/>
            <a:chExt cx="7924680" cy="398880"/>
          </a:xfrm>
        </p:grpSpPr>
        <p:sp>
          <p:nvSpPr>
            <p:cNvPr id="68" name=""/>
            <p:cNvSpPr/>
            <p:nvPr/>
          </p:nvSpPr>
          <p:spPr>
            <a:xfrm>
              <a:off x="685800" y="402264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s liegt daran, dass der „Operator“                          , definiert dur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4940280" y="4038480"/>
                  <a:ext cx="164484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:C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I</m:t>
                      </m:r>
                      <m:r>
                        <m:t xml:space="preserve">)</m:t>
                      </m:r>
                      <m:r>
                        <m:t xml:space="preserve">→</m:t>
                      </m:r>
                      <m:r>
                        <m:t xml:space="preserve">C</m:t>
                      </m:r>
                      <m:r>
                        <m:t xml:space="preserve">(</m:t>
                      </m:r>
                      <m:r>
                        <m:t xml:space="preserve">I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103560" y="5194440"/>
                <a:ext cx="284004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 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778120" y="4456080"/>
                <a:ext cx="35672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685800" y="55468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t. („L i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“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85800" y="5851440"/>
            <a:ext cx="7924680" cy="703800"/>
            <a:chOff x="685800" y="5851440"/>
            <a:chExt cx="7924680" cy="703800"/>
          </a:xfrm>
        </p:grpSpPr>
        <p:sp>
          <p:nvSpPr>
            <p:cNvPr id="74" name=""/>
            <p:cNvSpPr/>
            <p:nvPr/>
          </p:nvSpPr>
          <p:spPr>
            <a:xfrm>
              <a:off x="685800" y="5851440"/>
              <a:ext cx="792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s gilt wegen                                              für differenzierbare f und g sowie s aus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2514600" y="5931000"/>
                  <a:ext cx="3098880" cy="29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(</m:t>
                          </m:r>
                          <m:r>
                            <m:t xml:space="preserve">f</m:t>
                          </m:r>
                          <m:r>
                            <m:t xml:space="preserve">+</m:t>
                          </m:r>
                          <m:r>
                            <m:t xml:space="preserve">g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f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g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  und 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sf {</m:t>
                          </m:r>
                          <m:r>
                            <m:t xml:space="preserve">)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s</m:t>
                      </m:r>
                      <m:sSup>
                        <m:e>
                          <m:r>
                            <m:t xml:space="preserve">f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6" name=""/>
          <p:cNvSpPr/>
          <p:nvPr/>
        </p:nvSpPr>
        <p:spPr>
          <a:xfrm>
            <a:off x="7620120" y="1219320"/>
            <a:ext cx="990360" cy="276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6.11.01 </a:t>
            </a:r>
            <a:r>
              <a:rPr b="0" lang="en-US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09480" y="42274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~ v (~ i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flexi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205740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7.6) Lemm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 sei Untervektorraum von V . Dann gilt für Vektoren v uns w aus V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9480" y="26686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wede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+ U = w + U  oder v + U und w + U haben keine gemeinsamen Ele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609480" y="3262320"/>
            <a:ext cx="8001000" cy="398880"/>
            <a:chOff x="609480" y="3262320"/>
            <a:chExt cx="8001000" cy="398880"/>
          </a:xfrm>
        </p:grpSpPr>
        <p:sp>
          <p:nvSpPr>
            <p:cNvPr id="428" name=""/>
            <p:cNvSpPr/>
            <p:nvPr/>
          </p:nvSpPr>
          <p:spPr>
            <a:xfrm>
              <a:off x="609480" y="326232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 + U = w + U ist gleichbedeutend mit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9" name=""/>
                <p:cNvSpPr txBox="1"/>
                <p:nvPr/>
              </p:nvSpPr>
              <p:spPr>
                <a:xfrm>
                  <a:off x="6273720" y="3328560"/>
                  <a:ext cx="1011240" cy="24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−</m:t>
                      </m:r>
                      <m:r>
                        <m:t xml:space="preserve">w</m:t>
                      </m:r>
                      <m:r>
                        <m:t xml:space="preserve">∈</m:t>
                      </m:r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30" name=""/>
          <p:cNvGrpSpPr/>
          <p:nvPr/>
        </p:nvGrpSpPr>
        <p:grpSpPr>
          <a:xfrm>
            <a:off x="609480" y="3618000"/>
            <a:ext cx="8001000" cy="703800"/>
            <a:chOff x="609480" y="3618000"/>
            <a:chExt cx="8001000" cy="703800"/>
          </a:xfrm>
        </p:grpSpPr>
        <p:sp>
          <p:nvSpPr>
            <p:cNvPr id="431" name=""/>
            <p:cNvSpPr/>
            <p:nvPr/>
          </p:nvSpPr>
          <p:spPr>
            <a:xfrm>
              <a:off x="609480" y="3618000"/>
              <a:ext cx="8001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17.7) Bemerkung: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Durch                                       für v und w aus V wird auf V eine Äquivalenzrelation definiert, d.h. für v,w,z aus V gil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2" name=""/>
                <p:cNvSpPr txBox="1"/>
                <p:nvPr/>
              </p:nvSpPr>
              <p:spPr>
                <a:xfrm>
                  <a:off x="3733920" y="3710160"/>
                  <a:ext cx="2454120" cy="24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w</m:t>
                      </m:r>
                      <m:r>
                        <m:t xml:space="preserve">:</m:t>
                      </m:r>
                      <m:r>
                        <m:t xml:space="preserve">⇔</m:t>
                      </m:r>
                      <m:r>
                        <m:t xml:space="preserve">v</m:t>
                      </m:r>
                      <m:r>
                        <m:t xml:space="preserve">+</m:t>
                      </m:r>
                      <m:r>
                        <m:t xml:space="preserve">U</m:t>
                      </m:r>
                      <m:r>
                        <m:t xml:space="preserve">=</m:t>
                      </m:r>
                      <m:r>
                        <m:t xml:space="preserve">w</m:t>
                      </m:r>
                      <m:r>
                        <m:t xml:space="preserve">+</m:t>
                      </m:r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33" name=""/>
          <p:cNvSpPr/>
          <p:nvPr/>
        </p:nvSpPr>
        <p:spPr>
          <a:xfrm>
            <a:off x="609480" y="45324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 v ~ w folgt w ~ v (~ i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ymmetris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9480" y="48369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 v ~ w und w ~ z folgt v ~ z (~ i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ansiti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3105000" y="5564160"/>
                <a:ext cx="238932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r>
                          <m:t xml:space="preserve">V</m:t>
                        </m:r>
                        <m:r>
                          <m:t xml:space="preserve">: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36" name=""/>
          <p:cNvSpPr/>
          <p:nvPr/>
        </p:nvSpPr>
        <p:spPr>
          <a:xfrm>
            <a:off x="609480" y="51577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Äquivalenzklassen von ~ sind die Mengen  v + U , v aus V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14461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r Untersuchung von Quotienten brauchen wir die durch einen Unterraum gegebene Äquivalenzrel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57913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Äquivalenzklassen v + U lassen sich auch verstehen als die affinen Räume in V mit U als Translationsra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609480" y="1447920"/>
            <a:ext cx="8001000" cy="1008720"/>
            <a:chOff x="609480" y="1447920"/>
            <a:chExt cx="8001000" cy="1008720"/>
          </a:xfrm>
        </p:grpSpPr>
        <p:sp>
          <p:nvSpPr>
            <p:cNvPr id="441" name=""/>
            <p:cNvSpPr/>
            <p:nvPr/>
          </p:nvSpPr>
          <p:spPr>
            <a:xfrm>
              <a:off x="609480" y="1447920"/>
              <a:ext cx="8001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17.8) Satz-Definition: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U sei Untervektorraum von V. Auf der Menge der Äquivalenzklassen                                  gibt es eine natürliche Struktur eines K-Vektorraum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2" name=""/>
                <p:cNvSpPr txBox="1"/>
                <p:nvPr/>
              </p:nvSpPr>
              <p:spPr>
                <a:xfrm>
                  <a:off x="3352680" y="1854360"/>
                  <a:ext cx="2130480" cy="29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~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: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v</m:t>
                          </m:r>
                          <m:r>
                            <m:t xml:space="preserve">+</m:t>
                          </m:r>
                          <m:r>
                            <m:t xml:space="preserve">U</m:t>
                          </m:r>
                          <m:r>
                            <m:t xml:space="preserve">:</m:t>
                          </m:r>
                          <m:r>
                            <m:t xml:space="preserve">v</m:t>
                          </m:r>
                          <m:r>
                            <m:t xml:space="preserve">∈</m:t>
                          </m:r>
                          <m:r>
                            <m:t xml:space="preserve">V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43" name=""/>
          <p:cNvSpPr/>
          <p:nvPr/>
        </p:nvSpPr>
        <p:spPr>
          <a:xfrm>
            <a:off x="609480" y="20574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v,w aus V und t aus K set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v + U) + (w + U) := (v + w) + U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(v + U) := (tv) + U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9480" y="297180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 dieser Struktur heißt  V/~  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uotientenra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ktorra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uoti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von V in Bezug auf U und wird mit V/U bezeichn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609480" y="3641760"/>
            <a:ext cx="8001000" cy="703800"/>
            <a:chOff x="609480" y="3641760"/>
            <a:chExt cx="8001000" cy="703800"/>
          </a:xfrm>
        </p:grpSpPr>
        <p:sp>
          <p:nvSpPr>
            <p:cNvPr id="446" name=""/>
            <p:cNvSpPr/>
            <p:nvPr/>
          </p:nvSpPr>
          <p:spPr>
            <a:xfrm>
              <a:off x="609480" y="3641760"/>
              <a:ext cx="8001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(17.9) Satz: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Die Abbildung                                         heißt die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kanonische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Projektion.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p ist linear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und surjektiv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7" name=""/>
                <p:cNvSpPr txBox="1"/>
                <p:nvPr/>
              </p:nvSpPr>
              <p:spPr>
                <a:xfrm>
                  <a:off x="3809880" y="3726000"/>
                  <a:ext cx="2624400" cy="29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:</m:t>
                      </m:r>
                      <m:r>
                        <m:t xml:space="preserve">V</m:t>
                      </m:r>
                      <m:r>
                        <m:t xml:space="preserve">→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U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↦</m:t>
                      </m:r>
                      <m:r>
                        <m:t xml:space="preserve">v</m:t>
                      </m:r>
                      <m:r>
                        <m:t xml:space="preserve">+</m:t>
                      </m:r>
                      <m:r>
                        <m:t xml:space="preserve">U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48" name=""/>
          <p:cNvSpPr/>
          <p:nvPr/>
        </p:nvSpPr>
        <p:spPr>
          <a:xfrm>
            <a:off x="609480" y="585144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17.12) Kanonische Faktorisierung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Sei f eine lineare Abbildung von V nach W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61563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n ist die natürliche Abbild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4267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7.10) Folgeru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einen Untervektorraum U von V gi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3201840" y="4645080"/>
                <a:ext cx="274176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m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im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im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2" name=""/>
          <p:cNvSpPr/>
          <p:nvPr/>
        </p:nvSpPr>
        <p:spPr>
          <a:xfrm>
            <a:off x="609480" y="487692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17.11) Beispi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V sei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Vektorraum der rationalen Cauchyfol-gen (V ist Untervektorraum vo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de-DE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, und U sei der Untervektorraum der rationalen Nullfolgen. Dann ist V/U isomorph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09480" y="3048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ch das folgende Diagramm wird diese Aussage illustrier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09480" y="48006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7.12) Folgerunge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532320" y="3414600"/>
                <a:ext cx="1914480" cy="17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W</m:t>
                        </m:r>
                      </m:e>
                      <m:e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t xml:space="preserve">↓</m:t>
                        </m:r>
                        <m:r>
                          <m:t xml:space="preserve"> </m:t>
                        </m:r>
                        <m:r>
                          <m:t xml:space="preserve"> 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↑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</m:e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er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</m:e>
                      <m:e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57" name=""/>
          <p:cNvGrpSpPr/>
          <p:nvPr/>
        </p:nvGrpSpPr>
        <p:grpSpPr>
          <a:xfrm>
            <a:off x="609480" y="2117880"/>
            <a:ext cx="8001000" cy="398880"/>
            <a:chOff x="609480" y="2117880"/>
            <a:chExt cx="8001000" cy="398880"/>
          </a:xfrm>
        </p:grpSpPr>
        <p:sp>
          <p:nvSpPr>
            <p:cNvPr id="458" name=""/>
            <p:cNvSpPr/>
            <p:nvPr/>
          </p:nvSpPr>
          <p:spPr>
            <a:xfrm>
              <a:off x="609480" y="211788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it der Inklusionsabbildung                                     gil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9" name=""/>
                <p:cNvSpPr txBox="1"/>
                <p:nvPr/>
              </p:nvSpPr>
              <p:spPr>
                <a:xfrm>
                  <a:off x="3908520" y="2201760"/>
                  <a:ext cx="2340000" cy="29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:Im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 </m:t>
                      </m:r>
                      <m:r>
                        <m:t xml:space="preserve">→</m:t>
                      </m:r>
                      <m:r>
                        <m:t xml:space="preserve"> </m:t>
                      </m:r>
                      <m:r>
                        <m:t xml:space="preserve">W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w</m:t>
                      </m:r>
                      <m:r>
                        <m:t xml:space="preserve">↦</m:t>
                      </m:r>
                      <m:r>
                        <m:t xml:space="preserve">w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3898800" y="2625840"/>
                <a:ext cx="13431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∘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∘</m:t>
                    </m:r>
                    <m:r>
                      <m:t xml:space="preserve">p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1" name=""/>
          <p:cNvGrpSpPr/>
          <p:nvPr/>
        </p:nvGrpSpPr>
        <p:grpSpPr>
          <a:xfrm>
            <a:off x="609480" y="5089680"/>
            <a:ext cx="8001000" cy="703800"/>
            <a:chOff x="609480" y="5089680"/>
            <a:chExt cx="8001000" cy="703800"/>
          </a:xfrm>
        </p:grpSpPr>
        <p:sp>
          <p:nvSpPr>
            <p:cNvPr id="462" name=""/>
            <p:cNvSpPr/>
            <p:nvPr/>
          </p:nvSpPr>
          <p:spPr>
            <a:xfrm>
              <a:off x="609480" y="5089680"/>
              <a:ext cx="8001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Ein Epimorphismus f ist bis auf Isomorphie eine kano-nische Projektion:                                                 ist Isomorphismu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3" name=""/>
                <p:cNvSpPr txBox="1"/>
                <p:nvPr/>
              </p:nvSpPr>
              <p:spPr>
                <a:xfrm>
                  <a:off x="2795760" y="5410080"/>
                  <a:ext cx="3173400" cy="36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r>
                        <m:t xml:space="preserve">j</m:t>
                      </m:r>
                      <m:r>
                        <m:t xml:space="preserve">∘</m:t>
                      </m:r>
                      <m:acc>
                        <m:accPr>
                          <m:chr m:val="~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∘</m:t>
                      </m:r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g</m:t>
                      </m:r>
                      <m:r>
                        <m:t xml:space="preserve">∘</m:t>
                      </m:r>
                      <m:r>
                        <m:t xml:space="preserve">p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und</m:t>
                      </m:r>
                      <m:r>
                        <m:t xml:space="preserve"> </m:t>
                      </m:r>
                      <m:r>
                        <m:t xml:space="preserve">g</m:t>
                      </m:r>
                      <m:r>
                        <m:t xml:space="preserve">=</m:t>
                      </m:r>
                      <m:r>
                        <m:t xml:space="preserve">j</m:t>
                      </m:r>
                      <m:r>
                        <m:t xml:space="preserve">∘</m:t>
                      </m:r>
                      <m:acc>
                        <m:accPr>
                          <m:chr m:val="~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4" name=""/>
          <p:cNvGrpSpPr/>
          <p:nvPr/>
        </p:nvGrpSpPr>
        <p:grpSpPr>
          <a:xfrm>
            <a:off x="609480" y="5699160"/>
            <a:ext cx="8001000" cy="703800"/>
            <a:chOff x="609480" y="5699160"/>
            <a:chExt cx="8001000" cy="703800"/>
          </a:xfrm>
        </p:grpSpPr>
        <p:sp>
          <p:nvSpPr>
            <p:cNvPr id="465" name=""/>
            <p:cNvSpPr/>
            <p:nvPr/>
          </p:nvSpPr>
          <p:spPr>
            <a:xfrm>
              <a:off x="609480" y="5699160"/>
              <a:ext cx="8001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  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Ein Monomorphismus ist bis auf Isomorphie eine Inklusion:                                                   ist Isomorphismu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6" name=""/>
                <p:cNvSpPr txBox="1"/>
                <p:nvPr/>
              </p:nvSpPr>
              <p:spPr>
                <a:xfrm>
                  <a:off x="1905120" y="6032520"/>
                  <a:ext cx="332100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r>
                        <m:t xml:space="preserve">j</m:t>
                      </m:r>
                      <m:r>
                        <m:t xml:space="preserve">∘</m:t>
                      </m:r>
                      <m:acc>
                        <m:accPr>
                          <m:chr m:val="~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∘</m:t>
                      </m:r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j</m:t>
                      </m:r>
                      <m:r>
                        <m:t xml:space="preserve">∘</m:t>
                      </m:r>
                      <m:r>
                        <m:t xml:space="preserve">g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und</m:t>
                      </m:r>
                      <m:r>
                        <m:t xml:space="preserve"> </m:t>
                      </m:r>
                      <m:r>
                        <m:t xml:space="preserve">g</m:t>
                      </m:r>
                      <m:r>
                        <m:t xml:space="preserve">=</m:t>
                      </m:r>
                      <m:acc>
                        <m:accPr>
                          <m:chr m:val="~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∘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2646360" y="1446120"/>
                <a:ext cx="38307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:</m:t>
                    </m:r>
                    <m:f>
                      <m:fPr>
                        <m:type m:val="lin"/>
                      </m:fPr>
                      <m:num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er</m:t>
                        </m:r>
                      </m:den>
                    </m:f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m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er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↦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8" name=""/>
          <p:cNvSpPr/>
          <p:nvPr/>
        </p:nvSpPr>
        <p:spPr>
          <a:xfrm>
            <a:off x="609480" y="18129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wohldefinierter Isomorphismus von Vektorräu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5238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her ist die Menge der Lösungen ein Untervektorraum von C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) , also insbesondere überhaupt ein Vektorraum üb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3623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2.2) Definiti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i V ein K-Vektorra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80988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inearkombin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r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776680" y="3389400"/>
                <a:ext cx="36241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685800" y="49528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ineare Hül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on A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272736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Vektore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us V und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 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us K , heiß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4175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eine Teilmenge A aus V heiß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252440" y="4595760"/>
                <a:ext cx="66405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an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: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μ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μ</m:t>
                                </m:r>
                              </m:sub>
                            </m:sSub>
                          </m:e>
                        </m:nary>
                        <m:r>
                          <m:t xml:space="preserve">: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  und  a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V  für  </m:t>
                        </m:r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2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,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m</m:t>
                            </m:r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685800" y="5318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e Teilmenge A aus V heiß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rzeugenden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es Vektorraums V), wenn  Span(A) = V  gi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0120" y="2077920"/>
            <a:ext cx="990360" cy="276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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1.11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4461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2.3) Bemerkungen, Beispiel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i V ein K-Vektorraum, A aus V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7524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Quintessenz unseres Führungsbeispiels 12.1 ist: Jede Linearkombination von Lösungen der Differentialgleichng  #  ist wieder eine Lösu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41911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ist genau dann Untervektorraum, wenn Span(A) = A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6510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sprechend dem Kriterium für Untervektorräume (vgl. 10.4) gil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5318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b aus V gilt  Span({b}) = Kb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295596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Teilmenge U von V ist genau dann ein Untervektor-raum, wenn si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bgeschlossen gegenüber Linearkombination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85800" y="3565440"/>
            <a:ext cx="7924680" cy="703800"/>
            <a:chOff x="685800" y="3565440"/>
            <a:chExt cx="7924680" cy="703800"/>
          </a:xfrm>
        </p:grpSpPr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3519360" y="3618000"/>
                  <a:ext cx="3961080" cy="33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s</m:t>
                          </m:r>
                        </m:e>
                        <m:sub>
                          <m:r>
                            <m:t xml:space="preserve">μ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 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  und  a</m:t>
                          </m:r>
                        </m:e>
                        <m:sub>
                          <m:r>
                            <m:t xml:space="preserve">μ</m:t>
                          </m:r>
                        </m:sub>
                      </m:sSub>
                      <m:r>
                        <m:t xml:space="preserve">∈</m:t>
                      </m:r>
                      <m:r>
                        <m:rPr>
                          <m:lit/>
                          <m:nor/>
                        </m:rPr>
                        <m:t xml:space="preserve">U ,  </m:t>
                      </m:r>
                      <m:r>
                        <m:t xml:space="preserve">μ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,2,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 ,m ,  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7" name=""/>
            <p:cNvSpPr/>
            <p:nvPr/>
          </p:nvSpPr>
          <p:spPr>
            <a:xfrm>
              <a:off x="685800" y="3565440"/>
              <a:ext cx="792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s heißt, wenn für alle                                                         stet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her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774720" y="3898800"/>
                  <a:ext cx="197172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μ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μ</m:t>
                              </m:r>
                            </m:sub>
                          </m:sSub>
                        </m:e>
                      </m:nary>
                      <m:r>
                        <m:t xml:space="preserve">∈</m:t>
                      </m:r>
                      <m:r>
                        <m:rPr>
                          <m:lit/>
                          <m:nor/>
                        </m:rPr>
                        <m:t xml:space="preserve">U  gilt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9" name=""/>
          <p:cNvSpPr/>
          <p:nvPr/>
        </p:nvSpPr>
        <p:spPr>
          <a:xfrm>
            <a:off x="685800" y="45561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n(A) ist immer ein Untervektorraum von V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49370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n(Span(A)) = Span(A) , und A liegt in Span(A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56991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erzeugt V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828800"/>
            <a:ext cx="800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Standardeinheitsvektoren {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 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erzeugen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37940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[T] wird auch von d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Monom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M := {sT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 k au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s aus K} erzeugt (M ist nicht gleich K[T]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85800" y="2803680"/>
            <a:ext cx="7924680" cy="398880"/>
            <a:chOff x="685800" y="2803680"/>
            <a:chExt cx="7924680" cy="398880"/>
          </a:xfrm>
        </p:grpSpPr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4386240" y="2870280"/>
                  <a:ext cx="1227240" cy="32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δ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:</m:t>
                          </m:r>
                          <m:r>
                            <m:t xml:space="preserve">a</m:t>
                          </m:r>
                          <m:r>
                            <m:t xml:space="preserve">∈</m:t>
                          </m:r>
                          <m:r>
                            <m:t xml:space="preserve">M</m:t>
                          </m:r>
                          <m:r>
                            <m:t xml:space="preserve"> 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07" name=""/>
            <p:cNvSpPr/>
            <p:nvPr/>
          </p:nvSpPr>
          <p:spPr>
            <a:xfrm>
              <a:off x="685800" y="280368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Ebenso: Die Menge                   erzeugt  K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(M)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685800" y="318456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benso: {T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k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k au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 erzeugt den Vektorraum  K[T]  der Polyno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4461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leere Menge wie auch die Menge {0} erzeugen {0}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2193840"/>
            <a:ext cx="8001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werden diese Einheitsvektoren z.B. auch mit 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zeichn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470844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12.4) Bemerkung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ie jeweiligen Linearkombinationen in den Beispielen 9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1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 eindeutig, dh. die erzeugten Vektoren werden eindeutig dargestell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5318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se Eigenschaft liegt daran, dass in den genannten Beispielen die erzeugende Menge linear unabhängig i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§13 Lineare Unabhängigke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501336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 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+ ... +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 0  folgt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... =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 0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1938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3.1) Defini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 sei wieder ein K-Vektorrau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590920"/>
            <a:ext cx="8001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endliche Menge {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von Vektoren aus V 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linear abhängi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enn es Skalare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K gibt mi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3260880"/>
            <a:ext cx="800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+ ... +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 0 , 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641760"/>
            <a:ext cx="8001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icht alle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nd Null: dh. es gibt ein j aus {1,2, ... ,m}  mit: 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ist nicht 0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4311720"/>
            <a:ext cx="8001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endliche Menge {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von Vektoren aus V 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linear unabhängi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enn für alle Skalare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K gi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55468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ensichtlich ist eine endliche Menge genau dann linear unabhängig, wenn sie nicht linear abhängig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4461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3.2) Bemerkungen, Beispiel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i V ein K-Vektorra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182880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Standardeinheitsvektoren {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 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aus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d linear unabhängi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1082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{a} ist genau dann linear abhängig, wenn a = 0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243828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jeden weiteren Vektor x aus 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  {x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 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linear abhängi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3473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 = {a,b} ist genau dann linear abhängig, wenn  a in Kb oder  b in Ka  liegt. Analog mit 3 Vektor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733400" y="5500800"/>
                <a:ext cx="62676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≠</m:t>
                    </m:r>
                    <m:r>
                      <m:t xml:space="preserve">k</m:t>
                    </m:r>
                    <m:sSub>
                      <m:e/>
                      <m:sub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685800" y="4419720"/>
            <a:ext cx="792468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 = {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ist genau dann linear abhängig, wenn es einen Index  k  zwischen 1 und m gibt sowie Skalare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K m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592776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h.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t Linearkombination der übrigen Elemente aus A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37814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chauung dahinter: Punkt, Gerade, Ebene („durch 0“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4461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i A aus V eine nichtleere endliche Menge. Dan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257508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 sei linear unabhängig, und für ein x sei die Menge {x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linear abhängi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320040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n ist x Linearkombination der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85800" y="1828800"/>
            <a:ext cx="7924680" cy="398880"/>
            <a:chOff x="685800" y="1828800"/>
            <a:chExt cx="7924680" cy="398880"/>
          </a:xfrm>
        </p:grpSpPr>
        <mc:AlternateContent>
          <mc:Choice xmlns:a14="http://schemas.microsoft.com/office/drawing/2010/main" Requires="a14">
            <p:sp>
              <p:nvSpPr>
                <p:cNvPr id="137" name=""/>
                <p:cNvSpPr txBox="1"/>
                <p:nvPr/>
              </p:nvSpPr>
              <p:spPr>
                <a:xfrm>
                  <a:off x="1911240" y="1887480"/>
                  <a:ext cx="532764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 ist linear abhängig</m:t>
                      </m:r>
                      <m:r>
                        <m:t xml:space="preserve">⇔</m:t>
                      </m:r>
                      <m:r>
                        <m:t xml:space="preserve">∃</m:t>
                      </m:r>
                      <m:r>
                        <m:t xml:space="preserve">a</m:t>
                      </m:r>
                      <m:r>
                        <m:t xml:space="preserve">∈</m:t>
                      </m:r>
                      <m:r>
                        <m:rPr>
                          <m:lit/>
                          <m:nor/>
                        </m:rPr>
                        <m:t xml:space="preserve">A:a</m:t>
                      </m:r>
                      <m:r>
                        <m:t xml:space="preserve">∈</m:t>
                      </m:r>
                      <m:r>
                        <m:rPr>
                          <m:lit/>
                          <m:nor/>
                        </m:rPr>
                        <m:t xml:space="preserve">Spa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" lbrace a rbrace  \) } {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8" name=""/>
            <p:cNvSpPr/>
            <p:nvPr/>
          </p:nvSpPr>
          <p:spPr>
            <a:xfrm>
              <a:off x="685800" y="182880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9144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85800" y="2193840"/>
            <a:ext cx="7924680" cy="398880"/>
            <a:chOff x="685800" y="2193840"/>
            <a:chExt cx="7924680" cy="398880"/>
          </a:xfrm>
        </p:grpSpPr>
        <mc:AlternateContent>
          <mc:Choice xmlns:a14="http://schemas.microsoft.com/office/drawing/2010/main" Requires="a14">
            <p:sp>
              <p:nvSpPr>
                <p:cNvPr id="140" name=""/>
                <p:cNvSpPr txBox="1"/>
                <p:nvPr/>
              </p:nvSpPr>
              <p:spPr>
                <a:xfrm>
                  <a:off x="1917720" y="2257560"/>
                  <a:ext cx="563868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 ist linear unabhängig</m:t>
                      </m:r>
                      <m:r>
                        <m:t xml:space="preserve">⇔</m:t>
                      </m:r>
                      <m:r>
                        <m:t xml:space="preserve">∀</m:t>
                      </m:r>
                      <m:r>
                        <m:t xml:space="preserve">a</m:t>
                      </m:r>
                      <m:r>
                        <m:t xml:space="preserve">∈</m:t>
                      </m:r>
                      <m:r>
                        <m:rPr>
                          <m:lit/>
                          <m:nor/>
                        </m:rPr>
                        <m:t xml:space="preserve">A:a</m:t>
                      </m:r>
                      <m:r>
                        <m:t xml:space="preserve">∉</m:t>
                      </m:r>
                      <m:r>
                        <m:rPr>
                          <m:lit/>
                          <m:nor/>
                        </m:rPr>
                        <m:t xml:space="preserve">Spa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" lbrace a rbrace  \) } {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1" name=""/>
            <p:cNvSpPr/>
            <p:nvPr/>
          </p:nvSpPr>
          <p:spPr>
            <a:xfrm>
              <a:off x="685800" y="219384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9144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85800" y="36417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3.3) Defini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rgänzung zu 13.1) Sei A eine Teilmenge im K-Vektorraum V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09480" y="4327560"/>
            <a:ext cx="7925040" cy="398880"/>
            <a:chOff x="609480" y="4327560"/>
            <a:chExt cx="7925040" cy="398880"/>
          </a:xfrm>
        </p:grpSpPr>
        <mc:AlternateContent>
          <mc:Choice xmlns:a14="http://schemas.microsoft.com/office/drawing/2010/main" Requires="a14">
            <p:sp>
              <p:nvSpPr>
                <p:cNvPr id="144" name=""/>
                <p:cNvSpPr txBox="1"/>
                <p:nvPr/>
              </p:nvSpPr>
              <p:spPr>
                <a:xfrm>
                  <a:off x="1996920" y="4419720"/>
                  <a:ext cx="541368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 ist </m:t>
                      </m:r>
                      <m:r>
                        <m:rPr>
                          <m:lit/>
                          <m:nor/>
                        </m:rPr>
                        <m:t xml:space="preserve">linear abhängig</m:t>
                      </m:r>
                      <m:r>
                        <m:t xml:space="preserve">:</m:t>
                      </m:r>
                      <m:r>
                        <m:t xml:space="preserve">⇔</m:t>
                      </m:r>
                      <m:r>
                        <m:t xml:space="preserve">∃</m:t>
                      </m:r>
                      <m:r>
                        <m:t xml:space="preserve">a</m:t>
                      </m:r>
                      <m:r>
                        <m:t xml:space="preserve">∈</m:t>
                      </m:r>
                      <m:r>
                        <m:rPr>
                          <m:lit/>
                          <m:nor/>
                        </m:rPr>
                        <m:t xml:space="preserve">A:a</m:t>
                      </m:r>
                      <m:r>
                        <m:t xml:space="preserve">∈</m:t>
                      </m:r>
                      <m:r>
                        <m:rPr>
                          <m:lit/>
                          <m:nor/>
                        </m:rPr>
                        <m:t xml:space="preserve">Spa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" lbrace a rbrace  \) } {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5" name=""/>
            <p:cNvSpPr/>
            <p:nvPr/>
          </p:nvSpPr>
          <p:spPr>
            <a:xfrm>
              <a:off x="609480" y="4327560"/>
              <a:ext cx="792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09480" y="4724280"/>
            <a:ext cx="7925040" cy="708120"/>
            <a:chOff x="609480" y="4724280"/>
            <a:chExt cx="7925040" cy="708120"/>
          </a:xfrm>
        </p:grpSpPr>
        <p:sp>
          <p:nvSpPr>
            <p:cNvPr id="147" name=""/>
            <p:cNvSpPr/>
            <p:nvPr/>
          </p:nvSpPr>
          <p:spPr>
            <a:xfrm>
              <a:off x="609480" y="4724280"/>
              <a:ext cx="792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2000160" y="4816440"/>
                  <a:ext cx="5899320" cy="61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 ist </m:t>
                          </m:r>
                          <m:r>
                            <m:rPr>
                              <m:lit/>
                              <m:nor/>
                            </m:rPr>
                            <m:t xml:space="preserve">linear unabhängig</m:t>
                          </m:r>
                          <m:r>
                            <m:t xml:space="preserve">:</m:t>
                          </m:r>
                          <m:r>
                            <m:t xml:space="preserve">⇔</m:t>
                          </m:r>
                          <m:r>
                            <m:rPr>
                              <m:lit/>
                              <m:nor/>
                            </m:rPr>
                            <m:t xml:space="preserve">A ist nicht linear abhängig 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t xml:space="preserve">:</m:t>
                          </m:r>
                          <m:r>
                            <m:t xml:space="preserve">⇔</m:t>
                          </m:r>
                          <m:r>
                            <m:t xml:space="preserve">∀</m:t>
                          </m:r>
                          <m:r>
                            <m:t xml:space="preserve">a</m:t>
                          </m:r>
                          <m:r>
                            <m:t xml:space="preserve">∈</m:t>
                          </m:r>
                          <m:r>
                            <m:rPr>
                              <m:lit/>
                              <m:nor/>
                            </m:rPr>
                            <m:t xml:space="preserve">A:a</m:t>
                          </m:r>
                          <m:r>
                            <m:t xml:space="preserve">∉</m:t>
                          </m:r>
                          <m:r>
                            <m:rPr>
                              <m:lit/>
                              <m:nor/>
                            </m:rPr>
                            <m:t xml:space="preserve">Span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A" lbrace a rbrace  \) }  {} 
} } {</m:t>
                          </m:r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9" name=""/>
          <p:cNvSpPr/>
          <p:nvPr/>
        </p:nvSpPr>
        <p:spPr>
          <a:xfrm>
            <a:off x="685800" y="55468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se Definition ist mit der von 13.1 kompatibel wegen 13.2.6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 Sie ist anwendbar auch auf beliebige Teilmengen von V.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72400" y="1295280"/>
            <a:ext cx="990720" cy="276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8.11.01 </a:t>
            </a:r>
            <a:r>
              <a:rPr b="0" lang="en-US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72400" y="6040440"/>
            <a:ext cx="990720" cy="276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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6.11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1-12-12T09:38:51Z</dcterms:modified>
  <cp:revision>167</cp:revision>
  <dc:subject/>
  <dc:title>PowerPoint-Präsentation</dc:title>
</cp:coreProperties>
</file>