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9BA9A184-A2AD-4134-A88C-87C3DD68F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33720" y="3987720"/>
            <a:ext cx="40384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tel III. Elementare Theor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 Vektorrä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581280"/>
            <a:ext cx="56386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rundlegenden Begriff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e Unabhängigkei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zeugendensystem“ u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s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den eingeführt und studi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5394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n Begriffen liegt der Begriff der „Linearkombination“ zugru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789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*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„Lineare Unabhängigkeit“ begriffen hat, der hat die Lineare Algebra verstan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3.4) Bemerkungen,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V ein K-Vektorrau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828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leere Menge ist linear unabhäng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5800" y="2209680"/>
            <a:ext cx="7924680" cy="398880"/>
            <a:chOff x="685800" y="2209680"/>
            <a:chExt cx="7924680" cy="398880"/>
          </a:xfrm>
        </p:grpSpPr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3268800" y="2273400"/>
                  <a:ext cx="122688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:</m:t>
                          </m:r>
                          <m:r>
                            <m:t xml:space="preserve">a</m:t>
                          </m:r>
                          <m:r>
                            <m:t xml:space="preserve">∈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685800" y="22096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ie Menge                    ist linear unabhängig in  K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(M)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85800" y="2590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benso: {T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k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 ist linear unabhängig in  K[T]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3.5) Fundamentallemm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sei Körper. Ein homogenes lineares Gleich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4705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3.6) Schrankenlemma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t der K-Vektorraum V ein Erzeugen-densystem mit n Elementen (n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so sind je n+1 Vektoren aus V stets linear abhäng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487680" y="3733920"/>
                <a:ext cx="22147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,  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685800" y="440388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n Gleichungen und mit den m Unbestimmten 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hat im Fal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 &gt; n  stets eine nichttriviale Lösung; dh. x aus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\{0} mit den Komponenten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so dass das Gleichungssystem erfüllt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251400" y="3852720"/>
                <a:ext cx="2610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,2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,n 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K ,   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44612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wei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{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Erzeugendensystem von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7524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seien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liebige Vektoren aus 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057400"/>
            <a:ext cx="7924680" cy="398880"/>
            <a:chOff x="685800" y="2057400"/>
            <a:chExt cx="7924680" cy="398880"/>
          </a:xfrm>
        </p:grpSpPr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2298600" y="2079720"/>
                  <a:ext cx="128916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K  mit 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685800" y="205740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s gibt da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85800" y="30322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 werden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 , nicht alle 0, 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56000" y="2494080"/>
                <a:ext cx="4073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,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09480" y="4648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hauptung folgt jetzt aus dem Fundamentallemma 13.5, den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722760" y="3483000"/>
                <a:ext cx="17636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338560" y="4038480"/>
                <a:ext cx="4519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μ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μ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μ</m:t>
                                </m:r>
                              </m:sup>
                            </m:sSubSup>
                          </m:e>
                        </m:nary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μ</m:t>
                                </m:r>
                              </m:sup>
                            </m:sSubSup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nary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768840" y="5083200"/>
                <a:ext cx="16412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 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609480" y="56386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 eine nichttriviale Lösung (n Gleichungen, n+1 Unbestimm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14 Basis und Dimen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1938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1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sei wieder ein K-Vektorrau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514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Menge B von Vektoren aus V heiß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is v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, wenn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819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ist Erzeugendensystem von V 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124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ist linear unabhäng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3429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2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733920"/>
            <a:ext cx="79250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au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Basis vo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ach 12.3.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rzeugendensystem, nach 13.2.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near unabhäng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5842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benso: {T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k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 ist Basis von  K[T]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38080" y="5514840"/>
            <a:ext cx="7924680" cy="398880"/>
            <a:chOff x="838080" y="5514840"/>
            <a:chExt cx="7924680" cy="398880"/>
          </a:xfrm>
        </p:grpSpPr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3421080" y="5578560"/>
                  <a:ext cx="122688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:</m:t>
                          </m:r>
                          <m:r>
                            <m:t xml:space="preserve">a</m:t>
                          </m:r>
                          <m:r>
                            <m:t xml:space="preserve">∈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"/>
            <p:cNvSpPr/>
            <p:nvPr/>
          </p:nvSpPr>
          <p:spPr>
            <a:xfrm>
              <a:off x="838080" y="551484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ie Menge                    ist Basis von K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(M)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838080" y="432756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ch {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. 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ist eine Basis vo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enn in K die Gleichung 2x = 0 nur die Lösung x = 0 hat, z.B. K aus 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492120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r für x au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{x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keine Basis vo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gl. 13.2.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6156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leere Menge ist Basis von {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1447920"/>
            <a:ext cx="9903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3.12.01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724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grundlegenden Fragestellungen zum Basisbegrif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333684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B und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\{0}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0574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 ist Basis von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36417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nim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zeugenden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.h. B erzeugt V und für jede echte Teilmenge A von B ist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rzeugendensystem von V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2362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r Vektor x aus K hat eine eindeutige Darstellung als Linearkombination (bis auf die Reihenfolge der Summ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97180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 =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5181480"/>
            <a:ext cx="79246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at jeder K-Vektorraum eine Bas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4479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3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 sei ein Erzeugendensystem des K-Vektorraums 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folgenden Aussagen sind dann äquivalen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5689440"/>
            <a:ext cx="79246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ht die Anzahl der Basiselemente (im Falle der Existenz) fe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446120"/>
            <a:ext cx="8001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kann die Gesamtheit der Basen (im Falle der Existenz) beschrieben werden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4572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besitzt eine endliche Ba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590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4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sei ein endlich erzeugter K-Vektorraum. Dan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897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zwei Basen haben gleichviel Elem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36576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5) Basissatz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ür endlich erzeugte Vektorräume): V sei ein endlich erzeugter K-Vektorraum mit einem Erzeugendensystem E. Dann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2286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Frag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3352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Frag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0120" y="2158920"/>
            <a:ext cx="9903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8.1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4876920"/>
            <a:ext cx="800100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aus V sei linear unabhängig. Dann ist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eine Basis von V, oder man findet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+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E, so dass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eine Basis von 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7913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asis B nach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nn als Teilmenge von E gewäh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4461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4.6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nach 14.4 eindeutig bestimmte und nach 14.5 existierende Zahl n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s endlich erzeugten Vektorraumes V heißt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imens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V. Notation:  dim V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242244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llständige Notation, wenn klargestellt werden soll, dass die Dimension sich auf den Körper K bezieht:   di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dim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n , auch für n = 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4935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sei endlich erzeugt. Dann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3794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m {(x,y,0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x,y aus K} = 2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3124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7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4159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m {(x+y,0,x-y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x,y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2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2419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m V = min{n aus N : je n+1 Elemente aus V sind linear abhängig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455436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m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1, aber dim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56228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letzte Formel hat ihre Gültigkeit insbesondere auch für V = 0. Sie gibt auch Sinn für Vektorräume, die nicht endlich erzeugt s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2575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9) Dimensions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einen K-Vektorraum V g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8796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ntweder hat V die endliche Dimension n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; und das bedeutet: V besitzt n linear unabhängige Vektoren und je n+1 sind linear abhäng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7940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r V ist unendlichdimensional; und das bedeutet, dass  es zu jedem n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destens n linear unabhängige Vektoren g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09480" y="1446120"/>
            <a:ext cx="8001000" cy="703800"/>
            <a:chOff x="609480" y="1446120"/>
            <a:chExt cx="8001000" cy="703800"/>
          </a:xfrm>
        </p:grpSpPr>
        <p:sp>
          <p:nvSpPr>
            <p:cNvPr id="231" name=""/>
            <p:cNvSpPr/>
            <p:nvPr/>
          </p:nvSpPr>
          <p:spPr>
            <a:xfrm>
              <a:off x="609480" y="144612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4.8) 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i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eines nicht endlich erzeugten Vektorraumes wird al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unendlic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finier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5554800" y="1816200"/>
                  <a:ext cx="167616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im V </m:t>
                      </m:r>
                      <m:r>
                        <m:t xml:space="preserve">=</m:t>
                      </m:r>
                      <m:r>
                        <m:t xml:space="preserve">∞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    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3" name=""/>
          <p:cNvSpPr/>
          <p:nvPr/>
        </p:nvSpPr>
        <p:spPr>
          <a:xfrm>
            <a:off x="609480" y="2193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sammenfassend haben wir damit 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4861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Jeder Untervektorraum U eines endlichdimensionalen Vektorraumes V ist endlichdimens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4554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10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54705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[T]  ist unendlichdimensional, ebenso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ür unendliche Mengen 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ch die Folgenräume in 10.6 sind unendlichdimens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27432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4.11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ch jeder unendlichdimensionale Vektorraum hat eine Ba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3352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ist für K[T] und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ident, weil wir eine Basis direkt angeben könn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851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ü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s Vektorraum üb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keine Basis bekan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22701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ne Beweis zitieren wi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09480" y="1812960"/>
            <a:ext cx="8001000" cy="398880"/>
            <a:chOff x="609480" y="1812960"/>
            <a:chExt cx="8001000" cy="398880"/>
          </a:xfrm>
        </p:grpSpPr>
        <p:sp>
          <p:nvSpPr>
            <p:cNvPr id="244" name=""/>
            <p:cNvSpPr/>
            <p:nvPr/>
          </p:nvSpPr>
          <p:spPr>
            <a:xfrm>
              <a:off x="609480" y="181296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1963800" y="1873080"/>
                  <a:ext cx="3128760" cy="3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im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∞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, dim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    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6" name=""/>
          <p:cNvSpPr/>
          <p:nvPr/>
        </p:nvSpPr>
        <p:spPr>
          <a:xfrm>
            <a:off x="609480" y="40989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allgemeinen beruht der Satz auf dem „Wohlordnungsaxiom“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419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s Axiom der Mengenlehre gehört nicht für jeden Mathematiker zu den grundsätzlich notwendigen und evidenten Axio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50292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Wohlordnungsaxiom ist äquivalent zu dem „Lemma von Zorn“ ; der Beweis der Existenz einer Basis ist nicht konstruktiv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15 Lineare Abbild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2193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5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Abbildung f zwischen K-Vektorräumen V und W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oder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ektorraumhom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wen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2803680"/>
            <a:ext cx="8001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ektoren x,y aus V und alle Skalare s,t aus dem Körper K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(sx + ty) = sf(x) + tf(y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4038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.2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85800" y="4324320"/>
            <a:ext cx="8001000" cy="568440"/>
            <a:chOff x="685800" y="4324320"/>
            <a:chExt cx="8001000" cy="568440"/>
          </a:xfrm>
        </p:grpSpPr>
        <p:sp>
          <p:nvSpPr>
            <p:cNvPr id="255" name=""/>
            <p:cNvSpPr/>
            <p:nvPr/>
          </p:nvSpPr>
          <p:spPr>
            <a:xfrm>
              <a:off x="685800" y="438480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in spezielles Beispiel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4648320" y="4324320"/>
                  <a:ext cx="287640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: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K , 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5y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7" name=""/>
          <p:cNvGrpSpPr/>
          <p:nvPr/>
        </p:nvGrpSpPr>
        <p:grpSpPr>
          <a:xfrm>
            <a:off x="685800" y="5410080"/>
            <a:ext cx="8001000" cy="398880"/>
            <a:chOff x="685800" y="5410080"/>
            <a:chExt cx="8001000" cy="398880"/>
          </a:xfrm>
        </p:grpSpPr>
        <p:sp>
          <p:nvSpPr>
            <p:cNvPr id="258" name=""/>
            <p:cNvSpPr/>
            <p:nvPr/>
          </p:nvSpPr>
          <p:spPr>
            <a:xfrm>
              <a:off x="685800" y="541008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e Ableitung                                           ist linea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3646440" y="5422680"/>
                  <a:ext cx="26780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D:C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→</m:t>
                      </m:r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↦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0" name=""/>
          <p:cNvGrpSpPr/>
          <p:nvPr/>
        </p:nvGrpSpPr>
        <p:grpSpPr>
          <a:xfrm>
            <a:off x="685800" y="4816440"/>
            <a:ext cx="8001000" cy="745560"/>
            <a:chOff x="685800" y="4816440"/>
            <a:chExt cx="8001000" cy="745560"/>
          </a:xfrm>
        </p:grpSpPr>
        <p:sp>
          <p:nvSpPr>
            <p:cNvPr id="261" name=""/>
            <p:cNvSpPr/>
            <p:nvPr/>
          </p:nvSpPr>
          <p:spPr>
            <a:xfrm>
              <a:off x="685800" y="4816440"/>
              <a:ext cx="80010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(vgl. 10.6.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:= {x aus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de-DE" sz="20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: x ist konvergent}) ist linea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2070000" y="4892760"/>
                  <a:ext cx="413244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im</m:t>
                      </m:r>
                      <m:r>
                        <m:t xml:space="preserve">: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→</m:t>
                      </m:r>
                      <m:r>
                        <m:t xml:space="preserve">R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Lim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im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3" name=""/>
          <p:cNvSpPr/>
          <p:nvPr/>
        </p:nvSpPr>
        <p:spPr>
          <a:xfrm>
            <a:off x="685800" y="3581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auer: 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-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K-Vektorraumhomomorphismus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85800" y="5775480"/>
            <a:ext cx="8001000" cy="703800"/>
            <a:chOff x="685800" y="5775480"/>
            <a:chExt cx="8001000" cy="703800"/>
          </a:xfrm>
        </p:grpSpPr>
        <p:sp>
          <p:nvSpPr>
            <p:cNvPr id="265" name=""/>
            <p:cNvSpPr/>
            <p:nvPr/>
          </p:nvSpPr>
          <p:spPr>
            <a:xfrm>
              <a:off x="685800" y="577548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i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ormal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bleitun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ist ebenfalls linear.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4572000" y="5791320"/>
                  <a:ext cx="3886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:</m:t>
                      </m:r>
                      <m:r>
                        <m:t xml:space="preserve">K</m:t>
                      </m:r>
                      <m:r>
                        <m:t xml:space="preserve">[</m:t>
                      </m:r>
                      <m:r>
                        <m:t xml:space="preserve">T</m:t>
                      </m:r>
                      <m:r>
                        <m:t xml:space="preserve">]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  <m:r>
                        <m:t xml:space="preserve">[</m:t>
                      </m:r>
                      <m:r>
                        <m:t xml:space="preserve">T</m:t>
                      </m:r>
                      <m:r>
                        <m:t xml:space="preserve">]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</m:sup>
                          </m:sSup>
                          <m:r>
                            <m:t xml:space="preserve">↦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T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>
            <a:off x="7620120" y="1697040"/>
            <a:ext cx="9903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5.12.01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2133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.3) Bemerkun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733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Komposition linearer Abbildungen ist lin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85800" y="3413160"/>
            <a:ext cx="8001000" cy="398880"/>
            <a:chOff x="685800" y="3413160"/>
            <a:chExt cx="8001000" cy="398880"/>
          </a:xfrm>
        </p:grpSpPr>
        <p:sp>
          <p:nvSpPr>
            <p:cNvPr id="272" name=""/>
            <p:cNvSpPr/>
            <p:nvPr/>
          </p:nvSpPr>
          <p:spPr>
            <a:xfrm>
              <a:off x="685800" y="341316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i f linear. Dann gilt f(0) = 0 u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5791320" y="3459240"/>
                  <a:ext cx="224316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685800" y="40543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Menge der linearen Abbildungen Hom(V,W) von V nach W ist bezüglich der punktweisen Addition und Skalarmultipli-kation ein K-Vektorraum, und zwar ein Untervektorraum von W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85800" y="1446120"/>
            <a:ext cx="8001000" cy="703800"/>
            <a:chOff x="685800" y="1446120"/>
            <a:chExt cx="8001000" cy="703800"/>
          </a:xfrm>
        </p:grpSpPr>
        <p:sp>
          <p:nvSpPr>
            <p:cNvPr id="276" name=""/>
            <p:cNvSpPr/>
            <p:nvPr/>
          </p:nvSpPr>
          <p:spPr>
            <a:xfrm>
              <a:off x="685800" y="144612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Sei M eine Menge und a ein Element aus M. Die „Auswertung“                                    ist linea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2438280" y="1779480"/>
                  <a:ext cx="224496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: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→</m:t>
                      </m:r>
                      <m:r>
                        <m:t xml:space="preserve">K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↦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8" name=""/>
          <p:cNvSpPr/>
          <p:nvPr/>
        </p:nvSpPr>
        <p:spPr>
          <a:xfrm>
            <a:off x="685800" y="24382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lineare Abbildung f ist insbesondere ein Gruppen-homomorphismus, sie „respektiert“ neben der Addition zusätzlich noch die Skalarmultiplikatio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55785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t(V) := {f aus Hom(V,V) : f bijektiv} ist eine Gruppe bezüglich der Komposition von Abbildungen, und zwar eine Untergruppe der Permutationsgruppe S(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4968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f linear und bijektiv. Dann ist die Umkehrabbildung f 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–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benfalls lin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1981080"/>
            <a:ext cx="9903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3.12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12 Linearkombination und Erzeugenden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olgenden ist K stets ein Körper und V, W, ... sind Vektorräume über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038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 ein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omogenen linearen Differentialgleichung n-ter Ordnung mit konstanten Koeffizien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ersteht m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181480"/>
            <a:ext cx="7772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bei sind die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oeffizienten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lso konstante reelle Zahlen, und die  f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(k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die k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a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bleitungen, 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666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Motivation des Begriffes Linearkombination noch ein Beispi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1240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2.1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sei 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) der in 10.11 eingeführ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Vektorraum der n-mal stetig differenzierbaren reellwertigen Funktionen auf dem Intervall 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276720" y="5904000"/>
                <a:ext cx="2590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  und  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" name=""/>
          <p:cNvGrpSpPr/>
          <p:nvPr/>
        </p:nvGrpSpPr>
        <p:grpSpPr>
          <a:xfrm>
            <a:off x="1676520" y="4784760"/>
            <a:ext cx="6019560" cy="398880"/>
            <a:chOff x="1676520" y="4784760"/>
            <a:chExt cx="6019560" cy="398880"/>
          </a:xfrm>
        </p:grpSpPr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2895480" y="4813200"/>
                  <a:ext cx="330696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1676520" y="4784760"/>
              <a:ext cx="60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47242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(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:=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1446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.4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 f eine lineare Abbildung zwischen den  K-Vektorräumen V und W. f heiß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03848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5.5) Lemma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sei eine Basis von V . Dann wird für jedes n-Tupel (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von Vektoren aus W du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5442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 lineare Abbildung von V nach W hat diese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5045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lineare Abbildung defin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2057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s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f bi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803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on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f in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31845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nd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V = W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3565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tomorphism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V = W gilt, und f bi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2422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pi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f sur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5883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analoge Aussage gilt für unendlichdimensionale Vektorräume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1446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.6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 f eine lineare Abbildung zwischen den  K-Vektorräumen V und 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27432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.7) Lemm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f linear, A Teilmenge aus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057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er f := f 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0)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ern von f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23623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 f := f(V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ld von f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5622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.8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wei endlichdimensionale K-Vektorräume sind genau dann isomorph, wenn sie gleichdimensional sin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3032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er f  und  Im f  sind Untervektorräume von V bzw. W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6417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(Span(A)) = Span(f(A)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3946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enn E Erzeugendensystem von V ist, so ist f(E) Erzeugendensystem von  Im f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45561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 ist linear unabhängig, wenn das für f(A)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336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f  ist injektiv, genau dann wenn Ker f = {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4861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f(A) ist linear unabhängig, wenn das für A gilt und wenn f in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0120" y="6019920"/>
            <a:ext cx="9903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5.12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0120" y="5257800"/>
            <a:ext cx="9903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0.12.01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28036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5.10) Äquivalenzsatz für lineare Abbildung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gleichdimen-sionale K-Vektorräume V und W endlicher Dimension sind die folgen-den Aussagen für lineare Abbildungen f von V nach W äquival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4461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Jeder endlichdimensionale K-Vektorraum V ist zu einem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omorph mit  n = dim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5334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.11) Satz (Dimensionsformel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lineare Abbildung  f  von  V  nach  W 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3733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  ist injekti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4343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f  ist bijekti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4038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f  ist surjekti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21337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.9) Bemerku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r K-Vektorraum ist isomorph zu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wobei B eine Basis von 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47084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hr Information liegt in der Dimensionsformel, die auch für unendlichdimensionale Vektorräume gültig i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6019920"/>
            <a:ext cx="48006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m Ker f + dim Im f = dim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95280" y="3746520"/>
            <a:ext cx="2590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16 Rang und lineare Gleichungssyste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6.1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sei wieder ein K-Vektorraum.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r Teilmenge A aus V ist die Dimension der linearen Hülle Span(A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6668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g A := dim Span(A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29718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a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r linearen Abbildung f aus Hom(V,W) ist der Rang von Im f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g f := dim Im f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3962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6.2) Beispie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4267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 aus V sei Erzeugendensystem. Dann rg A = dim V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4876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rg A = 0 bedeutet A = {0}  oder A ist le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457200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= {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hat den Rang 2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n &gt;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85800" y="5181480"/>
            <a:ext cx="8001000" cy="385920"/>
            <a:chOff x="685800" y="5181480"/>
            <a:chExt cx="8001000" cy="385920"/>
          </a:xfrm>
        </p:grpSpPr>
        <p:sp>
          <p:nvSpPr>
            <p:cNvPr id="329" name=""/>
            <p:cNvSpPr/>
            <p:nvPr/>
          </p:nvSpPr>
          <p:spPr>
            <a:xfrm>
              <a:off x="685800" y="5181480"/>
              <a:ext cx="8001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Für Teilmengen A und B aus V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5613480" y="5270400"/>
                  <a:ext cx="289548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it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⊂</m:t>
                      </m:r>
                      <m:r>
                        <m:rPr>
                          <m:lit/>
                          <m:nor/>
                        </m:rPr>
                        <m:t xml:space="preserve">B  gilt  </m:t>
                      </m:r>
                      <m:r>
                        <m:rPr>
                          <m:lit/>
                          <m:nor/>
                        </m:rPr>
                        <m:t xml:space="preserve">rg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rg</m:t>
                      </m:r>
                      <m:r>
                        <m:t xml:space="preserve"> </m:t>
                      </m:r>
                      <m:r>
                        <m:t xml:space="preserve">B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1" name=""/>
          <p:cNvSpPr/>
          <p:nvPr/>
        </p:nvSpPr>
        <p:spPr>
          <a:xfrm>
            <a:off x="685800" y="55627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6.3) Rang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eine Teilmenge A aus V gilt  r = rg A  für r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nau dann, wenn es r linear unabhängige Elemente in A gibt und je r+1 Elemente aus A linear abhängig si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0120" y="632448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0.12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18320" y="388620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2.12.01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2438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eare Gleichungssysteme haben wir bereits in §3 kennengelernt. Damals ü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; jetzt interessieren wir uns für lineare Gleichungs-systeme über einen beliebigen Körper 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6.4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 A eine Teilmenge von V mit endlichem Rang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85800" y="1752480"/>
            <a:ext cx="8001000" cy="703800"/>
            <a:chOff x="685800" y="1752480"/>
            <a:chExt cx="8001000" cy="703800"/>
          </a:xfrm>
        </p:grpSpPr>
        <p:sp>
          <p:nvSpPr>
            <p:cNvPr id="338" name=""/>
            <p:cNvSpPr/>
            <p:nvPr/>
          </p:nvSpPr>
          <p:spPr>
            <a:xfrm>
              <a:off x="685800" y="175248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in Vektor b aus V gehört genau dann zur linearen Hülle Span A, wenn rg A = rg              gilt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2481120" y="2127240"/>
                  <a:ext cx="88272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b</m:t>
                          </m:r>
                        </m:e>
                      </m: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0" name=""/>
          <p:cNvGrpSpPr/>
          <p:nvPr/>
        </p:nvGrpSpPr>
        <p:grpSpPr>
          <a:xfrm>
            <a:off x="685800" y="5338800"/>
            <a:ext cx="7772400" cy="1595160"/>
            <a:chOff x="685800" y="5338800"/>
            <a:chExt cx="7772400" cy="1595160"/>
          </a:xfrm>
        </p:grpSpPr>
        <p:sp>
          <p:nvSpPr>
            <p:cNvPr id="341" name=""/>
            <p:cNvSpPr/>
            <p:nvPr/>
          </p:nvSpPr>
          <p:spPr>
            <a:xfrm>
              <a:off x="685800" y="579600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tze                                                                     .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946240" y="5338800"/>
                  <a:ext cx="3235320" cy="15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: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mr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mr>
                              </m:m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und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t xml:space="preserve">: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3" name=""/>
          <p:cNvGrpSpPr/>
          <p:nvPr/>
        </p:nvGrpSpPr>
        <p:grpSpPr>
          <a:xfrm>
            <a:off x="685800" y="3429000"/>
            <a:ext cx="7772400" cy="1752480"/>
            <a:chOff x="685800" y="3429000"/>
            <a:chExt cx="7772400" cy="1752480"/>
          </a:xfrm>
        </p:grpSpPr>
        <p:sp>
          <p:nvSpPr>
            <p:cNvPr id="344" name=""/>
            <p:cNvSpPr/>
            <p:nvPr/>
          </p:nvSpPr>
          <p:spPr>
            <a:xfrm>
              <a:off x="2438280" y="3429000"/>
              <a:ext cx="419112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685800" y="3581280"/>
              <a:ext cx="7772400" cy="1395360"/>
              <a:chOff x="685800" y="3581280"/>
              <a:chExt cx="7772400" cy="1395360"/>
            </a:xfrm>
          </p:grpSpPr>
          <mc:AlternateContent>
            <mc:Choice xmlns:a14="http://schemas.microsoft.com/office/drawing/2010/main" Requires="a14">
              <p:sp>
                <p:nvSpPr>
                  <p:cNvPr id="346" name=""/>
                  <p:cNvSpPr txBox="1"/>
                  <p:nvPr/>
                </p:nvSpPr>
                <p:spPr>
                  <a:xfrm>
                    <a:off x="2833560" y="3581280"/>
                    <a:ext cx="3490920" cy="1395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m>
                              <m:mr>
                                <m:e/>
                                <m:e/>
                              </m:mr>
                            </m:m>
                            <m:r>
                              <m:t xml:space="preserve">⋮</m:t>
                            </m:r>
                            <m:m>
                              <m:mr>
                                <m:e>
                                  <m:m>
                                    <m:mr>
                                      <m:e/>
                                      <m:e/>
                                    </m:mr>
                                  </m:m>
                                </m:e>
                                <m:e/>
                                <m:e>
                                  <m:r>
                                    <m:t xml:space="preserve"> </m:t>
                                  </m:r>
                                </m:e>
                              </m:mr>
                            </m:m>
                            <m:r>
                              <m:t xml:space="preserve">⋮</m:t>
                            </m:r>
                          </m:e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7" name=""/>
              <p:cNvSpPr/>
              <p:nvPr/>
            </p:nvSpPr>
            <p:spPr>
              <a:xfrm>
                <a:off x="685800" y="4089240"/>
                <a:ext cx="777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ieser Notation ist # äquivalent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3886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6.5) Satz 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folgenden Aussagen sind äquivalent: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= b hat eine Lösung x au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.h. # hat Lösung 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4495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liegt in  Span {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= Im f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81296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b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28796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haben jetzt vier Sätze zu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ösungstheo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213372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das bedeutet: b ist Linearkombination der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den Skalaren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, die sich zu einem Lösungsvektor x aus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sammensetz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48099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g {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rg {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480" y="5181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6.6) Satz B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folgenden Aussagen sind äquivalent: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320040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seien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 aus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f(x) :=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K , definiert dann eine lineare Abbildung f aus Hom(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5460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g {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 = m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57657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= b hat für alle b au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Lösung x au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6080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 ist surjekti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373392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6.7) Satz D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b  habe eine Lös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75248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aus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} ist ein Untervektorraum, nämlich Ker f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23623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m Ker f + rg {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26766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perposition) Sei y au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spezielle Lösung, also f(y) = b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6.7) Satz 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gil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40543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Lösung ist eindeutig genau dann, wenn für b = 0 die homogene Gleichung f(x) = 0 nur die triviale Lösung h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3341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alle m = n : Die Lösung ist eindeutig genau dann, wenn für b = 0 die homogene Gleichung f(x) = 0 nur die triviale Lösung h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46641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ist genau dann der Fall, wenn {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in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linear unabhängig (d.h. f  injektiv)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5943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ist genau dann der Fall, wenn f bi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29718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n erhält man alle Lösungen von f(x) = b als  x = y + z  mit f(z) = 0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1680" y="32767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Lösungsgesamtheit ist also:  y + Ker f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17 Produkte und Quotienten von Vektorräu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1) Satz-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und V seien K-Vektorräume. Das mengentheoretische Produk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4724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2) Bemerk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124080" y="2768760"/>
                <a:ext cx="285444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×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u</m:t>
                        </m:r>
                        <m:r>
                          <m:t xml:space="preserve">∈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762120" y="3718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u,v) + (x,y) := (u+x,v+y)  und  t(u,v) := (tu,t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2120" y="3032280"/>
            <a:ext cx="7772400" cy="703800"/>
            <a:chOff x="762120" y="3032280"/>
            <a:chExt cx="7772400" cy="703800"/>
          </a:xfrm>
        </p:grpSpPr>
        <p:sp>
          <p:nvSpPr>
            <p:cNvPr id="381" name=""/>
            <p:cNvSpPr/>
            <p:nvPr/>
          </p:nvSpPr>
          <p:spPr>
            <a:xfrm>
              <a:off x="762120" y="303228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sitzt in natürlicher Weise eine K-Vektorraumstruktur durch: Für alle (u,v), (x,y) aus            und t aus K se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3067200" y="3429000"/>
                  <a:ext cx="59040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3" name=""/>
          <p:cNvGrpSpPr/>
          <p:nvPr/>
        </p:nvGrpSpPr>
        <p:grpSpPr>
          <a:xfrm>
            <a:off x="685800" y="5029200"/>
            <a:ext cx="8001000" cy="398880"/>
            <a:chOff x="685800" y="5029200"/>
            <a:chExt cx="8001000" cy="398880"/>
          </a:xfrm>
        </p:grpSpPr>
        <p:sp>
          <p:nvSpPr>
            <p:cNvPr id="384" name=""/>
            <p:cNvSpPr/>
            <p:nvPr/>
          </p:nvSpPr>
          <p:spPr>
            <a:xfrm>
              <a:off x="685800" y="502920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t uns bekannt und isomorph zu K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2070000" y="5098680"/>
                  <a:ext cx="577800" cy="23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×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6" name=""/>
          <p:cNvGrpSpPr/>
          <p:nvPr/>
        </p:nvGrpSpPr>
        <p:grpSpPr>
          <a:xfrm>
            <a:off x="685800" y="5334120"/>
            <a:ext cx="8001000" cy="398880"/>
            <a:chOff x="685800" y="5334120"/>
            <a:chExt cx="8001000" cy="398880"/>
          </a:xfrm>
        </p:grpSpPr>
        <p:sp>
          <p:nvSpPr>
            <p:cNvPr id="387" name=""/>
            <p:cNvSpPr/>
            <p:nvPr/>
          </p:nvSpPr>
          <p:spPr>
            <a:xfrm>
              <a:off x="685800" y="53341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benso             , isomorph zu K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+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3009960" y="5364000"/>
                  <a:ext cx="77472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×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9" name=""/>
          <p:cNvGrpSpPr/>
          <p:nvPr/>
        </p:nvGrpSpPr>
        <p:grpSpPr>
          <a:xfrm>
            <a:off x="685800" y="5638680"/>
            <a:ext cx="8001000" cy="703800"/>
            <a:chOff x="685800" y="5638680"/>
            <a:chExt cx="8001000" cy="703800"/>
          </a:xfrm>
        </p:grpSpPr>
        <p:sp>
          <p:nvSpPr>
            <p:cNvPr id="390" name=""/>
            <p:cNvSpPr/>
            <p:nvPr/>
          </p:nvSpPr>
          <p:spPr>
            <a:xfrm>
              <a:off x="685800" y="563868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In                    hat man die Untervektorräume                        und                        mit den bemerkenswerten Eigenschaften: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2362320" y="5715000"/>
                  <a:ext cx="115560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1320840" y="6002280"/>
                  <a:ext cx="137808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7140600" y="5689440"/>
                  <a:ext cx="132696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4" name=""/>
          <p:cNvGrpSpPr/>
          <p:nvPr/>
        </p:nvGrpSpPr>
        <p:grpSpPr>
          <a:xfrm>
            <a:off x="685800" y="4038480"/>
            <a:ext cx="7772400" cy="703800"/>
            <a:chOff x="685800" y="4038480"/>
            <a:chExt cx="7772400" cy="703800"/>
          </a:xfrm>
        </p:grpSpPr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787320" y="4140360"/>
                  <a:ext cx="115596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6" name=""/>
            <p:cNvSpPr/>
            <p:nvPr/>
          </p:nvSpPr>
          <p:spPr>
            <a:xfrm>
              <a:off x="685800" y="403848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t dieser Struktur heißt das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ektorrau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)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roduk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r Vektorräume u und V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5638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einem Vektor x aus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\{0}  und U = Kx ist W = Ky genau dann Komplement, wenn {x,y} linear unabhängig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09480" y="1446120"/>
            <a:ext cx="8001000" cy="440640"/>
            <a:chOff x="609480" y="1446120"/>
            <a:chExt cx="8001000" cy="440640"/>
          </a:xfrm>
        </p:grpSpPr>
        <p:sp>
          <p:nvSpPr>
            <p:cNvPr id="400" name=""/>
            <p:cNvSpPr/>
            <p:nvPr/>
          </p:nvSpPr>
          <p:spPr>
            <a:xfrm>
              <a:off x="609480" y="14461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. W = 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+ 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und                         u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3886200" y="1519200"/>
                  <a:ext cx="152532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2" name=""/>
          <p:cNvSpPr/>
          <p:nvPr/>
        </p:nvSpPr>
        <p:spPr>
          <a:xfrm>
            <a:off x="609480" y="2362320"/>
            <a:ext cx="8001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og definiert man das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-Vektor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roduk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endlich vielen K-Vektorräumen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auch von beliebig vielen K-Vektorräum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75248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jeder Vektor  w  aus  W  hat die eindeutige Darstellu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it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5318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4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09480" y="3352680"/>
            <a:ext cx="8001000" cy="1092240"/>
            <a:chOff x="609480" y="3352680"/>
            <a:chExt cx="8001000" cy="1092240"/>
          </a:xfrm>
        </p:grpSpPr>
        <p:sp>
          <p:nvSpPr>
            <p:cNvPr id="406" name=""/>
            <p:cNvSpPr/>
            <p:nvPr/>
          </p:nvSpPr>
          <p:spPr>
            <a:xfrm>
              <a:off x="609480" y="3352680"/>
              <a:ext cx="800100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7.3) 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Sei  V  ein K-Vektorraum mit Untervektorräumen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und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. V heißt dann di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irekte Sum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r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und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, wen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 =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+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und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2673360" y="4025880"/>
                  <a:ext cx="136512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8" name=""/>
          <p:cNvSpPr/>
          <p:nvPr/>
        </p:nvSpPr>
        <p:spPr>
          <a:xfrm>
            <a:off x="609480" y="42670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U Untervektorraum von V ist, so heißt ein weiterer Untervek-torraum W von V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mp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U (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mplementär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wenn V die direkte Summe von U und W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495288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ist die direkte Summe v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36576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4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 Untervektorraum U eines Vektorraums V besitzt stets ein Komplement (das allerdings nicht eindeutig bestimmt ist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434340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5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ür Untervektorräum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V mit 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nd die folgenden Aussagen äquival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327672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ist W := Span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ein Komplement von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0} ist immer Komplement von V in V und vice 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2362320"/>
            <a:ext cx="8001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 sei Untervektorraum eines endlichdimensionalen Vektorraums V. Sei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Basis von U, und seien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weitere Vektoren in V, so dass 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Basis von 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09480" y="1752480"/>
            <a:ext cx="8001000" cy="1008720"/>
            <a:chOff x="609480" y="1752480"/>
            <a:chExt cx="8001000" cy="1008720"/>
          </a:xfrm>
        </p:grpSpPr>
        <p:sp>
          <p:nvSpPr>
            <p:cNvPr id="417" name=""/>
            <p:cNvSpPr/>
            <p:nvPr/>
          </p:nvSpPr>
          <p:spPr>
            <a:xfrm>
              <a:off x="609480" y="1752480"/>
              <a:ext cx="8001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Das Produkt                   ist die direkte Summe von 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d                       (vgl. 17.2.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3465360" y="1841400"/>
                  <a:ext cx="11066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9" name=""/>
                <p:cNvSpPr txBox="1"/>
                <p:nvPr/>
              </p:nvSpPr>
              <p:spPr>
                <a:xfrm>
                  <a:off x="2813040" y="2143080"/>
                  <a:ext cx="137808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762120" y="2143080"/>
                  <a:ext cx="132696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1" name=""/>
          <p:cNvSpPr/>
          <p:nvPr/>
        </p:nvSpPr>
        <p:spPr>
          <a:xfrm>
            <a:off x="609480" y="524196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r Vektor  v  aus  V  hat die eindeutige Darstellu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it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5851440"/>
            <a:ext cx="800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gt au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stet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u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14600" y="3200400"/>
            <a:ext cx="3962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446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 ein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Differentialgleichung versteht man eine Funktion f aus 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) , die die Gleichung # in jedem Punkt aus I erfül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133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wesentliche Aussage, die hier vorgestellt werden soll, i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657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enfalls eine Lös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861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Eigensch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49876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d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Lösungen der Differentialgleichung und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eelle Zahlen, so ist die „Linearkombination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697120" y="3276720"/>
                <a:ext cx="37036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685800" y="4022640"/>
            <a:ext cx="7924680" cy="398880"/>
            <a:chOff x="685800" y="4022640"/>
            <a:chExt cx="7924680" cy="398880"/>
          </a:xfrm>
        </p:grpSpPr>
        <p:sp>
          <p:nvSpPr>
            <p:cNvPr id="68" name=""/>
            <p:cNvSpPr/>
            <p:nvPr/>
          </p:nvSpPr>
          <p:spPr>
            <a:xfrm>
              <a:off x="685800" y="402264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s liegt daran, dass der „Operator“                          , definiert dur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4940280" y="4038480"/>
                  <a:ext cx="16448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:C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  <m:r>
                        <m:t xml:space="preserve">→</m:t>
                      </m:r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103560" y="5194440"/>
                <a:ext cx="28400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78120" y="4456080"/>
                <a:ext cx="3567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85800" y="5546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. („L 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85800" y="5851440"/>
            <a:ext cx="7924680" cy="703800"/>
            <a:chOff x="685800" y="5851440"/>
            <a:chExt cx="7924680" cy="703800"/>
          </a:xfrm>
        </p:grpSpPr>
        <p:sp>
          <p:nvSpPr>
            <p:cNvPr id="74" name=""/>
            <p:cNvSpPr/>
            <p:nvPr/>
          </p:nvSpPr>
          <p:spPr>
            <a:xfrm>
              <a:off x="685800" y="58514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s gilt wegen                                              für differenzierbare f und g sowie s aus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514600" y="5931000"/>
                  <a:ext cx="309888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f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  und 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f {</m:t>
                          </m:r>
                          <m:r>
                            <m:t xml:space="preserve">)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s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" name=""/>
          <p:cNvSpPr/>
          <p:nvPr/>
        </p:nvSpPr>
        <p:spPr>
          <a:xfrm>
            <a:off x="7620120" y="1219320"/>
            <a:ext cx="9903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6.11.01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4227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~ v (~ 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flex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20574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6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sei Untervektorraum von V . Dann gilt für Vektoren v uns w aus V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2668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wede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+ U = w + U  oder v + U und w + U haben keine gemeinsamen Ele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09480" y="3262320"/>
            <a:ext cx="8001000" cy="398880"/>
            <a:chOff x="609480" y="3262320"/>
            <a:chExt cx="8001000" cy="398880"/>
          </a:xfrm>
        </p:grpSpPr>
        <p:sp>
          <p:nvSpPr>
            <p:cNvPr id="428" name=""/>
            <p:cNvSpPr/>
            <p:nvPr/>
          </p:nvSpPr>
          <p:spPr>
            <a:xfrm>
              <a:off x="609480" y="32623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 + U = w + U ist gleichbedeutend mit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6273720" y="3328560"/>
                  <a:ext cx="101124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t xml:space="preserve">w</m:t>
                      </m:r>
                      <m:r>
                        <m:t xml:space="preserve">∈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0" name=""/>
          <p:cNvGrpSpPr/>
          <p:nvPr/>
        </p:nvGrpSpPr>
        <p:grpSpPr>
          <a:xfrm>
            <a:off x="609480" y="3618000"/>
            <a:ext cx="8001000" cy="703800"/>
            <a:chOff x="609480" y="3618000"/>
            <a:chExt cx="8001000" cy="703800"/>
          </a:xfrm>
        </p:grpSpPr>
        <p:sp>
          <p:nvSpPr>
            <p:cNvPr id="431" name=""/>
            <p:cNvSpPr/>
            <p:nvPr/>
          </p:nvSpPr>
          <p:spPr>
            <a:xfrm>
              <a:off x="609480" y="361800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7.7) Bemerkung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urch                                       für v und w aus V wird auf V eine Äquivalenzrelation definiert, d.h. für v,w,z aus V gil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3733920" y="3710160"/>
                  <a:ext cx="245412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w</m:t>
                      </m:r>
                      <m:r>
                        <m:t xml:space="preserve">:</m:t>
                      </m:r>
                      <m:r>
                        <m:t xml:space="preserve">⇔</m:t>
                      </m:r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w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3" name=""/>
          <p:cNvSpPr/>
          <p:nvPr/>
        </p:nvSpPr>
        <p:spPr>
          <a:xfrm>
            <a:off x="609480" y="4532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 v ~ w folgt w ~ v (~ 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ymmetris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48369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 v ~ w und w ~ z folgt v ~ z (~ 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it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3105000" y="5564160"/>
                <a:ext cx="23893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  <m:r>
                          <m:t xml:space="preserve">: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609480" y="51577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Äquivalenzklassen von ~ sind die Mengen  v + U , v aus 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4461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Untersuchung von Quotienten brauchen wir die durch einen Unterraum gegebene Äquivalenzre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7913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Äquivalenzklassen v + U lassen sich auch verstehen als die affinen Räume in V mit U als Translationsra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9480" y="1447920"/>
            <a:ext cx="8001000" cy="1008720"/>
            <a:chOff x="609480" y="1447920"/>
            <a:chExt cx="8001000" cy="1008720"/>
          </a:xfrm>
        </p:grpSpPr>
        <p:sp>
          <p:nvSpPr>
            <p:cNvPr id="441" name=""/>
            <p:cNvSpPr/>
            <p:nvPr/>
          </p:nvSpPr>
          <p:spPr>
            <a:xfrm>
              <a:off x="609480" y="1447920"/>
              <a:ext cx="8001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7.8) Satz-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U sei Untervektorraum von V. Auf der Menge der Äquivalenzklassen                                  gibt es eine natürliche Struktur eines K-Vektorraum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3352680" y="1854360"/>
                  <a:ext cx="213048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: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r>
                            <m:t xml:space="preserve">U</m:t>
                          </m:r>
                          <m:r>
                            <m:t xml:space="preserve">:</m:t>
                          </m:r>
                          <m:r>
                            <m:t xml:space="preserve">v</m:t>
                          </m:r>
                          <m:r>
                            <m:t xml:space="preserve">∈</m:t>
                          </m:r>
                          <m:r>
                            <m:t xml:space="preserve">V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3" name=""/>
          <p:cNvSpPr/>
          <p:nvPr/>
        </p:nvSpPr>
        <p:spPr>
          <a:xfrm>
            <a:off x="609480" y="20574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v,w aus V und t aus K s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v + U) + (w + U) := (v + w) + U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(v + U) := (tv) + U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29718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ieser Struktur heißt  V/~ 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otientenra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ktorra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ot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von V in Bezug auf U und wird mit V/U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609480" y="3641760"/>
            <a:ext cx="8001000" cy="703800"/>
            <a:chOff x="609480" y="3641760"/>
            <a:chExt cx="8001000" cy="703800"/>
          </a:xfrm>
        </p:grpSpPr>
        <p:sp>
          <p:nvSpPr>
            <p:cNvPr id="446" name=""/>
            <p:cNvSpPr/>
            <p:nvPr/>
          </p:nvSpPr>
          <p:spPr>
            <a:xfrm>
              <a:off x="609480" y="364176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17.9) Satz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Die Abbildung                                         heißt die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anonische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Projektion.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 ist linear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d surjektiv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3809880" y="3726000"/>
                  <a:ext cx="26244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:</m:t>
                      </m:r>
                      <m:r>
                        <m:t xml:space="preserve">V</m:t>
                      </m:r>
                      <m:r>
                        <m:t xml:space="preserve">→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↦</m:t>
                      </m:r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8" name=""/>
          <p:cNvSpPr/>
          <p:nvPr/>
        </p:nvSpPr>
        <p:spPr>
          <a:xfrm>
            <a:off x="609480" y="58514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7.12) Kanonische Faktorisierung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Sei f eine lineare Abbildung von V nach 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6156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n ist die natürliche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4267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10) Folgeru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n Untervektorraum U von V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3201840" y="4645080"/>
                <a:ext cx="27417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609480" y="48769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7.11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V sei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Vektorraum der rationalen Cauchyfol-gen (V ist Untervektorraum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und U sei der Untervektorraum der rationalen Nullfolgen. Dann ist V/U isomorph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9480" y="3048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ch das folgende Diagramm wird diese Aussage illustrie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4800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12) Folger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532320" y="3414600"/>
                <a:ext cx="1914480" cy="17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W</m:t>
                        </m:r>
                      </m:e>
                      <m:e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↓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↑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er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  <m:e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7" name=""/>
          <p:cNvGrpSpPr/>
          <p:nvPr/>
        </p:nvGrpSpPr>
        <p:grpSpPr>
          <a:xfrm>
            <a:off x="609480" y="2117880"/>
            <a:ext cx="8001000" cy="398880"/>
            <a:chOff x="609480" y="2117880"/>
            <a:chExt cx="8001000" cy="398880"/>
          </a:xfrm>
        </p:grpSpPr>
        <p:sp>
          <p:nvSpPr>
            <p:cNvPr id="458" name=""/>
            <p:cNvSpPr/>
            <p:nvPr/>
          </p:nvSpPr>
          <p:spPr>
            <a:xfrm>
              <a:off x="609480" y="211788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t der Inklusionsabbildung                                     gil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3908520" y="2201760"/>
                  <a:ext cx="23400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:Im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r>
                        <m:t xml:space="preserve">→</m:t>
                      </m:r>
                      <m:r>
                        <m:t xml:space="preserve"> </m:t>
                      </m:r>
                      <m:r>
                        <m:t xml:space="preserve">W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w</m:t>
                      </m:r>
                      <m:r>
                        <m:t xml:space="preserve">↦</m:t>
                      </m:r>
                      <m:r>
                        <m:t xml:space="preserve">w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898800" y="2625840"/>
                <a:ext cx="1343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∘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∘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1" name=""/>
          <p:cNvGrpSpPr/>
          <p:nvPr/>
        </p:nvGrpSpPr>
        <p:grpSpPr>
          <a:xfrm>
            <a:off x="609480" y="5089680"/>
            <a:ext cx="8001000" cy="703800"/>
            <a:chOff x="609480" y="5089680"/>
            <a:chExt cx="8001000" cy="703800"/>
          </a:xfrm>
        </p:grpSpPr>
        <p:sp>
          <p:nvSpPr>
            <p:cNvPr id="462" name=""/>
            <p:cNvSpPr/>
            <p:nvPr/>
          </p:nvSpPr>
          <p:spPr>
            <a:xfrm>
              <a:off x="609480" y="508968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Ein Epimorphismus f ist bis auf Isomorphie eine kano-nische Projektion:                                                 ist Is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2795760" y="5410080"/>
                  <a:ext cx="317340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∘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∘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∘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und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∘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4" name=""/>
          <p:cNvGrpSpPr/>
          <p:nvPr/>
        </p:nvGrpSpPr>
        <p:grpSpPr>
          <a:xfrm>
            <a:off x="609480" y="5699160"/>
            <a:ext cx="8001000" cy="703800"/>
            <a:chOff x="609480" y="5699160"/>
            <a:chExt cx="8001000" cy="703800"/>
          </a:xfrm>
        </p:grpSpPr>
        <p:sp>
          <p:nvSpPr>
            <p:cNvPr id="465" name=""/>
            <p:cNvSpPr/>
            <p:nvPr/>
          </p:nvSpPr>
          <p:spPr>
            <a:xfrm>
              <a:off x="609480" y="569916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in Monomorphismus ist bis auf Isomorphie eine Inklusion:                                                   ist Is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1905120" y="6032520"/>
                  <a:ext cx="332100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∘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∘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∘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und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∘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2646360" y="1446120"/>
                <a:ext cx="38307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: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e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er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↦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609480" y="18129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wohldefinierter Isomorphismus von Vektorrä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52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her ist die Menge der Lösungen ein Untervektorraum von 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) , also insbesondere überhaupt ein Vektorraum ü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362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2.2) 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V ein K-Vektorra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8098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kombin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776680" y="3389400"/>
                <a:ext cx="3624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85800" y="4952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e Hül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72736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Vektore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 V u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 K , heiß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175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Teilmenge A aus V heiß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252440" y="4595760"/>
                <a:ext cx="66405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a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: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</m:sub>
                            </m:sSub>
                          </m:e>
                        </m:nary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  und  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V  für 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85800" y="5318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Teilmenge A aus V heiß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zeugenden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es Vektorraums V), wenn  Span(A) = V 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2077920"/>
            <a:ext cx="9903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1.1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2.3) Bemerkungen,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V ein K-Vektorraum, A aus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7524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Quintessenz unseres Führungsbeispiels 12.1 ist: Jede Linearkombination von Lösungen der Differentialgleichng  #  ist wieder eine Lös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191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ist genau dann Untervektorraum, wenn Span(A) =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651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sprechend dem Kriterium für Untervektorräume (vgl. 10.4) gil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318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b aus V gilt  Span({b}) = Kb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9559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Teilmenge U von V ist genau dann ein Untervektor-raum, wenn s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geschlossen gegenüber Linearkombinati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5800" y="3565440"/>
            <a:ext cx="7924680" cy="703800"/>
            <a:chOff x="685800" y="3565440"/>
            <a:chExt cx="7924680" cy="7038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519360" y="3618000"/>
                  <a:ext cx="396108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s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 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  und  a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U ,  </m:t>
                      </m:r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,2,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,m ,  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685800" y="35654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s heißt, wenn für alle                                                         stet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he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774720" y="3898800"/>
                  <a:ext cx="19717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μ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μ</m:t>
                              </m:r>
                            </m:sub>
                          </m:sSub>
                        </m:e>
                      </m:nary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U  gilt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" name=""/>
          <p:cNvSpPr/>
          <p:nvPr/>
        </p:nvSpPr>
        <p:spPr>
          <a:xfrm>
            <a:off x="685800" y="4556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(A) ist immer ein Untervektorraum von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937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(Span(A)) = Span(A) , und A liegt in Span(A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699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erzeugt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Standardeinheitsvektoren {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erzeuge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794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[T] wird auch von 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ono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M := {sT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k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s aus K} erzeugt (M ist nicht gleich K[T]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85800" y="2803680"/>
            <a:ext cx="7924680" cy="398880"/>
            <a:chOff x="685800" y="2803680"/>
            <a:chExt cx="7924680" cy="39888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4386240" y="2870280"/>
                  <a:ext cx="122724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:</m:t>
                          </m:r>
                          <m:r>
                            <m:t xml:space="preserve">a</m:t>
                          </m:r>
                          <m:r>
                            <m:t xml:space="preserve">∈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"/>
            <p:cNvSpPr/>
            <p:nvPr/>
          </p:nvSpPr>
          <p:spPr>
            <a:xfrm>
              <a:off x="685800" y="28036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benso: Die Menge                   erzeugt  K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(M)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31845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benso: {T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k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 erzeugt den Vektorraum  K[T]  der Polyn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leere Menge wie auch die Menge {0} erzeugen {0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19384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erden diese Einheitsvektoren z.B. auch mit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7084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2.4) Bemerkung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jeweiligen Linearkombinationen in den Beispielen 9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1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eindeutig, dh. die erzeugten Vektoren werden eindeutig dargestel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318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 Eigenschaft liegt daran, dass in den genannten Beispielen die erzeugende Menge linear unabhängig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13 Lineare Unabhängigke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01336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0  folgt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... =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1938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3.1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sei wieder ein K-Vektorrau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590920"/>
            <a:ext cx="800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endliche Menge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Vektoren aus V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 abhängi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es Skalare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 gibt m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26088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... +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0 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641760"/>
            <a:ext cx="800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 alle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d Null: dh. es gibt ein j aus {1,2, ... ,m}  mit: 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ist nicht 0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311720"/>
            <a:ext cx="800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endliche Menge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Vektoren aus V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 unabhängi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für alle Skalare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5468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nsichtlich ist eine endliche Menge genau dann linear unabhängig, wenn sie nicht linear abhängig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3.2) Bemerkungen,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V ein K-Vektorra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8288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Standardeinheitsvektoren {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au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d linear unabhäng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108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{a} ist genau dann linear abhängig, wenn a = 0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4382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jeden weiteren Vektor x aus 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 {x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linear abhäng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473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 = {a,b} ist genau dann linear abhängig, wenn  a in Kb oder  b in Ka  liegt. Analog mit 3 Vektor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733400" y="5500800"/>
                <a:ext cx="6267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≠</m:t>
                    </m:r>
                    <m:r>
                      <m:t xml:space="preserve">k</m:t>
                    </m:r>
                    <m:sSub>
                      <m:e/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85800" y="4419720"/>
            <a:ext cx="79246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 =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ist genau dann linear abhängig, wenn es einen Index  k  zwischen 1 und m gibt sowie Skalare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 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92776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h.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Linearkombination der übrigen Elemente aus A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3781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chauung dahinter: Punkt, Gerade, Ebene („durch 0“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4461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A aus V eine nichtleere endliche Menge. Dan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5750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 sei linear unabhängig, und für ein x sei die Menge {x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linear abhäng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320040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n ist x Linearkombination der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85800" y="1828800"/>
            <a:ext cx="7924680" cy="398880"/>
            <a:chOff x="685800" y="1828800"/>
            <a:chExt cx="7924680" cy="398880"/>
          </a:xfrm>
        </p:grpSpPr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1911240" y="1887480"/>
                  <a:ext cx="53276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 ist linear abhängig</m:t>
                      </m:r>
                      <m:r>
                        <m:t xml:space="preserve">⇔</m:t>
                      </m:r>
                      <m:r>
                        <m:t xml:space="preserve">∃</m:t>
                      </m:r>
                      <m:r>
                        <m:t xml:space="preserve">a</m:t>
                      </m:r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A:a</m:t>
                      </m:r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Spa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" lbrace a rbrace  \) } {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8" name=""/>
            <p:cNvSpPr/>
            <p:nvPr/>
          </p:nvSpPr>
          <p:spPr>
            <a:xfrm>
              <a:off x="685800" y="182880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2193840"/>
            <a:ext cx="7924680" cy="398880"/>
            <a:chOff x="685800" y="2193840"/>
            <a:chExt cx="7924680" cy="398880"/>
          </a:xfrm>
        </p:grpSpPr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1917720" y="2257560"/>
                  <a:ext cx="563868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 ist linear unabhängig</m:t>
                      </m:r>
                      <m:r>
                        <m:t xml:space="preserve">⇔</m:t>
                      </m:r>
                      <m:r>
                        <m:t xml:space="preserve">∀</m:t>
                      </m:r>
                      <m:r>
                        <m:t xml:space="preserve">a</m:t>
                      </m:r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A:a</m:t>
                      </m:r>
                      <m:r>
                        <m:t xml:space="preserve">∉</m:t>
                      </m:r>
                      <m:r>
                        <m:rPr>
                          <m:lit/>
                          <m:nor/>
                        </m:rPr>
                        <m:t xml:space="preserve">Spa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" lbrace a rbrace  \) } {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"/>
            <p:cNvSpPr/>
            <p:nvPr/>
          </p:nvSpPr>
          <p:spPr>
            <a:xfrm>
              <a:off x="685800" y="219384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85800" y="36417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3.3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rgänzung zu 13.1) Sei A eine Teilmenge im K-Vektorraum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09480" y="4327560"/>
            <a:ext cx="7925040" cy="398880"/>
            <a:chOff x="609480" y="4327560"/>
            <a:chExt cx="7925040" cy="398880"/>
          </a:xfrm>
        </p:grpSpPr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1996920" y="4419720"/>
                  <a:ext cx="541368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 ist </m:t>
                      </m:r>
                      <m:r>
                        <m:rPr>
                          <m:lit/>
                          <m:nor/>
                        </m:rPr>
                        <m:t xml:space="preserve">linear abhängig</m:t>
                      </m:r>
                      <m:r>
                        <m:t xml:space="preserve">:</m:t>
                      </m:r>
                      <m:r>
                        <m:t xml:space="preserve">⇔</m:t>
                      </m:r>
                      <m:r>
                        <m:t xml:space="preserve">∃</m:t>
                      </m:r>
                      <m:r>
                        <m:t xml:space="preserve">a</m:t>
                      </m:r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A:a</m:t>
                      </m:r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Spa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" lbrace a rbrace  \) } {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"/>
            <p:cNvSpPr/>
            <p:nvPr/>
          </p:nvSpPr>
          <p:spPr>
            <a:xfrm>
              <a:off x="609480" y="4327560"/>
              <a:ext cx="792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09480" y="4724280"/>
            <a:ext cx="7925040" cy="708120"/>
            <a:chOff x="609480" y="4724280"/>
            <a:chExt cx="7925040" cy="708120"/>
          </a:xfrm>
        </p:grpSpPr>
        <p:sp>
          <p:nvSpPr>
            <p:cNvPr id="147" name=""/>
            <p:cNvSpPr/>
            <p:nvPr/>
          </p:nvSpPr>
          <p:spPr>
            <a:xfrm>
              <a:off x="609480" y="4724280"/>
              <a:ext cx="792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000160" y="4816440"/>
                  <a:ext cx="589932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ist </m:t>
                          </m:r>
                          <m:r>
                            <m:rPr>
                              <m:lit/>
                              <m:nor/>
                            </m:rPr>
                            <m:t xml:space="preserve">linear unabhängig</m:t>
                          </m:r>
                          <m:r>
                            <m:t xml:space="preserve">:</m:t>
                          </m:r>
                          <m:r>
                            <m:t xml:space="preserve">⇔</m:t>
                          </m:r>
                          <m:r>
                            <m:rPr>
                              <m:lit/>
                              <m:nor/>
                            </m:rPr>
                            <m:t xml:space="preserve">A ist nicht linear abhängig 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:</m:t>
                          </m:r>
                          <m:r>
                            <m:t xml:space="preserve">⇔</m:t>
                          </m:r>
                          <m:r>
                            <m:t xml:space="preserve">∀</m:t>
                          </m:r>
                          <m:r>
                            <m:t xml:space="preserve">a</m:t>
                          </m:r>
                          <m:r>
                            <m:t xml:space="preserve">∈</m:t>
                          </m:r>
                          <m:r>
                            <m:rPr>
                              <m:lit/>
                              <m:nor/>
                            </m:rPr>
                            <m:t xml:space="preserve">A:a</m:t>
                          </m:r>
                          <m:r>
                            <m:t xml:space="preserve">∉</m:t>
                          </m:r>
                          <m:r>
                            <m:rPr>
                              <m:lit/>
                              <m:nor/>
                            </m:rPr>
                            <m:t xml:space="preserve">Span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A" lbrace a rbrace  \) }  {} 
} } {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"/>
          <p:cNvSpPr/>
          <p:nvPr/>
        </p:nvSpPr>
        <p:spPr>
          <a:xfrm>
            <a:off x="685800" y="5546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 Definition ist mit der von 13.1 kompatibel wegen 13.2.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Sie ist anwendbar auch auf beliebige Teilmengen von V.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72400" y="1295280"/>
            <a:ext cx="99072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8.11.01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6040440"/>
            <a:ext cx="99072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6.1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2-12T09:38:51Z</dcterms:modified>
  <cp:revision>167</cp:revision>
  <dc:subject/>
  <dc:title>PowerPoint-Präsentation</dc:title>
</cp:coreProperties>
</file>